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0F98-EA93-4CC7-B540-6AC22EA4DF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DACB-BA43-4777-9C42-6E8B6E72D0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54E5-7599-4245-8842-936F45DCBF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inch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-Apr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94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4297320"/>
            <a:ext cx="5289480" cy="25272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nch price 60€, ASP 52€, EOL 45€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price position is too high, max. 52€ lau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'65 units,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otal volume ~50% (</a:t>
            </a:r>
            <a:r>
              <a:rPr b="1" i="1" lang="en-GB" sz="1400" spc="-1" strike="noStrike">
                <a:solidFill>
                  <a:srgbClr val="ff0000"/>
                </a:solidFill>
                <a:latin typeface="Arial"/>
              </a:rPr>
              <a:t>based on 60€ launch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):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no risk, EE 20-50%, Americas 51%, MEA 90%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AC 100 %, China 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ssing customer requirements: camera, bluetooth or I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: ranking for Pipe design: 3rd place (1st was Around design, preferred by AP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P: No USP (me-too), only compete on price or b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94624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rofit: -7’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-2.4%, current) vs. +11’7€ (+4%, target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-&gt; deviation: -160% (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ased on 52€ launc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'65 un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% confidence in the current BC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sk on pricing and BOM-commitment of SP implemen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642960"/>
            <a:ext cx="5289480" cy="22698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st fit to roadmap and story line: standby time (270h vs. 410h) is not USP, is considered to be competitive and is a compromise to meet the required dimension an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uge impact on portfolio as Finch addresses the entry level colour segment &amp; midrange A-class (high volu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rge, mature market; addressable market: 191'8 units, market share: 3.4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55880" y="3213000"/>
            <a:ext cx="5241960" cy="16210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5% TTM confidence level: RF evaluation is op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3.05.05 (4 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2.11.05 (2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25.01.06 (1 day earlier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2.06 (8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5880" y="499572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ffing is complete, but resources for the LAM 850 variant evaluation are missing if SD2 RF solution is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55880" y="1197000"/>
            <a:ext cx="5241960" cy="1899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F: Antenna performance in GSM850 is not yet committed to meet the FBT requir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W: Microphone and vibrator are on the same side. This might cause an EMC proble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D: The two decorations on the top and bottom of the housing are a potential risk for the drop tes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2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2520" y="213840"/>
            <a:ext cx="763452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Current Business Case  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7’0 EUR or -2,4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1960" y="1874880"/>
            <a:ext cx="5167440" cy="45514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s remained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decreased by 8,- Euro compared to Roadmap Scenario 2C’. Launch price at EUR 52,-.  Phase out price EUR 37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K decreased by 17.4% or 11,3 EUR to 35,08 EUR compared with Scenario 2C‘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BOM from CW17: 29,70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on site split: SSMC (72%), Manaus (28%). KLF not fore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&amp;D cost decreased by 1,3m EUR after re-plann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: A-class costs for push-budget (1,50 EUR per unit) and pull-budget (1% of T/O) as well as HQ-Fund (1‘5 Mio EUR) consider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BIT indication of -7,0m EUR or -2% of Turnover. The profit went down by 10,1m compared with preliminary BC due to lower pric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3760" y="1141560"/>
            <a:ext cx="5178240" cy="70776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/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i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440" y="965160"/>
          <a:ext cx="364500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965160"/>
                    <a:ext cx="364500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7:15:33Z</dcterms:modified>
  <cp:revision>68</cp:revision>
  <dc:subject/>
  <dc:title>Product Status Review (PSR) Concept</dc:title>
</cp:coreProperties>
</file>