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BD3E-F6A1-4C4F-9D26-B06682A502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DD2B-D674-48DF-858A-FED143D67C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1D16C-3B3F-48A9-A3FA-A62689A924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57E733A4-4E5C-45D8-88CD-BB90EAEA3E1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E2CB1513-A765-47AD-B768-DACB076F477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9B8F470E-828E-408D-B93D-DCB419AA02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E4933458-31F1-4403-B22D-223E33E3AE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46CDEE7-2F31-4DA5-9EFF-35DD066F23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3B7CA620-3742-4963-9603-CA6CD5267F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494EAAC-6D34-4751-95F6-E47126CB04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ECCB35C3-A496-4516-BD1A-5ACCD9DE7D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59D466D3-CC88-4314-9A1A-A7F10439661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DDED1A0-06C6-4EC7-92C6-4D4C720308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31138862-BE19-4728-A5C2-5E4B62AD87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0FFF25DE-7838-4C82-9D31-2BF0611EF52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C3FA5EA4-5CD7-42FB-8924-C5E0BB11CEAF}" type="datetime">
              <a:rPr b="0" lang="en-US" sz="1000" spc="-1" strike="noStrike">
                <a:solidFill>
                  <a:srgbClr val="000000"/>
                </a:solidFill>
                <a:latin typeface="Arial"/>
              </a:rPr>
              <a:t>07/29/26</a:t>
            </a:fld>
            <a:r>
              <a:rPr b="0" lang="en-US" sz="1000" spc="-1" strike="noStrike">
                <a:solidFill>
                  <a:srgbClr val="000000"/>
                </a:solidFill>
                <a:latin typeface="Arial"/>
              </a:rPr>
              <a:t>   </a:t>
            </a:r>
            <a:fld id="{7C133F16-0679-440A-9E93-F8A46C307A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671FB782-9A98-4AC2-8693-B736B490FC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07995442-A147-4F55-82F8-1A92427B4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ABC7D895-F944-494C-81C7-13C1A02A4C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58906FD9-A878-43C3-B204-EB6E9B7A4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60CECD72-48A9-42F1-9A93-459063267E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111C1157-7024-4049-93FB-5F26CB803F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53E92AB-FA29-44EB-A8E1-6561A34B3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93ECC7B-4D72-46A9-9287-0358C73520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B45BBEC7-17EF-4E59-8F33-E0895FB3B4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A4D6DB3-5F00-4A07-82A5-4526EDE704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BF2871D5-630A-4BD9-AEAA-274065B97748}"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AA45302F-914E-4D1D-8B94-B118DE413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020CD3-03CC-4042-8BD9-00793CE8E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BDAC15D-D651-4E76-8593-AF9DD9D549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A391EDF0-719F-4C26-A143-6944131B08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4327A95D-4116-47E1-A955-2FC357E0F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7B7B707C-D127-40B9-9564-5D1FE7EDF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9EB35C9D-4994-4658-8845-BD28CBB35A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A49C18-E717-4A27-A982-53E693CAA2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046CA0B9-4C0A-499D-9D53-6CD7E5B9E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7CBCC59C-ECC1-442E-B931-B1F73E3824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ED22F554-70F1-4D8D-87BD-1F7404E5C5E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41DCBAFD-21F8-4F3B-9DF6-59E60448D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2554B0-3C4A-4E2C-938B-59FAD9018B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16122C8-10EB-4E8B-9216-3E804B7B86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04E1D81-777D-4BA8-BA4E-21CEFC9B74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