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907588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18640" y="759960"/>
            <a:ext cx="52657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1040" y="4637160"/>
            <a:ext cx="50166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3"/>
          </p:nvPr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64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6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1"/>
          <p:cNvSpPr>
            <a:spLocks noGrp="1"/>
          </p:cNvSpPr>
          <p:nvPr>
            <p:ph type="sldImg"/>
          </p:nvPr>
        </p:nvSpPr>
        <p:spPr>
          <a:xfrm>
            <a:off x="781200" y="733320"/>
            <a:ext cx="5295600" cy="3667320"/>
          </a:xfrm>
          <a:prstGeom prst="rect">
            <a:avLst/>
          </a:prstGeom>
          <a:ln w="0">
            <a:noFill/>
          </a:ln>
        </p:spPr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685800" y="4644720"/>
            <a:ext cx="54864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12C87-C506-4478-BB12-79121AC86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6FD6-B670-41BD-B3A8-226C6D978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6839C-0BDD-47C0-8264-D12D5BF9E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135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4939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331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135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4939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BED2-035D-46C6-8B83-D7B0D1656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95360" y="244080"/>
            <a:ext cx="6804000" cy="33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74CCB-BF86-49CD-962D-23B779432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0135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4939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331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0135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4939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A3729-586A-4A23-970B-64FD32E19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FED43-EAC6-496A-A3AC-5B1541D3B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7131F-1CEE-4AFE-957E-2311001AD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95360" y="244080"/>
            <a:ext cx="6804000" cy="33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0575E-9F05-4AA1-856F-C52B5D638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209F5-DB3B-4E44-BBEC-5A7CAAA6F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6F23-9DC6-4EEC-A066-F4D5E5C08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DDA33-838D-4DE8-B6C8-F0C24C463D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10480" y="6237360"/>
            <a:ext cx="1843200" cy="588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1000" y="179280"/>
            <a:ext cx="9202680" cy="892440"/>
          </a:xfrm>
          <a:custGeom>
            <a:avLst/>
            <a:gdLst/>
            <a:ahLst/>
            <a:rect l="l" t="t" r="r" b="b"/>
            <a:pathLst>
              <a:path w="5351" h="719">
                <a:moveTo>
                  <a:pt x="5171" y="0"/>
                </a:moveTo>
                <a:lnTo>
                  <a:pt x="0" y="0"/>
                </a:lnTo>
                <a:lnTo>
                  <a:pt x="0" y="719"/>
                </a:lnTo>
                <a:lnTo>
                  <a:pt x="5351" y="719"/>
                </a:lnTo>
                <a:lnTo>
                  <a:pt x="5351" y="180"/>
                </a:lnTo>
                <a:lnTo>
                  <a:pt x="5171" y="0"/>
                </a:lnTo>
                <a:close/>
              </a:path>
            </a:pathLst>
          </a:cu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622920" y="6462720"/>
            <a:ext cx="725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91D553E6-4FC4-4FC1-8802-44D97FCBBC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4240"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12640" indent="-15552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47800" indent="-155520"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157320"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84400" indent="-157320"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84400" indent="-157320"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McK Legend Boxes"/>
          <p:cNvGrpSpPr/>
          <p:nvPr/>
        </p:nvGrpSpPr>
        <p:grpSpPr>
          <a:xfrm>
            <a:off x="8443800" y="1547640"/>
            <a:ext cx="1081800" cy="984960"/>
            <a:chOff x="8443800" y="1547640"/>
            <a:chExt cx="1081800" cy="984960"/>
          </a:xfrm>
        </p:grpSpPr>
        <p:sp>
          <p:nvSpPr>
            <p:cNvPr id="6" name="" hidden="1"/>
            <p:cNvSpPr/>
            <p:nvPr/>
          </p:nvSpPr>
          <p:spPr>
            <a:xfrm>
              <a:off x="8443800" y="1562040"/>
              <a:ext cx="362880" cy="183960"/>
            </a:xfrm>
            <a:prstGeom prst="rect">
              <a:avLst/>
            </a:prstGeom>
            <a:solidFill>
              <a:srgbClr val="6ca4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 hidden="1"/>
            <p:cNvSpPr/>
            <p:nvPr/>
          </p:nvSpPr>
          <p:spPr>
            <a:xfrm>
              <a:off x="8443800" y="1819080"/>
              <a:ext cx="362880" cy="184320"/>
            </a:xfrm>
            <a:prstGeom prst="rect">
              <a:avLst/>
            </a:prstGeom>
            <a:solidFill>
              <a:srgbClr val="a4d2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 hidden="1"/>
            <p:cNvSpPr/>
            <p:nvPr/>
          </p:nvSpPr>
          <p:spPr>
            <a:xfrm>
              <a:off x="8930520" y="154764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 hidden="1"/>
            <p:cNvSpPr/>
            <p:nvPr/>
          </p:nvSpPr>
          <p:spPr>
            <a:xfrm>
              <a:off x="8930520" y="180504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 hidden="1"/>
            <p:cNvSpPr/>
            <p:nvPr/>
          </p:nvSpPr>
          <p:spPr>
            <a:xfrm>
              <a:off x="8930520" y="20620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 hidden="1"/>
            <p:cNvSpPr/>
            <p:nvPr/>
          </p:nvSpPr>
          <p:spPr>
            <a:xfrm>
              <a:off x="8443800" y="2076480"/>
              <a:ext cx="362880" cy="183960"/>
            </a:xfrm>
            <a:prstGeom prst="rect">
              <a:avLst/>
            </a:prstGeom>
            <a:solidFill>
              <a:srgbClr val="d460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 hidden="1"/>
            <p:cNvSpPr/>
            <p:nvPr/>
          </p:nvSpPr>
          <p:spPr>
            <a:xfrm>
              <a:off x="8930520" y="231912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 hidden="1"/>
            <p:cNvSpPr/>
            <p:nvPr/>
          </p:nvSpPr>
          <p:spPr>
            <a:xfrm>
              <a:off x="8443800" y="2333520"/>
              <a:ext cx="362880" cy="184320"/>
            </a:xfrm>
            <a:prstGeom prst="rect">
              <a:avLst/>
            </a:prstGeom>
            <a:solidFill>
              <a:srgbClr val="9e1d3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" name="McK Slide Elements"/>
          <p:cNvGrpSpPr/>
          <p:nvPr/>
        </p:nvGrpSpPr>
        <p:grpSpPr>
          <a:xfrm>
            <a:off x="495360" y="1547640"/>
            <a:ext cx="9324720" cy="5175360"/>
            <a:chOff x="495360" y="1547640"/>
            <a:chExt cx="9324720" cy="5175360"/>
          </a:xfrm>
        </p:grpSpPr>
        <p:sp>
          <p:nvSpPr>
            <p:cNvPr id="15" name="McK Measure" hidden="1"/>
            <p:cNvSpPr/>
            <p:nvPr/>
          </p:nvSpPr>
          <p:spPr>
            <a:xfrm>
              <a:off x="495360" y="1547640"/>
              <a:ext cx="775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McK Footnote" hidden="1"/>
            <p:cNvSpPr/>
            <p:nvPr/>
          </p:nvSpPr>
          <p:spPr>
            <a:xfrm>
              <a:off x="1439280" y="6570360"/>
              <a:ext cx="600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12680" indent="-112680">
                <a:lnSpc>
                  <a:spcPct val="100000"/>
                </a:lnSpc>
                <a:tabLst>
                  <a:tab algn="l" pos="0"/>
                  <a:tab algn="r" pos="5724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McK Source" hidden="1"/>
            <p:cNvSpPr/>
            <p:nvPr/>
          </p:nvSpPr>
          <p:spPr>
            <a:xfrm rot="16200000">
              <a:off x="7874280" y="4530960"/>
              <a:ext cx="373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5720" indent="-585720">
                <a:lnSpc>
                  <a:spcPct val="100000"/>
                </a:lnSpc>
                <a:tabLst>
                  <a:tab algn="l" pos="0"/>
                  <a:tab algn="r" pos="54468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: Sour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" name="Base" hidden="1"/>
          <p:cNvSpPr/>
          <p:nvPr/>
        </p:nvSpPr>
        <p:spPr>
          <a:xfrm>
            <a:off x="1650960" y="1397160"/>
            <a:ext cx="66042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4342320" y="6507000"/>
            <a:ext cx="1119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Reviewer0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 hidden="1"/>
          <p:cNvSpPr/>
          <p:nvPr/>
        </p:nvSpPr>
        <p:spPr>
          <a:xfrm>
            <a:off x="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440" y="2787480"/>
            <a:ext cx="7207200" cy="10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ftr" idx="2"/>
          </p:nvPr>
        </p:nvSpPr>
        <p:spPr>
          <a:xfrm>
            <a:off x="9170640" y="36360"/>
            <a:ext cx="3906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4240"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3542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66680" indent="-374400"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422360" indent="-395280"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422360" indent="-395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422360" indent="-395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00" y="3009960"/>
            <a:ext cx="9202680" cy="1257120"/>
          </a:xfrm>
          <a:custGeom>
            <a:avLst/>
            <a:gdLst/>
            <a:ahLst/>
            <a:rect l="l" t="t" r="r" b="b"/>
            <a:pathLst>
              <a:path w="5351" h="1010">
                <a:moveTo>
                  <a:pt x="5351" y="0"/>
                </a:moveTo>
                <a:lnTo>
                  <a:pt x="0" y="0"/>
                </a:lnTo>
                <a:lnTo>
                  <a:pt x="0" y="1010"/>
                </a:lnTo>
                <a:lnTo>
                  <a:pt x="5351" y="1010"/>
                </a:lnTo>
                <a:lnTo>
                  <a:pt x="5351" y="0"/>
                </a:lnTo>
                <a:close/>
              </a:path>
            </a:pathLst>
          </a:cu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0440" y="3141360"/>
            <a:ext cx="700884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S64  (S65 w/o Camera)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Status Report at M1, 10.12.0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69520" y="4960800"/>
            <a:ext cx="5265720" cy="15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12.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est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istian Baumg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s-Martin Mues-H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 P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atia Rizz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M B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io Cari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59600" y="3102120"/>
            <a:ext cx="2382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2440" y="282600"/>
            <a:ext cx="9213840" cy="2562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87960" y="5460840"/>
            <a:ext cx="3486240" cy="1114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959680" y="26676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– Penelope w/o Camera 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 M1 Decl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2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2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5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6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6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7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7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8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8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9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9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0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0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1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1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2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2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3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3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4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4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5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5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262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267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272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277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282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287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292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2960" y="1249200"/>
            <a:ext cx="936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64 M1 document is reviewed and agreed by the S64 PD and 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PD and REA Team members have signed the S64 M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32633" t="18950" r="29274" b="60245"/>
          <a:stretch/>
        </p:blipFill>
        <p:spPr>
          <a:xfrm rot="21540000">
            <a:off x="4792320" y="2117880"/>
            <a:ext cx="4176720" cy="17096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30226" t="13846" r="26262" b="12556"/>
          <a:stretch/>
        </p:blipFill>
        <p:spPr>
          <a:xfrm>
            <a:off x="800280" y="1949400"/>
            <a:ext cx="3684240" cy="467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0E02-7C17-4933-A5CF-E58BA27B2D2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Gate Rati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(I)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 M1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6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8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9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9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0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0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1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1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2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2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3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3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4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4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5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5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6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6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7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7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8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8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490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495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500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505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510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515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520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59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868320" y="2932200"/>
            <a:ext cx="2233440" cy="2208240"/>
            <a:chOff x="868320" y="2932200"/>
            <a:chExt cx="2233440" cy="2208240"/>
          </a:xfrm>
        </p:grpSpPr>
        <p:sp>
          <p:nvSpPr>
            <p:cNvPr id="562" name=""/>
            <p:cNvSpPr/>
            <p:nvPr/>
          </p:nvSpPr>
          <p:spPr>
            <a:xfrm>
              <a:off x="868320" y="293724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77920" y="323244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11280" y="356724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1015920" y="349740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27080" y="347688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1987200" y="293220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489320" y="261468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905200" y="464832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53720" y="303516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4360" y="464832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6360" y="2957400"/>
            <a:ext cx="1209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351800" y="521964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35520" y="2711520"/>
            <a:ext cx="5241960" cy="13719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76040" indent="-176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2€ ASP, 170€ launch price, 155€ E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 risk: 5-10% due to naming issu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S64 is realized by customer as of “lower value”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35520" y="4689360"/>
            <a:ext cx="5241960" cy="14799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Impact in FY05: T/O  24’6, GM 8’7, PROFIT 16% (= 3'9€) current vs. 20% (target) --&gt; deviation: 4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gh confidence of BA to realize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35520" y="1471680"/>
            <a:ext cx="5241960" cy="663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nned as S65 w/o camera (targeting corporate market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149480" y="3403440"/>
            <a:ext cx="1393560" cy="1301760"/>
          </a:xfrm>
          <a:custGeom>
            <a:avLst/>
            <a:gdLst/>
            <a:ahLst/>
            <a:rect l="l" t="t" r="r" b="b"/>
            <a:pathLst>
              <a:path w="878" h="820">
                <a:moveTo>
                  <a:pt x="518" y="820"/>
                </a:moveTo>
                <a:lnTo>
                  <a:pt x="878" y="599"/>
                </a:lnTo>
                <a:lnTo>
                  <a:pt x="877" y="201"/>
                </a:lnTo>
                <a:lnTo>
                  <a:pt x="529" y="0"/>
                </a:lnTo>
                <a:lnTo>
                  <a:pt x="0" y="93"/>
                </a:lnTo>
                <a:lnTo>
                  <a:pt x="140" y="616"/>
                </a:lnTo>
                <a:lnTo>
                  <a:pt x="518" y="82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646280" y="376704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68080" y="6195960"/>
            <a:ext cx="194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ting Meeting: December 9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SO support: G. Ble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2AE0-5DFB-41D8-82E9-41BEA447F39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Gate Rati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(II)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 M1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8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8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9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9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0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0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1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2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3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3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4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4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5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5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6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6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7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7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8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8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9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9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0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0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1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1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2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2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734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739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744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749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754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759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764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9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03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755880" y="2340000"/>
            <a:ext cx="5241960" cy="19494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18, 2005 (10k in VKL CW15, challenge to reach target Mar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confidence by PL-T to reach April 18 (based on reuse of existing antenna / moderate confidence if antenna has to be adjusted, could result in 2wks del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755880" y="4471920"/>
            <a:ext cx="5241960" cy="939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PLs in place and resources agr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mal planning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755880" y="1292400"/>
            <a:ext cx="5241960" cy="891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longing the lifecycle process into CY2006 would result in switch to lead fre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815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8800" y="6016680"/>
            <a:ext cx="194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ting Meeting: December 9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SO support: G. Ble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969840" y="3224160"/>
            <a:ext cx="1393920" cy="1301760"/>
          </a:xfrm>
          <a:custGeom>
            <a:avLst/>
            <a:gdLst/>
            <a:ahLst/>
            <a:rect l="l" t="t" r="r" b="b"/>
            <a:pathLst>
              <a:path w="878" h="820">
                <a:moveTo>
                  <a:pt x="518" y="820"/>
                </a:moveTo>
                <a:lnTo>
                  <a:pt x="878" y="599"/>
                </a:lnTo>
                <a:lnTo>
                  <a:pt x="877" y="201"/>
                </a:lnTo>
                <a:lnTo>
                  <a:pt x="529" y="0"/>
                </a:lnTo>
                <a:lnTo>
                  <a:pt x="0" y="93"/>
                </a:lnTo>
                <a:lnTo>
                  <a:pt x="140" y="616"/>
                </a:lnTo>
                <a:lnTo>
                  <a:pt x="518" y="82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75CD-C705-4276-AEF3-82180A20211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ision Proposals in case of yellow Q-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2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3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3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4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4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5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5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7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7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8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8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9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9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0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0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1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1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2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2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3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6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7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978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983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988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993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998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1003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1008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6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047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18680" y="1405080"/>
            <a:ext cx="907452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A.) Go ahead with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Impacts on TTM, EBIT, Volumes, Quality is calculated and avail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(see backup, Impact on the overall MD portfolio in FY05 is: 160K units, T/O 24’6, GM 8’7, Profit 3’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Approve 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87520" y="368604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63400" y="518004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435320" y="3740040"/>
            <a:ext cx="239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approve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397880" y="5229360"/>
            <a:ext cx="17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sto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19F5-0F30-420E-8769-135EE369617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– Penelope w/o Camera 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ckup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5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6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6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7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7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8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8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0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0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1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1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2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2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3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6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7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7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8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8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9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9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20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1208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1213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1218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1223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1228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1233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1238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2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3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6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277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651400" y="2666880"/>
            <a:ext cx="458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131B4-B5CC-4719-BEE4-81B9DE03A7C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4873680" y="1657440"/>
            <a:ext cx="2482920" cy="407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pside with LC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ice difference to S65 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- EUR 10 during 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ice risk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5% over LC in BC consider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K 88,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rect R&amp;D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ffort Mio. 1‘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of  Mio.1’0 considered (4% of Turnover) or 6 EUR per un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902120" y="1084320"/>
            <a:ext cx="2549520" cy="554040"/>
          </a:xfrm>
          <a:prstGeom prst="rect">
            <a:avLst/>
          </a:prstGeom>
          <a:solidFill>
            <a:srgbClr val="a4d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2" name=""/>
          <p:cNvGraphicFramePr/>
          <p:nvPr/>
        </p:nvGraphicFramePr>
        <p:xfrm>
          <a:off x="1346040" y="1092240"/>
          <a:ext cx="293400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1092240"/>
                    <a:ext cx="293400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4" name=""/>
          <p:cNvSpPr/>
          <p:nvPr/>
        </p:nvSpPr>
        <p:spPr>
          <a:xfrm flipV="1">
            <a:off x="2170080" y="6211800"/>
            <a:ext cx="487440" cy="18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087800" y="6211800"/>
            <a:ext cx="723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2468520" y="6211800"/>
            <a:ext cx="503280" cy="18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278400" y="5221440"/>
            <a:ext cx="8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100920" y="2936880"/>
            <a:ext cx="8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8910720" y="388800"/>
            <a:ext cx="141120" cy="123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910720" y="593640"/>
            <a:ext cx="141120" cy="122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910720" y="797040"/>
            <a:ext cx="1411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8861400" y="241200"/>
            <a:ext cx="330120" cy="78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8902800" y="270000"/>
            <a:ext cx="23328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907480" y="522360"/>
            <a:ext cx="2332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8907480" y="770040"/>
            <a:ext cx="23328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44600" y="342720"/>
            <a:ext cx="912168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64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ervativ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siness case indicates 8’7 Gross Margin &amp;  3’9 Profit in FY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113520" y="3645000"/>
            <a:ext cx="8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045120" y="4722840"/>
            <a:ext cx="8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8907480" y="515880"/>
            <a:ext cx="233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59A97-F574-4A20-ABCE-8B87CF3AF94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– Penelope w/o Camera 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2920" y="5880240"/>
            <a:ext cx="189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12920" y="1473120"/>
            <a:ext cx="1888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/Market 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12920" y="2859120"/>
            <a:ext cx="18954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12920" y="3863880"/>
            <a:ext cx="189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2920" y="5010120"/>
            <a:ext cx="189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830680" y="4829040"/>
            <a:ext cx="52830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 flipV="1" rot="16200000">
            <a:off x="1959480" y="1620360"/>
            <a:ext cx="65268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H="1" flipV="1" rot="16200000">
            <a:off x="2223360" y="1467360"/>
            <a:ext cx="12852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 flipV="1" rot="16200000">
            <a:off x="2223360" y="1680120"/>
            <a:ext cx="128520" cy="135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 flipV="1" rot="16200000">
            <a:off x="2223360" y="1864080"/>
            <a:ext cx="128520" cy="135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 flipV="1" rot="16200000">
            <a:off x="1934280" y="296784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 flipV="1" rot="16200000">
            <a:off x="2197080" y="281268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 flipV="1" rot="16200000">
            <a:off x="2197080" y="3025440"/>
            <a:ext cx="128520" cy="1364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 flipV="1" rot="16200000">
            <a:off x="2197080" y="322560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 flipV="1" rot="16200000">
            <a:off x="1934280" y="400608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 flipV="1" rot="16200000">
            <a:off x="2197080" y="385092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 flipV="1" rot="16200000">
            <a:off x="2197080" y="406368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H="1" flipV="1" rot="16200000">
            <a:off x="2197080" y="4276440"/>
            <a:ext cx="128520" cy="136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 flipV="1" rot="16200000">
            <a:off x="1934280" y="509184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 flipV="1" rot="16200000">
            <a:off x="2196720" y="4937760"/>
            <a:ext cx="12888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 flipV="1" rot="16200000">
            <a:off x="2196720" y="5150520"/>
            <a:ext cx="128880" cy="136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 flipV="1" rot="16200000">
            <a:off x="2197080" y="515916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 rot="16200000">
            <a:off x="1934280" y="590472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 flipV="1" rot="16200000">
            <a:off x="2197080" y="574956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H="1" flipV="1" rot="16200000">
            <a:off x="2197080" y="5962320"/>
            <a:ext cx="128520" cy="136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 flipV="1" rot="16200000">
            <a:off x="2197080" y="6175080"/>
            <a:ext cx="128520" cy="136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05040" y="1305000"/>
            <a:ext cx="6829560" cy="11509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25 15.02.05,  S3 11.03.05, S4 11.04.05, M3 20.05.0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S 04/05  18.04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MEA international variant planned (No operator variant e.g. Vodafone plann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fe cycle until end 09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olume 160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lta M1 (10.12.2004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701800" y="3686040"/>
            <a:ext cx="6829560" cy="10177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 modification Basis S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“No Camera” =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ar cover modifi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modification (Exclude camera suppor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tenna modif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701800" y="4791240"/>
            <a:ext cx="6829560" cy="8395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ame as S65 excep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 flash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701800" y="5692680"/>
            <a:ext cx="6829560" cy="8017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ame as S65 excep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 java “Photo editor” / No java “Worms”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ead java “Ches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 rot="16200000">
            <a:off x="2197080" y="5368680"/>
            <a:ext cx="128520" cy="136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3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8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8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9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9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0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0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1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1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2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2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3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3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4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4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5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5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6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6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7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7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8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1485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1490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1495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9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1500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4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1505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1510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4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1515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9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0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3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554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705040" y="2616120"/>
            <a:ext cx="6861240" cy="97956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servative BC: LC 0405-0905; 160k units;  ASP 153,75 ( Offer to market € 10 under  S65 Price , in BC additional price risk 5% conside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/O 24‘6;  HK 88,9 per unit,  GM 8’7, PROFIT 3‘9 (16% of turnov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rcom 6€ per Box; direct R&amp;D 1’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2B9D-624A-4F32-89C9-4638E6E78C9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"/>
          <p:cNvSpPr/>
          <p:nvPr/>
        </p:nvSpPr>
        <p:spPr>
          <a:xfrm>
            <a:off x="9290160" y="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95000" y="243360"/>
            <a:ext cx="84042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64:  Conserva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shows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10’4 SM  &amp;  3’9 Prof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9290160" y="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0" name=""/>
          <p:cNvGraphicFramePr/>
          <p:nvPr/>
        </p:nvGraphicFramePr>
        <p:xfrm>
          <a:off x="351000" y="1116000"/>
          <a:ext cx="9161280" cy="51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1116000"/>
                    <a:ext cx="916128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6278-E1D3-4143-86BC-78F1FCD42D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09:37:00Z</dcterms:created>
  <dc:creator>McKinsey User</dc:creator>
  <dc:description/>
  <dc:language>en-US</dc:language>
  <cp:lastModifiedBy>Mues-Hane Hans Martin</cp:lastModifiedBy>
  <cp:lastPrinted>2004-01-09T14:05:35Z</cp:lastPrinted>
  <dcterms:modified xsi:type="dcterms:W3CDTF">2004-12-10T09:09:39Z</dcterms:modified>
  <cp:revision>1030</cp:revision>
  <dc:subject/>
  <dc:title>TITL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ID">
    <vt:lpwstr/>
  </property>
  <property fmtid="{D5CDD505-2E9C-101B-9397-08002B2CF9AE}" pid="3" name="DocIDPosition">
    <vt:r8>0</vt:r8>
  </property>
  <property fmtid="{D5CDD505-2E9C-101B-9397-08002B2CF9AE}" pid="4" name="DocIDinSlide">
    <vt:bool>0</vt:bool>
  </property>
  <property fmtid="{D5CDD505-2E9C-101B-9397-08002B2CF9AE}" pid="5" name="DocIDinTitle">
    <vt:bool>0</vt:bool>
  </property>
  <property fmtid="{D5CDD505-2E9C-101B-9397-08002B2CF9AE}" pid="6" name="NotesPageLayout">
    <vt:lpwstr>Message</vt:lpwstr>
  </property>
  <property fmtid="{D5CDD505-2E9C-101B-9397-08002B2CF9AE}" pid="7" name="_AdHocReviewCycleID">
    <vt:r8>1398051792</vt:r8>
  </property>
  <property fmtid="{D5CDD505-2E9C-101B-9397-08002B2CF9AE}" pid="8" name="_AuthorEmail">
    <vt:lpwstr>hans-martin.mues-hane@siemens.com</vt:lpwstr>
  </property>
  <property fmtid="{D5CDD505-2E9C-101B-9397-08002B2CF9AE}" pid="9" name="_AuthorEmailDisplayName">
    <vt:lpwstr>Mues-Hane Hans-Martin Com MD PBM PG65</vt:lpwstr>
  </property>
  <property fmtid="{D5CDD505-2E9C-101B-9397-08002B2CF9AE}" pid="10" name="_EmailSubject">
    <vt:lpwstr>S64 Final Presentation PSR</vt:lpwstr>
  </property>
</Properties>
</file>