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8681-B0CE-4777-BA1A-4B31B9CE8D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1C9B-2C36-4F29-A140-3C277FE747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9583-360B-4935-A4A1-3B7EFB8ECF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4BA3-C812-460E-8F5F-37E1298B49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0DCB-780A-4D05-A639-FC4FA6CA4B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FB6088-3637-45E7-BB4B-FFF0EDB3D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D4C675-6598-40CA-9247-013CC80894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4EC212-8815-426E-80C7-743C10FBFD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21BBB9-9BAE-4D09-BAB4-13BAA834731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19BF60-3DE1-4074-B989-94BCB5D85A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675886-B2BC-4C6A-87AA-3CD79C9456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3B035A-CAFF-473D-A06C-C43622F8E1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B04C8E-CBEE-4FAB-9860-343079C81C8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875799-D96B-4FC8-A8D9-161E746671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7E787A-3D83-41DA-9518-BE268D4A68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DC1AF4-6FD2-4E4C-A0F5-CC2AA69CC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18E2E6-AB13-424D-8327-7831334BA92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640BD9D8-3B9A-4CD7-937F-A6C53CF14A73}" type="datetime5">
              <a:rPr b="0" lang="de-DE" sz="1200" spc="-1" strike="noStrike">
                <a:solidFill>
                  <a:srgbClr val="000000"/>
                </a:solidFill>
                <a:latin typeface="Arial"/>
                <a:ea typeface="宋体"/>
              </a:rPr>
              <a:t>30. Jul 2026</a:t>
            </a:fld>
            <a:r>
              <a:rPr b="0" lang="de-DE" sz="1200" spc="-1" strike="noStrike">
                <a:solidFill>
                  <a:srgbClr val="000000"/>
                </a:solidFill>
                <a:latin typeface="Arial"/>
                <a:ea typeface="宋体"/>
              </a:rPr>
              <a:t>   </a:t>
            </a:r>
            <a:fld id="{EE7E1FE5-10D0-43FF-835F-CE5187296FEC}"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E4AA0D80-4124-4D4B-B191-385B3829F9B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2F607998-82C4-440B-9657-E5A44D8465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B912B23F-F68B-48AB-A52F-B7A0794247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