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4AB2-1CE3-4933-8008-44441D6BDC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0A14-C5BC-4558-93AA-95970B7100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AD7B-5617-4279-A991-1B52796300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75C5-E492-4CE0-9FB1-A7F7631434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AAF1-68A2-430E-B6BD-81D92D9B7A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8C94-073A-40B0-8DBB-4B7F57BD13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F371-9EAC-416B-90A3-70A7E52F62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C1B3-8555-4016-B898-CBD2115F63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6B09-C0B1-43B0-BD0F-DF27F61746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9AD4-1A6B-4763-AF74-D97FCA4706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80B8-8638-47D1-BF2F-122ADDAFF5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E868-6D36-4FD2-B9DB-952C0180DA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8635-B7B4-4B3B-80A0-A44BABABA9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6711-88BF-48C1-B58D-1363B90A9C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7411-A843-43BB-85E8-1E2B6F0CDD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32950F93-2BE3-4061-8E12-E491EDD2E8E1}" type="datetime">
              <a:rPr b="0" lang="de-DE" sz="1200" spc="-1" strike="noStrike">
                <a:solidFill>
                  <a:srgbClr val="000000"/>
                </a:solidFill>
                <a:latin typeface="Arial"/>
              </a:rPr>
              <a:t>30.07.26</a:t>
            </a:fld>
            <a:r>
              <a:rPr b="0" lang="de-DE" sz="1200" spc="-1" strike="noStrike">
                <a:solidFill>
                  <a:srgbClr val="000000"/>
                </a:solidFill>
                <a:latin typeface="Arial"/>
              </a:rPr>
              <a:t>   </a:t>
            </a:r>
            <a:fld id="{2B4554DE-4286-454B-B047-56DCBCF252E3}"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