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51A51E2-A0F8-4CF7-9744-81D189A4648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0200" y="4543560"/>
            <a:ext cx="194364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" rIns="1044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5" idx="1"/>
          </p:cNvCxnSpPr>
          <p:nvPr/>
        </p:nvCxnSpPr>
        <p:spPr>
          <a:xfrm>
            <a:off x="579240" y="454320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37" name=""/>
          <p:cNvCxnSpPr>
            <a:stCxn id="235" idx="2"/>
            <a:endCxn id="235" idx="3"/>
          </p:cNvCxnSpPr>
          <p:nvPr/>
        </p:nvCxnSpPr>
        <p:spPr>
          <a:xfrm>
            <a:off x="579240" y="474156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1D4AD02-90D0-4736-9E03-AFDC22C722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0"/>
            <a:endCxn id="265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67" name=""/>
          <p:cNvCxnSpPr>
            <a:stCxn id="265" idx="2"/>
            <a:endCxn id="265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DF9C4AC-63D8-4CC1-912C-0CA1626AED2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9520" y="45417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0"/>
            <a:endCxn id="274" idx="1"/>
          </p:cNvCxnSpPr>
          <p:nvPr/>
        </p:nvCxnSpPr>
        <p:spPr>
          <a:xfrm>
            <a:off x="674280" y="454140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76" name=""/>
          <p:cNvCxnSpPr>
            <a:stCxn id="274" idx="2"/>
            <a:endCxn id="274" idx="3"/>
          </p:cNvCxnSpPr>
          <p:nvPr/>
        </p:nvCxnSpPr>
        <p:spPr>
          <a:xfrm>
            <a:off x="674280" y="474768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F86C752-01EC-4F50-AB34-4A0DE7CD3F1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4640" y="501156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5640" y="4664160"/>
            <a:ext cx="2617920" cy="348840"/>
            <a:chOff x="755640" y="4664160"/>
            <a:chExt cx="2617920" cy="348840"/>
          </a:xfrm>
        </p:grpSpPr>
        <p:sp>
          <p:nvSpPr>
            <p:cNvPr id="284" name=""/>
            <p:cNvSpPr/>
            <p:nvPr/>
          </p:nvSpPr>
          <p:spPr>
            <a:xfrm>
              <a:off x="755640" y="4664160"/>
              <a:ext cx="26179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720" tIns="0" bIns="45360" anchor="t">
              <a:spAutoFit/>
            </a:bodyPr>
            <a:p>
              <a:pPr algn="ctr">
                <a:lnSpc>
                  <a:spcPts val="2387"/>
                </a:lnSpc>
                <a:spcBef>
                  <a:spcPts val="1001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5640" y="466416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498888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AAA3930-124E-49A3-B9D2-7CEA202B1C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261C02B-EB27-4AC0-9EEF-7CD620E59FC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1C9A803-5479-47E6-9B8C-FDB4EC79758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0"/>
            <a:endCxn id="256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58" name=""/>
          <p:cNvCxnSpPr>
            <a:stCxn id="256" idx="2"/>
            <a:endCxn id="256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fld id="{EBD36319-C339-48B1-A7EF-F9840470C0C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rius    “Entertainment goes outdoor”</a:t>
            </a:r>
            <a:br>
              <a:rPr sz="3200"/>
            </a:br>
            <a:r>
              <a:rPr b="1" lang="en-GB" sz="3200" spc="-1" strike="noStrike">
                <a:solidFill>
                  <a:srgbClr val="d46028"/>
                </a:solidFill>
                <a:latin typeface="Arial"/>
              </a:rPr>
              <a:t>Product Status Report at S25/M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SR, 4th May 2005 – Confidenti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2920" y="4641840"/>
            <a:ext cx="36925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. Mildenberger (SPM), Gregor Flüge (PLT), J. Jungbauer (SPM B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7219" t="11624" r="6563" b="3231"/>
          <a:stretch/>
        </p:blipFill>
        <p:spPr>
          <a:xfrm>
            <a:off x="88920" y="0"/>
            <a:ext cx="8926560" cy="68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7578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TA still shows a delivery start as agreed at M1 (28th Ju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664" t="15086" r="490" b="5412"/>
          <a:stretch/>
        </p:blipFill>
        <p:spPr>
          <a:xfrm>
            <a:off x="223920" y="1098720"/>
            <a:ext cx="8459640" cy="53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93560" y="222120"/>
            <a:ext cx="73915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46028"/>
                </a:solidFill>
                <a:latin typeface="Arial"/>
              </a:rPr>
              <a:t>R&amp;D Spending Si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038240"/>
          <a:ext cx="65818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8240"/>
                    <a:ext cx="65818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5800" y="4505400"/>
          <a:ext cx="5410080" cy="188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505400"/>
                    <a:ext cx="54100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515280" y="1295280"/>
            <a:ext cx="243828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: E981-05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23.06.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declared 11.11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 planned 17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after M3: 0‘16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K-Fa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04: 2,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5: 1,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FC: 10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duct 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2000" y="110808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040" y="110808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90960" y="1122480"/>
            <a:ext cx="1162080" cy="2315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360" y="1957320"/>
            <a:ext cx="2647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iemens Protection SystemT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hock, splash water and dust resistant (IP54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dia player (music &amp; vide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 (card and headset bundle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ush and Talk (Pa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2400" y="1957320"/>
            <a:ext cx="2648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Video recording &amp; play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62K colour display, TF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eng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, GPRS Class 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0040" y="116532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360" y="4354560"/>
            <a:ext cx="26478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erior outdoor bar ph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obus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value fini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hentic materials (metal frame and rubber protected sid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20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000" y="3807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73560" y="4354560"/>
            <a:ext cx="26478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ide range of Headset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r Solu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12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72120" y="38084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32400" y="4354560"/>
            <a:ext cx="264816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game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player games via 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hemes, Download Assis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eather foreca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80040" y="356076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3060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Entertainment Goes Outdo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33760" y="1165320"/>
            <a:ext cx="4329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joice in music and video entertainment in all circumstances with this robust pho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33760" y="2981160"/>
            <a:ext cx="432900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le more than 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id to high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33760" y="3657600"/>
            <a:ext cx="43322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door activities have a very high priority for th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expect robustness and reliability in their mobile de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want mobile devices to fit to travel, adventure and leisure activit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y enjoy using mobile devices with a variety of multimedia and technologically innovative features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33760" y="2247840"/>
            <a:ext cx="43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-Class, Outdo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523" t="1522" r="2523" b="1764"/>
          <a:stretch/>
        </p:blipFill>
        <p:spPr>
          <a:xfrm>
            <a:off x="7091280" y="1646280"/>
            <a:ext cx="1882800" cy="3825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Product Idea,</a:t>
            </a:r>
            <a:br>
              <a:rPr sz="900"/>
            </a:b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116532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360" y="14130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Ide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200016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" y="282888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2000" y="365760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360" y="22464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97648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cio-demographic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360" y="380520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ehavioural Asp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PM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D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1240" y="2109960"/>
            <a:ext cx="166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Mildenbe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7840" y="5310360"/>
            <a:ext cx="843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Due to a decision from last PSR all extended core team members have to commit to the content of this presentation and “virtually” sign the presentation! Please send mail to SP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70560" y="2146320"/>
            <a:ext cx="123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G. Flu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3280" y="2146320"/>
            <a:ext cx="144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J. Jungb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6880" y="408312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igned, Z. Ki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7200" y="405612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F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004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This document is review and agreed by the extended Sirius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12240" y="406548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K. Zlat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1/2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5120" y="1233360"/>
            <a:ext cx="5289480" cy="6451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 set and position are 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03040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2: Profit +11’0€ (+7.21%) vs. M1: +24'7€ (10.1%,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based on 813k units and 200€ CRP launch pri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bsolute Profit deviation: -5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w confidence in Business Case due to price/volum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41240" y="2509920"/>
            <a:ext cx="2233440" cy="2208240"/>
            <a:chOff x="741240" y="2509920"/>
            <a:chExt cx="2233440" cy="2208240"/>
          </a:xfrm>
        </p:grpSpPr>
        <p:sp>
          <p:nvSpPr>
            <p:cNvPr id="116" name=""/>
            <p:cNvSpPr/>
            <p:nvPr/>
          </p:nvSpPr>
          <p:spPr>
            <a:xfrm>
              <a:off x="741240" y="251496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50840" y="281016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84200" y="314496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88840" y="307512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000" y="305460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860120" y="250992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62240" y="2192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8120" y="422604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6640" y="2612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280" y="422604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535120"/>
            <a:ext cx="1209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4720" y="4797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2120" y="3546360"/>
            <a:ext cx="5289480" cy="2907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CRP 200€;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ice risks: WE &amp; EE 13%, MEA &amp; APAC 8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540k units (current demand planning) vs. 813k units (in Business Case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vs. 1’35 units (M1) </a:t>
            </a:r>
            <a:r>
              <a:rPr b="0" lang="en-GB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34% volume risk in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areas: Keys too small, bulky appearance, proportions between display and housing is wro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,EE,MEA: Capacity of MMC is too low (32 vs. 128 M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: Java music player does not work due to a  problem in JAVA implementation (not required in M1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19200" y="3344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400" y="5773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4240" y="3103560"/>
            <a:ext cx="144792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 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2/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060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684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5500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64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344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6800" y="279576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TM delay of up to 1.5 weeks expected due to the same reasons as Phoeni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3:  25-May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: 28-Jun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6800" y="4473720"/>
            <a:ext cx="5241960" cy="1167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D: partly missing skills in English, communication, project management and know-how about organ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ill insufficient SW resources to improv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6800" y="117792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features are implemented and ready to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ust on the display is not sufficient for IP54,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ing time in production is to high due to SW work- aro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69960" y="2752560"/>
            <a:ext cx="2233440" cy="2208240"/>
            <a:chOff x="669960" y="2752560"/>
            <a:chExt cx="2233440" cy="2208240"/>
          </a:xfrm>
        </p:grpSpPr>
        <p:sp>
          <p:nvSpPr>
            <p:cNvPr id="146" name=""/>
            <p:cNvSpPr/>
            <p:nvPr/>
          </p:nvSpPr>
          <p:spPr>
            <a:xfrm>
              <a:off x="66996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956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92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1756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872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78884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4792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" y="6016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2960" y="3346560"/>
            <a:ext cx="144756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333360"/>
            <a:ext cx="75391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urrent Business Case of Sirius indicates a Profit of – 1’7 (-1.2%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10080" y="1855800"/>
            <a:ext cx="4516560" cy="43815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06/05 – 05/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nits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lta: +0’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2: DP 04/05;  Actual: PBM Input in ROF 05/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- € 17.0/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M1 price line;  Actual: QPM 04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 M2 and Actual due to lower quantities (tooling inv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+1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R&amp;D Forecast 03/05; Actual: new indirect cost fac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2’5 + 5% of T/O + 5 €/p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2800" y="1190520"/>
            <a:ext cx="446220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M2 vs. 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31760" y="1177920"/>
          <a:ext cx="414828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177920"/>
                    <a:ext cx="414828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posed 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160" y="1362240"/>
            <a:ext cx="79740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 to set up crisis management team to lead the SW bug fixing process, PSR and MD board support in nominating a dedicated project leader for this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details regarding software quality and expected retur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otential TTM delay / loss of volumes in case software targets have to be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decision proposal to management latest end of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8120" y="5073480"/>
            <a:ext cx="341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R agrees to propos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22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38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3360" y="5607000"/>
            <a:ext cx="5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69280" y="5602320"/>
            <a:ext cx="430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57480" y="5411880"/>
            <a:ext cx="92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6300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Bac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easures, Responsibiliti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760" y="1155600"/>
          <a:ext cx="8764560" cy="5762880"/>
        </p:xfrm>
        <a:graphic>
          <a:graphicData uri="http://schemas.openxmlformats.org/drawingml/2006/table">
            <a:tbl>
              <a:tblPr/>
              <a:tblGrid>
                <a:gridCol w="1284120"/>
                <a:gridCol w="4461120"/>
                <a:gridCol w="664920"/>
                <a:gridCol w="601920"/>
                <a:gridCol w="1752480"/>
              </a:tblGrid>
              <a:tr h="3441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-Gate Ax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</a:tr>
              <a:tr h="412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 on display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ot cause is potentially the cushion. A new cushion will reduce or solv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ycle time 2 seconds too long due to lots of workarounds. This will reduce capacity if not 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40% of all joystick caps falls off after the assembly and a short time of use. Improvements are defined and will be tested until End of cw1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 failure rate in customer test, under e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7050" t="10348" r="6563" b="4538"/>
          <a:stretch/>
        </p:blipFill>
        <p:spPr>
          <a:xfrm>
            <a:off x="88920" y="0"/>
            <a:ext cx="8899560" cy="68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rco Mildenberger</cp:lastModifiedBy>
  <cp:lastPrinted>2005-01-13T16:58:42Z</cp:lastPrinted>
  <dcterms:modified xsi:type="dcterms:W3CDTF">2005-05-04T08:06:26Z</dcterms:modified>
  <cp:revision>535</cp:revision>
  <dc:subject/>
  <dc:title>PowerPoint Presentation</dc:title>
</cp:coreProperties>
</file>