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E334-B10A-4104-9579-A00A3F9CFD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00CE-F7DD-4587-95E8-3F11BC7307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2783-2F85-4BC1-9EE9-A3C6EDEDB1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AEAB-ADE1-4298-AF6C-03E4BC6D02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DC89-679F-4B1D-8316-8D6C238FA7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9F26-31CD-418A-BD84-D0EE1C57A8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6BFF-CC28-4705-90A2-DE9F230048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73EE14AE-3520-4852-9284-D088DBE4F2D9}" type="datetime">
              <a:rPr b="0" lang="de-DE" sz="1200" spc="-1" strike="noStrike">
                <a:solidFill>
                  <a:srgbClr val="000000"/>
                </a:solidFill>
                <a:latin typeface="Arial"/>
              </a:rPr>
              <a:t>30.07.26</a:t>
            </a:fld>
            <a:r>
              <a:rPr b="0" lang="de-DE" sz="1200" spc="-1" strike="noStrike">
                <a:solidFill>
                  <a:srgbClr val="000000"/>
                </a:solidFill>
                <a:latin typeface="Arial"/>
              </a:rPr>
              <a:t>   </a:t>
            </a:r>
            <a:fld id="{CF162FF2-A218-402E-BA03-2D0E7D6FCA7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