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FB78-4264-4CF2-8B53-601D83AE36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C868-8A2B-45C1-AB90-5F79CB9D30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0"/>
            <a:endCxn id="337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39" name=""/>
          <p:cNvCxnSpPr>
            <a:stCxn id="337" idx="2"/>
            <a:endCxn id="337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ADC3-A02B-4935-A52B-EDDFE042753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0"/>
            <a:endCxn id="346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48" name=""/>
          <p:cNvCxnSpPr>
            <a:stCxn id="346" idx="2"/>
            <a:endCxn id="346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DC6C-B99E-4FCC-AD9D-19AA8C1B40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41480" y="755640"/>
            <a:ext cx="4844880" cy="3633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2840" y="4619160"/>
            <a:ext cx="5029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92B3-F8CE-40D2-8360-765936627C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6840" y="736560"/>
            <a:ext cx="4861080" cy="3645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74760" y="4486320"/>
            <a:ext cx="61005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E507-DDCD-4844-B71E-EC7A6E40CC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B20E-99AB-4496-86EC-4D5AC18661C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© Siemens      SISK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     PSR on May 4th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4920" y="42066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 MD PLM Emily Zhao,  Carlos Schmidt,  Paul 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skin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“Fashionable snapshot ph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t Status Report at M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42920"/>
            <a:ext cx="8816760" cy="2655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21480" y="6308640"/>
            <a:ext cx="134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ril 29th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280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 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M shared memory + T-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, 2nd display 65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6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40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260K TFD, 240*3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5M shared memory+SD 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 &amp;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82800" y="4525920"/>
            <a:ext cx="1914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4096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88x47x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67520" y="458784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120* 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05*49*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9720" y="317340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9720" y="464184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             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Siskin Compet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14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18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32800" y="1212840"/>
            <a:ext cx="80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torola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6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24200" y="1212840"/>
            <a:ext cx="496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5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5400" y="1212840"/>
            <a:ext cx="88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subishi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Motorola V635&#10;MORE PICTURES"/>
          <p:cNvPicPr/>
          <p:nvPr/>
        </p:nvPicPr>
        <p:blipFill>
          <a:blip r:embed="rId1"/>
          <a:stretch/>
        </p:blipFill>
        <p:spPr>
          <a:xfrm>
            <a:off x="3106800" y="1763640"/>
            <a:ext cx="877680" cy="1160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LG L5100&#10;MORE PICTURES"/>
          <p:cNvPicPr/>
          <p:nvPr/>
        </p:nvPicPr>
        <p:blipFill>
          <a:blip r:embed="rId2"/>
          <a:stretch/>
        </p:blipFill>
        <p:spPr>
          <a:xfrm>
            <a:off x="5457960" y="1830240"/>
            <a:ext cx="860400" cy="96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100480" y="1838160"/>
            <a:ext cx="471600" cy="941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Mitsubishi M430i/M900&#10;MORE PICTURES"/>
          <p:cNvPicPr/>
          <p:nvPr/>
        </p:nvPicPr>
        <p:blipFill>
          <a:blip r:embed="rId4"/>
          <a:stretch/>
        </p:blipFill>
        <p:spPr>
          <a:xfrm>
            <a:off x="7400880" y="1747800"/>
            <a:ext cx="906480" cy="1050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2800" y="305748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76*220, 2nd display 65K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0M shar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 , 176*220, 2nd display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0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82800" y="452592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128*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hickness: 24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Versus the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51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55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53600" y="121284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nostrea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74080" y="1212840"/>
            <a:ext cx="8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amsun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E7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11400" y="1198440"/>
            <a:ext cx="8236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am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GH z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3160" y="1770120"/>
            <a:ext cx="71460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enchm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9720" y="317340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9720" y="464184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Samsung E720&#10;MORE PICTURES"/>
          <p:cNvPicPr/>
          <p:nvPr/>
        </p:nvPicPr>
        <p:blipFill>
          <a:blip r:embed="rId1"/>
          <a:stretch/>
        </p:blipFill>
        <p:spPr>
          <a:xfrm>
            <a:off x="5334120" y="1763640"/>
            <a:ext cx="876240" cy="116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Innostream A10"/>
          <p:cNvPicPr/>
          <p:nvPr/>
        </p:nvPicPr>
        <p:blipFill>
          <a:blip r:embed="rId2"/>
          <a:stretch/>
        </p:blipFill>
        <p:spPr>
          <a:xfrm>
            <a:off x="3051000" y="1735200"/>
            <a:ext cx="876600" cy="1160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Samsung Z300"/>
          <p:cNvPicPr/>
          <p:nvPr/>
        </p:nvPicPr>
        <p:blipFill>
          <a:blip r:embed="rId3"/>
          <a:stretch/>
        </p:blipFill>
        <p:spPr>
          <a:xfrm>
            <a:off x="7345440" y="1754280"/>
            <a:ext cx="884160" cy="117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93080" y="4653000"/>
            <a:ext cx="172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ize: 89×47×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65656"/>
                </a:solidFill>
                <a:latin typeface="Arial"/>
              </a:rPr>
              <a:t>Siskin SW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3160" y="1112760"/>
          <a:ext cx="8785080" cy="5219640"/>
        </p:xfrm>
        <a:graphic>
          <a:graphicData uri="http://schemas.openxmlformats.org/drawingml/2006/table">
            <a:tbl>
              <a:tblPr/>
              <a:tblGrid>
                <a:gridCol w="4392360"/>
                <a:gridCol w="4392720"/>
              </a:tblGrid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tr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ea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00664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shionable but clear design in a modern form factor (Clam-Shel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 resolution camera phone. (1.3M pi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end consumer relevant features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profit performance of the product below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uetooth not in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50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hr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17008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ress market segment which is looking for a fashionable phone at an competitive price (at 115 Euro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italizing on the market trend: Clam shells for an affordable and attractive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becomes quite strong in the Clam Shell 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with Adonis intern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0" y="3560760"/>
            <a:ext cx="3524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19040" y="2027160"/>
            <a:ext cx="3730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70920" y="4400640"/>
            <a:ext cx="3733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03920" y="4390920"/>
            <a:ext cx="3732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2000" y="6194520"/>
            <a:ext cx="229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ource: Verena Pannenbaeck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Product: Sisk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4673520" y="1181160"/>
          <a:ext cx="4254480" cy="465444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25092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13269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5’5 50’3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6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77840" y="1181160"/>
          <a:ext cx="4330800" cy="465084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2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,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’9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154080" y="5872320"/>
            <a:ext cx="1519200" cy="4730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0240" y="5896080"/>
            <a:ext cx="7161480" cy="46836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ve Profit: EUR 0‘4 (0,2% / € 0,01 per un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tential for improvements especially in Service costs, CC an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of the Siskin shows a Profit of EUR 470k (0,2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1440" y="1131840"/>
            <a:ext cx="8601120" cy="509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51000" y="1249200"/>
          <a:ext cx="85183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249200"/>
                    <a:ext cx="85183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4160" y="129600"/>
            <a:ext cx="77817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Reverse Calculation</a:t>
            </a:r>
            <a:br>
              <a:rPr sz="2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98440" y="1268280"/>
            <a:ext cx="8666280" cy="49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55640" y="1197000"/>
          <a:ext cx="734364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3436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516720" y="1268280"/>
            <a:ext cx="2448000" cy="5040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120" y="1522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87b8e5"/>
                </a:solidFill>
                <a:latin typeface="Arial"/>
              </a:rPr>
              <a:t>Direct R&amp;D-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1080" y="1123920"/>
          <a:ext cx="627696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123920"/>
                    <a:ext cx="62769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08000" y="4581360"/>
          <a:ext cx="6362640" cy="16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581360"/>
                    <a:ext cx="63626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588000" y="1392120"/>
            <a:ext cx="248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count: E981-07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 to be declared today (04.05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 planned 21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 planned 02.02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fforts after M3: 0’03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K-Factor of 85 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4/05: 2,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5/06: 1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lat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/3 of X75 / 85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not approved y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te of FC: M0 Plan (15.04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40766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st overview until M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19040" y="-37152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Risks and Actions Si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30200" y="1197000"/>
          <a:ext cx="8174160" cy="5224320"/>
        </p:xfrm>
        <a:graphic>
          <a:graphicData uri="http://schemas.openxmlformats.org/drawingml/2006/table">
            <a:tbl>
              <a:tblPr/>
              <a:tblGrid>
                <a:gridCol w="1168560"/>
                <a:gridCol w="2246040"/>
                <a:gridCol w="911520"/>
                <a:gridCol w="500040"/>
                <a:gridCol w="1895400"/>
                <a:gridCol w="919080"/>
                <a:gridCol w="533520"/>
              </a:tblGrid>
              <a:tr h="623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 is about 1.4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test result is the SAR value may be is smaller than adonis 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SA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ou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 between Liftpart and Basepart is smal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&lt;0.5mm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ck Volume is small (&lt;1.5c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M to accept the current 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hao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vliery time will affect Liftpart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tant monitoring of EPSON delivery schedul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grid Kremme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adine Roh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mponent qualifia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Application qual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en Zhu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SW development pla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Camera 1,3Meg CMOS Camera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TFT 272K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uang K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Meg CMOS Camera(Radermacher klaus concerns the development, because 1.3Meg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MOS Camera will involved optical issu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Collecting development experience and knowledge from other pro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iftp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MC/ES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R&amp;D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M1 Decla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Delivery Schedule is not include in schedule (Only qualification schedu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u Haixi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is review and agreed by the extended Siskin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3040" y="210996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Emily Zh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8600" y="40766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Li 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39320" y="407664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Oliver 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76040" y="407664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ike C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4960" y="2133720"/>
            <a:ext cx="10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Paul X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6960" y="2133720"/>
            <a:ext cx="159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Carlos Schm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09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886200"/>
            <a:ext cx="5289480" cy="2953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 95€ , launch price 115€, 80€ EOL: No pric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’12 units, 36% total volume risks (based on 115€ launch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, EE no major risk, Americas 61%, AIP 100% !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na 64%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 63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too-thick mock-up was used in the design acceptance test (medium ranking); Dr. Lepold is reported to have accepted the right 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Very negative feedback on design (loop antenna), positive feedback on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ing customer requirements: Bluetooth, EDGE, flash, orange- &amp; i-mode-custom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28132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fit +0’4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+0.2%, current) vs. +15’9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€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(+7.5%, target</a:t>
            </a:r>
            <a:r>
              <a:rPr b="1" lang="en-GB" sz="1400" spc="-1" strike="noStrike">
                <a:solidFill>
                  <a:srgbClr val="d46028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based on 115€ launch, 2’12 units) --&gt; profit deviation: -9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confidence in current BC for M0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increase is crucial for BC improvement, reduction of the manufacturing cost is main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69228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ong fit to story 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&amp; high portfolio impact, as Siskin is the only C-Class image clamshell in 06 (Baya &amp; Macaw cancell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addressable market of Siskin is still a mainstream market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’2 units, market share: 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5880" y="3645000"/>
            <a:ext cx="5241960" cy="2088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TTM confidence due to 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e availability of software driver which is needed for a display and camera upgr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4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21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5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9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.09.0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0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8.12.0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no delay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1.06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 workday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5880" y="580536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: 6 overdue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isk management plan not finalised, ye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5880" y="1003320"/>
            <a:ext cx="5241960" cy="2584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Worst-case SAR value does not meet SAG requirements (1.3 vs. 0.8 W/kg over 1g).</a:t>
            </a:r>
            <a:r>
              <a:rPr b="1" lang="en-US" sz="1500" spc="-1" strike="noStrike">
                <a:solidFill>
                  <a:srgbClr val="d46028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wever, Siskin reuses the mechanical &amp; antenna concept of Leopard/Adonis, thus same values are expected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Risk of an increased return rate due to new technology for internal display lens (die cut glass len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One-stop solution, BYD, last audit result for Adonis is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6% for plastic/design part (Class B), 71% for cameras (Class C). However, required is &gt;=80% (A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40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413000"/>
          <a:ext cx="864216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421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387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0,4m EUR or 0,2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1166760"/>
            <a:ext cx="3887640" cy="708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/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1200" y="1143000"/>
          <a:ext cx="464832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143000"/>
                    <a:ext cx="46483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2360" y="1908000"/>
            <a:ext cx="3875040" cy="4513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„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w/o M-Alpha/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 reduction by 20% or 558k units over LC due to sales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increased by 31% or 22,5 EUR to 95,2 EUR compared to Roadmap Scenario 2C’. Launch price at EUR 115,- / Phase out price at EUR 80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Actual HK increased by 8,26 EUR per unit compared to Roadmap Scenario 2C‘. New BOM: 59,55 EUR per uni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Cost per Return: EUR 45,02. Return Rate in FY06: 9,2% and in FY07 8,7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rect R&amp;D costs of 2,5m EUR, including  platform costs of 1,2m E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 costs: 7,7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EBIT of 0,4m EUR or 0,2% of 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1198440"/>
            <a:ext cx="6710040" cy="42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87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.) Go ahead with project until M1</a:t>
            </a:r>
            <a:br>
              <a:rPr sz="18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Approve M0 status connected with the following conditions / action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rove the BOM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Magnus/ Nadine till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ift part (BY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-BOM cost (Infin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Conversion 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mplement measures to secure M0  timeline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Monitor Epson 758 deliver 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lement measures to secure product quality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AR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pson 75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mpact on overall MD portfolio is :2’2 unites, 213’ Revenue,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o competitive image phone in 2006, due to Baya and Macaw were cance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0560" y="5924520"/>
            <a:ext cx="412560" cy="31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63840" y="592596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3360" y="595944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7360" y="595476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6040" y="556560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7440" y="558324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0560" y="5972040"/>
            <a:ext cx="41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81720" y="2930400"/>
            <a:ext cx="128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 Profile - Sisk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shionable snapshot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2276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200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2276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200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2276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360" y="2606760"/>
            <a:ext cx="400824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nsumer Highligh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ashionable snapshot 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fashionable companion always ready to capture instant snapshots of your favorite moment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ery fashionable Clamshell with 1.3 Mpix camera and 262k TFT display for a competitive 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360" y="5950080"/>
            <a:ext cx="12002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urce: PDM/MM/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5760" y="2585880"/>
            <a:ext cx="403380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gainst Competition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ttractive, fashionable and stylish design in a modern form factor (clamshell). Slim—with the thickness of 21.1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.3 M camera with 262K TFT display and messaging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end consumer relevant basic features inclu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60" y="4371840"/>
            <a:ext cx="40082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perator Benefi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ashionable clamshell attracts a big targe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grated 1.3 Mpix camera and MMS for additional ARP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Java and WAP for download over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ja 1.2 to meet I-Mode entry level phone’s requir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360" y="1143000"/>
            <a:ext cx="400824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-Class, Emotiona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ghtly more female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e: 16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w to mid 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ocus on privat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3160" y="4237200"/>
            <a:ext cx="41828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Differentiation within M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Quail: Pure voice commun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Modern-styled clamshell for pure voice communic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ift: Eye-catching multimedia 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ffers instant entertainment and infotainment in QVGA quality in a valuable, eye-catching slider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4600" y="1184400"/>
            <a:ext cx="402444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Busines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: 2’232 uni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P: EUR 95.24  /   HK: EUR 70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RD: EUR 7‘4  /  MARCOM: EUR 17‘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Profit: EUR 0‘4 (0,2% resp. EUR 0,01 per un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5:32:06Z</dcterms:modified>
  <cp:revision>45</cp:revision>
  <dc:subject/>
  <dc:title>Product Status Review (PSR) Concept</dc:title>
</cp:coreProperties>
</file>