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44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2"/>
          </p:nvPr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90720" y="731520"/>
            <a:ext cx="4875120" cy="36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3"/>
          </p:nvPr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4"/>
          </p:nvPr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BD4B4-4756-4C6A-9CAD-5064D89807A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5BAD1-931D-4F5C-9315-BF86F1193BA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035000" y="757080"/>
            <a:ext cx="4845240" cy="36338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42840" y="4617720"/>
            <a:ext cx="502776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4CAF4-0D2D-45DB-955B-C6A3C77182D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035000" y="757080"/>
            <a:ext cx="4845240" cy="36338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42840" y="4617720"/>
            <a:ext cx="502776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934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092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1776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934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092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3934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092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1776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3934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6092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177640" y="6453000"/>
            <a:ext cx="655308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Siemens      Finch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PSR on 19-Apr-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345960" y="6442200"/>
            <a:ext cx="1255680" cy="28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14280" y="6122880"/>
            <a:ext cx="205416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720960" y="1301760"/>
            <a:ext cx="74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71640" bIns="-716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689040" y="2752560"/>
            <a:ext cx="2233440" cy="2208240"/>
            <a:chOff x="689040" y="2752560"/>
            <a:chExt cx="2233440" cy="2208240"/>
          </a:xfrm>
        </p:grpSpPr>
        <p:sp>
          <p:nvSpPr>
            <p:cNvPr id="94" name=""/>
            <p:cNvSpPr/>
            <p:nvPr/>
          </p:nvSpPr>
          <p:spPr>
            <a:xfrm>
              <a:off x="689040" y="2757600"/>
              <a:ext cx="2233440" cy="2203200"/>
            </a:xfrm>
            <a:prstGeom prst="ellipse">
              <a:avLst/>
            </a:prstGeom>
            <a:solidFill>
              <a:srgbClr val="00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98640" y="3052800"/>
              <a:ext cx="1614240" cy="1614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332000" y="3387600"/>
              <a:ext cx="949320" cy="941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836640" y="3317760"/>
              <a:ext cx="1942920" cy="108288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47800" y="3297240"/>
              <a:ext cx="1927080" cy="1119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1807920" y="2752560"/>
              <a:ext cx="4680" cy="2208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1309680" y="2435400"/>
            <a:ext cx="10234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fi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25560" y="4468680"/>
            <a:ext cx="7016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Project</a:t>
            </a:r>
            <a:br>
              <a:rPr sz="1200"/>
            </a:b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74080" y="2855880"/>
            <a:ext cx="8128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Sales 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4720" y="4468680"/>
            <a:ext cx="802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Product </a:t>
            </a:r>
            <a:br>
              <a:rPr sz="1200"/>
            </a:b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7080" y="2778120"/>
            <a:ext cx="12096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Strate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72520" y="5040360"/>
            <a:ext cx="12762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Time-to-Mar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4297320"/>
            <a:ext cx="5289480" cy="252720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ales F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unch price 60€, ASP 52€, EOL 45€;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M: price position is too high, max. 52€ laun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6'65 units, 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total volume ~50% (</a:t>
            </a:r>
            <a:r>
              <a:rPr b="1" i="1" lang="en-GB" sz="1400" spc="-1" strike="noStrike">
                <a:solidFill>
                  <a:srgbClr val="ff0000"/>
                </a:solidFill>
                <a:latin typeface="Arial"/>
              </a:rPr>
              <a:t>based on 60€ launch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):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E no risk, EE 20-50%, Americas 51%, MEA 90%,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PAC 100 %, China 40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ssing customer requirements: camera, bluetooth or Ir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itive design acceptance test: ranking for Pipe design: 3rd place (1st was Around design, preferred by AP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IP: No USP (me-too), only compete on price or br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08360" y="2946240"/>
            <a:ext cx="5289480" cy="132876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fit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Profit: -7’0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€ (-2.4%, current) vs. +11’7€ (+4%, target)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-&gt; deviation: -160% (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ased on 52€ launch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'65 uni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0% confidence in the current BC;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isk on pricing and BOM-commitment of SP implemen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708360" y="642960"/>
            <a:ext cx="5289480" cy="226980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trategy F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st fit to roadmap and story line: standby time (270h vs. 410h) is not USP, is considered to be competitive and is a compromise to meet the required dimension and cos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uge impact on portfolio as Finch addresses the entry level colour segment &amp; midrange A-class (high volum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ife cycle of 12 mont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arge, mature market; addressable market: 191'8 units, market share: 3.46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67000" y="3587760"/>
            <a:ext cx="690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</a:rPr>
              <a:t>Q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4120" y="6016680"/>
            <a:ext cx="3179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ting Meeting: 11-Apr-05 (updated 3-May-05)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SO support: Dr. M. Ass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26272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717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Quality Gate Rating Finc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/2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atus M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32040" y="3359160"/>
            <a:ext cx="1452240" cy="1481040"/>
          </a:xfrm>
          <a:custGeom>
            <a:avLst/>
            <a:gdLst/>
            <a:ahLst/>
            <a:rect l="l" t="t" r="r" b="b"/>
            <a:pathLst>
              <a:path w="915" h="933">
                <a:moveTo>
                  <a:pt x="545" y="933"/>
                </a:moveTo>
                <a:lnTo>
                  <a:pt x="915" y="516"/>
                </a:lnTo>
                <a:lnTo>
                  <a:pt x="735" y="216"/>
                </a:lnTo>
                <a:lnTo>
                  <a:pt x="555" y="158"/>
                </a:lnTo>
                <a:lnTo>
                  <a:pt x="0" y="0"/>
                </a:lnTo>
                <a:lnTo>
                  <a:pt x="207" y="496"/>
                </a:lnTo>
                <a:lnTo>
                  <a:pt x="545" y="933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26272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717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Quality Gate Rating Finc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/2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atus M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20960" y="1301760"/>
            <a:ext cx="74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71640" bIns="-716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09680" y="2435400"/>
            <a:ext cx="10234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Profi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725560" y="4468680"/>
            <a:ext cx="7016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ject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4080" y="2855880"/>
            <a:ext cx="8128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Sales 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4720" y="4468680"/>
            <a:ext cx="802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duct 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7080" y="2778120"/>
            <a:ext cx="12096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Strate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72520" y="5040360"/>
            <a:ext cx="12762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ime-to-Mar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755880" y="3213000"/>
            <a:ext cx="5241960" cy="162108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ime-to-Mar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85% TTM confidence level: RF evaluation is op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1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23.05.05 (4 days delay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25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02.11.05 (2 days earlier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DS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25.01.06 (1 day earlier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4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22.02.06 (8 days earlier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755880" y="4995720"/>
            <a:ext cx="5241960" cy="89172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ject 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taffing is complete, but resources for the LAM 850 variant evaluation are missing if SD2 RF solution is us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755880" y="1197000"/>
            <a:ext cx="5241960" cy="189972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duct 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F: Antenna performance in GSM850 is not yet committed to meet the FBT require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W: Microphone and vibrator are on the same side. This might cause an EMC problem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D: The two decorations on the top and bottom of the housing are a potential risk for the drop test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689040" y="2752560"/>
            <a:ext cx="2233440" cy="2208240"/>
            <a:chOff x="689040" y="2752560"/>
            <a:chExt cx="2233440" cy="2208240"/>
          </a:xfrm>
        </p:grpSpPr>
        <p:sp>
          <p:nvSpPr>
            <p:cNvPr id="125" name=""/>
            <p:cNvSpPr/>
            <p:nvPr/>
          </p:nvSpPr>
          <p:spPr>
            <a:xfrm>
              <a:off x="689040" y="2757600"/>
              <a:ext cx="2233440" cy="2203200"/>
            </a:xfrm>
            <a:prstGeom prst="ellipse">
              <a:avLst/>
            </a:prstGeom>
            <a:solidFill>
              <a:srgbClr val="00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998640" y="3052800"/>
              <a:ext cx="1614240" cy="1614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332000" y="3387600"/>
              <a:ext cx="949320" cy="941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836640" y="3317760"/>
              <a:ext cx="1942920" cy="108288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47800" y="3297240"/>
              <a:ext cx="1927080" cy="1119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1807920" y="2752560"/>
              <a:ext cx="4680" cy="2208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1467000" y="3587760"/>
            <a:ext cx="690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entury Gothic"/>
              </a:rPr>
              <a:t>Q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4120" y="6016680"/>
            <a:ext cx="3179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ting Meeting: 11-Apr-05 (updated 3-May-05)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SO support: Dr. M. Ass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32040" y="3359160"/>
            <a:ext cx="1452240" cy="1481040"/>
          </a:xfrm>
          <a:custGeom>
            <a:avLst/>
            <a:gdLst/>
            <a:ahLst/>
            <a:rect l="l" t="t" r="r" b="b"/>
            <a:pathLst>
              <a:path w="915" h="933">
                <a:moveTo>
                  <a:pt x="545" y="933"/>
                </a:moveTo>
                <a:lnTo>
                  <a:pt x="915" y="516"/>
                </a:lnTo>
                <a:lnTo>
                  <a:pt x="735" y="216"/>
                </a:lnTo>
                <a:lnTo>
                  <a:pt x="555" y="158"/>
                </a:lnTo>
                <a:lnTo>
                  <a:pt x="0" y="0"/>
                </a:lnTo>
                <a:lnTo>
                  <a:pt x="207" y="496"/>
                </a:lnTo>
                <a:lnTo>
                  <a:pt x="545" y="933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2520" y="213840"/>
            <a:ext cx="763452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mparison Current Business Case  </a:t>
            </a:r>
            <a:br>
              <a:rPr sz="18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current Business Case shows a profit of -7’0 EUR or -2,4% of Turnov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01960" y="1874880"/>
            <a:ext cx="5167440" cy="455148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458640" indent="-4572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Volumes remained s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-4572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verage CRP decreased by 8,- Euro compared to Roadmap Scenario 2C’. Launch price at EUR 52,-.  Phase out price EUR 37,-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-4572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K decreased by 17.4% or 11,3 EUR to 35,08 EUR compared with Scenario 2C‘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-4572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ew BOM from CW17: 29,70 EUR per uni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-4572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duction site split: SSMC (72%), Manaus (28%). KLF not forese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-4572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&amp;D cost decreased by 1,3m EUR after re-planni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-4572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rCom: A-class costs for push-budget (1,50 EUR per unit) and pull-budget (1% of T/O) as well as HQ-Fund (1‘5 Mio EUR) considere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-4572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BIT indication of -7,0m EUR or -2% of Turnover. The profit went down by 10,1m compared with preliminary BC due to lower prici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-45720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03760" y="1141560"/>
            <a:ext cx="5178240" cy="707760"/>
          </a:xfrm>
          <a:prstGeom prst="rect">
            <a:avLst/>
          </a:prstGeom>
          <a:solidFill>
            <a:srgbClr val="87b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viation /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570880" y="-468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064360" y="152280"/>
            <a:ext cx="917640" cy="8827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Fin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90440" y="965160"/>
          <a:ext cx="3645000" cy="5664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440" y="965160"/>
                    <a:ext cx="3645000" cy="566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2T08:55:12Z</dcterms:created>
  <dc:creator>Blecher Gunnar</dc:creator>
  <dc:description/>
  <dc:language>en-US</dc:language>
  <cp:lastModifiedBy>Dr. Marcell Assan</cp:lastModifiedBy>
  <dcterms:modified xsi:type="dcterms:W3CDTF">2005-05-03T17:15:33Z</dcterms:modified>
  <cp:revision>68</cp:revision>
  <dc:subject/>
  <dc:title>Product Status Review (PSR) Concept</dc:title>
</cp:coreProperties>
</file>