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DC7D-2EA8-4069-89AE-5C95454957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7C49-3A11-4235-93E9-9579C118B6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B8350-4DF2-4603-B650-7B67EBC0B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89880880-F562-476B-A31F-9CC0E2793A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94101489-3300-4494-B3EE-4DEE1FB143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130A089-86DA-48B7-90D8-EFDA699D0A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72CA611-88F7-4D8F-8332-67200DFED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62108772-9B37-40F7-8A71-05F3A5C311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0787A41D-0286-4C69-8D62-E3BB23088C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CDC3A54-968B-48E9-8D9C-14A39ADF96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B907E06-1267-416C-9772-3D77E2CFE3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386E5D5-8A59-473A-ADA8-3B85CA7FFC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9E88CA9-C7DA-4030-8BDC-84CE950D43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9C7455C-CE14-49A1-A65E-764BCACBCC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60687C2-7DA6-4F2A-BE67-94983A68A71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47EDD735-016A-4C91-A98D-D12ED2520575}" type="datetime">
              <a:rPr b="0" lang="en-US" sz="1000" spc="-1" strike="noStrike">
                <a:solidFill>
                  <a:srgbClr val="000000"/>
                </a:solidFill>
                <a:latin typeface="Arial"/>
              </a:rPr>
              <a:t>07/30/26</a:t>
            </a:fld>
            <a:r>
              <a:rPr b="0" lang="en-US" sz="1000" spc="-1" strike="noStrike">
                <a:solidFill>
                  <a:srgbClr val="000000"/>
                </a:solidFill>
                <a:latin typeface="Arial"/>
              </a:rPr>
              <a:t>   </a:t>
            </a:r>
            <a:fld id="{7722EDD2-B26F-49E8-94DB-B8596C074D8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9DBE5251-99A6-4AFF-AAAD-CA36636A1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1C39EE9B-32C2-4AD4-8F7A-DD6A13136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01BC01D8-D7D8-4AD6-B993-C91BF5D49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F6136335-2C8C-42F9-8A99-3B797C236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6459E00B-DE00-4134-88E8-F22F0FEAF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231FAF2D-CBF0-4E8F-A250-E7D0E5F96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6C85E52-FC45-494E-97CA-66A1DF66A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B986914-23C7-4EBF-BA6C-CF88528B2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ACEB43C-C543-4A2B-B7D6-E440A7309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6B669C3-1043-4091-A38C-686B6F600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E9AD16F-EF33-4B18-85A6-78234CDE6B73}"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5A2DDE4-C7FA-4131-901A-BD3D0DBA0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3E1E8A-4A18-49EB-879B-93620F90C9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BC3A449-2F3D-406C-A4A6-866A23EBA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2000E0D1-C506-42DF-B524-A09B6DA54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3A41957-DA34-47AE-9506-3D806266E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6B7DB39D-EFA4-4BCC-8E34-EDACB15BB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5FD57BE-9794-4879-98CD-47FE8667B2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CDC7A0-89E4-4FBA-B01D-CADDF00D6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8276E651-769E-46CF-8AC1-76A9B481E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C05BEFF6-7B6A-4254-A5AE-48E30594C4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111C5CB-B778-4DF9-B207-D43910AD654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CEC9AFEF-2F5C-4ED0-937A-7C67ABD8C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3EA169-AF97-4E9C-BC07-F1E05EC91C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A90974A-687F-4E46-A5AC-0CB52CDF27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CCD550C-99EB-4FAE-BFE3-A0DC4296E2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