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70440"/>
            <a:ext cx="53942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DCB498-9311-4123-B461-4F34B0BF74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771B7B-AE22-444D-B4B9-0FB58AE6C8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47880" y="76680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7000" y="4692240"/>
            <a:ext cx="4951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8A1EF4-F203-47D0-AF5A-91A86C92E1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5EF70F-D9C8-4CCD-8FD8-5170658B46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2CE9-C5CD-4541-9529-81D6A1189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C3FF-7328-402B-9E3E-B979BA349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287E-490A-4FB4-BE7E-D879D1E95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1BBA-21D8-41B9-84FA-73E356D86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E1C1-3F88-4B65-8C7A-1520600D6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48F4-2D62-4A4C-B5EF-81AF6F18A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F6A9-5FB1-49D9-B778-0A0866D64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BEA9-FD04-4C68-A18F-3007C3D82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A15E-6109-43F6-AAB5-D76AFBA16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B51E-3AD7-4B58-8559-2A443BAC2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D387-A714-4DE2-8574-B17142A15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4F2A-47F5-4C88-BA25-7F6C949FC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7B9F5CBF-FE42-4486-8364-16DBF0D31CA2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75560" y="-14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5760" y="1197000"/>
            <a:ext cx="8769240" cy="2282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1600" y="4175280"/>
            <a:ext cx="82040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F62 Lifecycle Extension – M1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640" y="5000760"/>
            <a:ext cx="392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04-12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 Tao (Thom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n Hong Liang (To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M BA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icher Mark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ECFA-EB0E-44AD-8E8C-109BFC8C85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22760" y="1160640"/>
            <a:ext cx="4359240" cy="1679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2503440"/>
            <a:ext cx="4359240" cy="2216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94320" y="2897280"/>
            <a:ext cx="4359240" cy="3197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4838760"/>
            <a:ext cx="4359240" cy="12445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Leopard lifecycle extension Product Profile</a:t>
            </a:r>
            <a:br>
              <a:rPr sz="2000"/>
            </a:b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tylish and Cle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606760"/>
            <a:ext cx="40082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sumer Highligh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asy to use functiona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honebook storage indic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lling face(*.bmp or *.jp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redictive text input (T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Hand free speak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utstanding value for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ol and trendy 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68840" y="2932200"/>
            <a:ext cx="4033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chnical da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Dimens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81.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m (L x W x 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cm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300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att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Li-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Charging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lt; 2 h for 10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gold-V3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in display: 130x130pix, 64K,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-display: 96x64pix, B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Anten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xternal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lug-in (1.8 or 3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280" y="4981680"/>
            <a:ext cx="4008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tate of the art services like MMS, WAP,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erator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4360" y="1322280"/>
            <a:ext cx="40082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end entry level clamshell for Fashionable Community Cent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emale ~ Male, age focus 18-25, low income and focus on private u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51280" y="1200240"/>
            <a:ext cx="40244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value feature s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valuable color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ue illumination for dynamic light and red Co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AP 1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PRS class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ttachable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8D5B-B85B-49F1-8441-BF27236DE7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93840" y="279360"/>
          <a:ext cx="8229600" cy="6172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79360"/>
                    <a:ext cx="8229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701720" y="38098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596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640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E802-89B5-4B93-AA5C-9B67ACB616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mp-up Planni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4320" y="1057320"/>
            <a:ext cx="7505640" cy="55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81BA-27DC-4CD3-B337-84E4F8FB8847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ocument is reviewed and agreed by the extended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S)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640" y="2090880"/>
            <a:ext cx="174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 Li Tao (Thom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9360" y="405432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Heiko Kueh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3800" y="4054320"/>
            <a:ext cx="155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Graham B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9040" y="40543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hao Xiong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51160" y="2089080"/>
            <a:ext cx="222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un Hong Liang (Ton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03880" y="2101680"/>
            <a:ext cx="153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Markus A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F866-F5F4-4235-90EE-6707EA80DA2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2000" y="1160640"/>
            <a:ext cx="4359240" cy="1841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59400" y="3166920"/>
            <a:ext cx="4359240" cy="299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22760" y="1131840"/>
            <a:ext cx="4359240" cy="19209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International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60" y="1322280"/>
            <a:ext cx="4008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ew high valuable colors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ransparent galvanization to the light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Red LED for the keypad ligh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0160" y="3208320"/>
            <a:ext cx="4228920" cy="290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22760" y="3222720"/>
            <a:ext cx="4227480" cy="2851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9360" y="3492360"/>
            <a:ext cx="1104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ack de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88120" y="350532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ilver-b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84400" y="356868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73400" y="3670200"/>
            <a:ext cx="6602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0440" y="3772080"/>
            <a:ext cx="749520" cy="15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70360" y="1335240"/>
            <a:ext cx="40086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w/o cost adder: € 48,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itional cost adder: € 1,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,6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urrent BOM incl. 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51,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9093-2C09-4F94-A12A-F4910424877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2000" y="1160640"/>
            <a:ext cx="4359240" cy="11682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4600" y="3179880"/>
            <a:ext cx="4359240" cy="29937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22760" y="1131840"/>
            <a:ext cx="4359240" cy="11718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TMO US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360" y="1322280"/>
            <a:ext cx="400824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o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No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Specific color: Late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70360" y="1335240"/>
            <a:ext cx="40086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&amp; volu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NO additional cost adder to US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incl. risk adder: € 49.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mitted lifecycle volume: 775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7840" y="2500200"/>
            <a:ext cx="4749840" cy="3670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84400" y="288288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Late 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DEDF-6859-42E2-8DA6-FD69F8B6B2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86848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840" y="1306440"/>
            <a:ext cx="1749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06640" y="2684520"/>
            <a:ext cx="4968720" cy="1299600"/>
            <a:chOff x="2906640" y="2684520"/>
            <a:chExt cx="4968720" cy="1299600"/>
          </a:xfrm>
        </p:grpSpPr>
        <p:sp>
          <p:nvSpPr>
            <p:cNvPr id="139" name=""/>
            <p:cNvSpPr/>
            <p:nvPr/>
          </p:nvSpPr>
          <p:spPr>
            <a:xfrm>
              <a:off x="2906640" y="2684520"/>
              <a:ext cx="4968720" cy="129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3360" y="2684520"/>
              <a:ext cx="4917240" cy="12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PSR 24/1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Update sche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, Dec. 04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, Dec. 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8, Feb. 05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, Feb. 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4697280"/>
            <a:ext cx="21877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55960" y="4227480"/>
            <a:ext cx="4955760" cy="1580400"/>
            <a:chOff x="2955960" y="4227480"/>
            <a:chExt cx="4955760" cy="1580400"/>
          </a:xfrm>
        </p:grpSpPr>
        <p:sp>
          <p:nvSpPr>
            <p:cNvPr id="145" name=""/>
            <p:cNvSpPr/>
            <p:nvPr/>
          </p:nvSpPr>
          <p:spPr>
            <a:xfrm>
              <a:off x="2955960" y="4227480"/>
              <a:ext cx="4955760" cy="158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2680" y="4227480"/>
              <a:ext cx="490428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chanical design is 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W is same as Leop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MC/Antenna got the test result: Antenna retuning is NOT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necessary for international varia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ispo.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ndard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65680" y="1173240"/>
            <a:ext cx="253800" cy="715680"/>
            <a:chOff x="2065680" y="1173240"/>
            <a:chExt cx="253800" cy="715680"/>
          </a:xfrm>
        </p:grpSpPr>
        <p:sp>
          <p:nvSpPr>
            <p:cNvPr id="148" name=""/>
            <p:cNvSpPr/>
            <p:nvPr/>
          </p:nvSpPr>
          <p:spPr>
            <a:xfrm rot="5400000">
              <a:off x="1834560" y="14040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124720" y="12312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124720" y="14644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124720" y="16981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187120" y="1109520"/>
            <a:ext cx="380520" cy="944280"/>
            <a:chOff x="8187120" y="1109520"/>
            <a:chExt cx="380520" cy="944280"/>
          </a:xfrm>
        </p:grpSpPr>
        <p:sp>
          <p:nvSpPr>
            <p:cNvPr id="153" name=""/>
            <p:cNvSpPr/>
            <p:nvPr/>
          </p:nvSpPr>
          <p:spPr>
            <a:xfrm rot="5400000">
              <a:off x="7905240" y="1391400"/>
              <a:ext cx="944280" cy="38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8288280" y="117324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8288280" y="148140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8288280" y="1789560"/>
              <a:ext cx="185760" cy="208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926000" y="4398840"/>
            <a:ext cx="253800" cy="715680"/>
            <a:chOff x="1926000" y="4398840"/>
            <a:chExt cx="253800" cy="715680"/>
          </a:xfrm>
        </p:grpSpPr>
        <p:sp>
          <p:nvSpPr>
            <p:cNvPr id="158" name=""/>
            <p:cNvSpPr/>
            <p:nvPr/>
          </p:nvSpPr>
          <p:spPr>
            <a:xfrm rot="5400000">
              <a:off x="1694880" y="46296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1985040" y="44568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1985040" y="46900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985040" y="49237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1040" y="1125360"/>
            <a:ext cx="4962240" cy="1101600"/>
            <a:chOff x="2921040" y="1125360"/>
            <a:chExt cx="4962240" cy="1101600"/>
          </a:xfrm>
        </p:grpSpPr>
        <p:sp>
          <p:nvSpPr>
            <p:cNvPr id="163" name=""/>
            <p:cNvSpPr/>
            <p:nvPr/>
          </p:nvSpPr>
          <p:spPr>
            <a:xfrm>
              <a:off x="2921040" y="1125360"/>
              <a:ext cx="4962240" cy="110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57760" y="1125360"/>
              <a:ext cx="49107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SP: 70,72€   (Launch: 80€ ; EOL: 65€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olume: 2`26 Mio units (first shipment in 02/200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K: 57,03€  (BoM: 50,82€ ; CoC: 5,24€ ; V-Adder: 0,97€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fit: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`3 Mio € (0,17% of T/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ross Margin in FY04/05: 17`5 Mio 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71360" y="2967120"/>
            <a:ext cx="228600" cy="652320"/>
            <a:chOff x="1971360" y="2967120"/>
            <a:chExt cx="228600" cy="652320"/>
          </a:xfrm>
        </p:grpSpPr>
        <p:sp>
          <p:nvSpPr>
            <p:cNvPr id="166" name=""/>
            <p:cNvSpPr/>
            <p:nvPr/>
          </p:nvSpPr>
          <p:spPr>
            <a:xfrm rot="5400000">
              <a:off x="1759320" y="31788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2023560" y="302076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023560" y="3233520"/>
              <a:ext cx="128520" cy="1252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2023560" y="3446280"/>
              <a:ext cx="12852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D174-EB40-4EF5-96E3-59E04BD4985F}" type="slidenum">
              <a:t>5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6760" y="2776680"/>
            <a:ext cx="8040600" cy="9572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89560" y="1125360"/>
            <a:ext cx="1989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2000" y="1125360"/>
            <a:ext cx="1987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0080" y="113832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469880"/>
            <a:ext cx="795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k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760" y="1697040"/>
            <a:ext cx="8040600" cy="89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5600" y="2838600"/>
            <a:ext cx="21416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clude Risk adder into 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mote CF62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key count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080" y="2860560"/>
            <a:ext cx="1989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OM increase if volumes do not reach commitment which was given to suppliers (3`2m un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2846520"/>
            <a:ext cx="1463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rkus Ai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laf 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99280" y="285120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nd of Jan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360" y="1765440"/>
            <a:ext cx="20574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vailability of PTCRB approval in time (lea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16240" y="1809720"/>
            <a:ext cx="2281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rive approvals (R&amp;TTE, GCF, PTCRB)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6480" y="1741320"/>
            <a:ext cx="1349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uang Haiy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on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86680" y="177804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, Dec.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60440" y="1117440"/>
            <a:ext cx="1296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3160" y="1154160"/>
            <a:ext cx="12600" cy="50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32680" y="1139760"/>
            <a:ext cx="1260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BBB8-19C1-4660-948C-2682416B082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5320" y="351720"/>
            <a:ext cx="6553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opard refre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M1 Business Cas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31000" y="2084400"/>
            <a:ext cx="2954160" cy="40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80€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65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2/2005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Volum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`26 Mio units total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AC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13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EA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`14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21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78 Mio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includes “GS-risk-adder”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f 1,67€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reof 1,20€ for quantity risk and 0,47€ for single sour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Direct 0,6 Mio €, indirect 0,3 Mio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cc. to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1000" y="1266840"/>
            <a:ext cx="2954160" cy="79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104840"/>
          <a:ext cx="5505480" cy="59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4840"/>
                    <a:ext cx="550548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91C0-4744-449B-A829-975D597018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7120" y="1405080"/>
            <a:ext cx="383976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M1 is agreed,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2’26m volume to CF6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oss Margin in FY04/05: 17`6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enue in FY04/05: 159`5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68560" y="5626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000080" y="551988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22E6-5092-4AEF-93F2-CEBDF95F82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0A4F-1C6E-4CDD-91C7-E3AA37E0B21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dems1gf9</cp:lastModifiedBy>
  <cp:lastPrinted>2004-02-29T14:41:19Z</cp:lastPrinted>
  <dcterms:modified xsi:type="dcterms:W3CDTF">2004-12-09T19:04:55Z</dcterms:modified>
  <cp:revision>4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7735033</vt:r8>
  </property>
  <property fmtid="{D5CDD505-2E9C-101B-9397-08002B2CF9AE}" pid="3" name="_AuthorEmail">
    <vt:lpwstr>Markus.Aicher@siemens.com</vt:lpwstr>
  </property>
  <property fmtid="{D5CDD505-2E9C-101B-9397-08002B2CF9AE}" pid="4" name="_AuthorEmailDisplayName">
    <vt:lpwstr>Aicher Markus ICM MP PBM BA PG65</vt:lpwstr>
  </property>
  <property fmtid="{D5CDD505-2E9C-101B-9397-08002B2CF9AE}" pid="5" name="_EmailSubject">
    <vt:lpwstr>Slideset for M1 Declaration on PSR</vt:lpwstr>
  </property>
</Properties>
</file>