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720" y="4671720"/>
            <a:ext cx="5329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3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4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F5BE-4239-4338-BEC9-9BE9D2C6B1C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91BE-197D-48B7-B724-F4ACAB9778D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7498-69D4-47E7-96E8-12FD3EC3737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8F39-6188-4A67-AEB0-2E67E216743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85960" y="744480"/>
            <a:ext cx="4895640" cy="3672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61800" y="4524480"/>
            <a:ext cx="593424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TA shows that the project is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yhow,  the dependency of the Ulysses platform SW caused a 2weeks shift of the delivery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vertheless, the financial impact can be made up because of the high ROF with that the originally planned May volumes can be shifted completely to 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89000"/>
            <a:ext cx="88027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A8D65AC1-00A1-4A02-ABC4-E87B3D1C99B8}" type="datetime5">
              <a:rPr b="0" lang="de-DE" sz="1200" spc="-1" strike="noStrike">
                <a:solidFill>
                  <a:srgbClr val="000000"/>
                </a:solidFill>
                <a:latin typeface="Arial"/>
              </a:rPr>
              <a:t>30. Jul 20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40077818-FAD0-440E-BA77-636F5BE475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028000" y="189000"/>
            <a:ext cx="93672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40640" y="176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2924280"/>
            <a:ext cx="880128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9280" y="44280"/>
            <a:ext cx="8964360" cy="2781000"/>
            <a:chOff x="179280" y="44280"/>
            <a:chExt cx="8964360" cy="27810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79280" y="192240"/>
              <a:ext cx="8799480" cy="26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576280" y="44280"/>
              <a:ext cx="567360" cy="561960"/>
            </a:xfrm>
            <a:custGeom>
              <a:avLst/>
              <a:gdLst/>
              <a:ahLst/>
              <a:rect l="l" t="t" r="r" b="b"/>
              <a:pathLst>
                <a:path w="318" h="317">
                  <a:moveTo>
                    <a:pt x="0" y="0"/>
                  </a:moveTo>
                  <a:lnTo>
                    <a:pt x="318" y="0"/>
                  </a:lnTo>
                  <a:lnTo>
                    <a:pt x="318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8920" y="59130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land Aub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rn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hael Sch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12920" y="3213000"/>
            <a:ext cx="8318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IES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ful imaging ai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30,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4125960"/>
            <a:ext cx="5256360" cy="2332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od design accept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enario based on non-VDF exclusiv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P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2€;   CRP: 99€ launch, 75€ E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 only 20% of forecasted 23% Market Share in EMEA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09-12/05 range  (300k on risk)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ly minimum price can be realized for non-VF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stomers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843280"/>
            <a:ext cx="5256360" cy="12150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urrent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4,7% (=17‘5 €) profit vs. target 7,5% (= 27'9€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ce/Volume risk has impact of -17’1m EUR on profit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 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M risk has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act of -1‘1m EUR on prof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1123920"/>
            <a:ext cx="5256360" cy="1623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ies is necessary to stay with high volume product in VF live! (as well in other key customer’s) portfolio and to strengthen our low-end C-class w/ state of the art produ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ressable market (LC): 52' units, market share: 8%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EMEA 09-12/05 market share = 23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04" name=""/>
            <p:cNvSpPr/>
            <p:nvPr/>
          </p:nvSpPr>
          <p:spPr>
            <a:xfrm>
              <a:off x="689040" y="2757600"/>
              <a:ext cx="2233440" cy="2284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8640" y="3052800"/>
              <a:ext cx="1614240" cy="167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3387600"/>
              <a:ext cx="949320" cy="9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36640" y="3317760"/>
              <a:ext cx="1942920" cy="11224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7800" y="3297240"/>
              <a:ext cx="1927080" cy="11606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807920" y="2752560"/>
              <a:ext cx="4680" cy="228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7080" y="2778120"/>
              <a:ext cx="120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3760" y="3246480"/>
              <a:ext cx="1756080" cy="131760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920" y="35244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us 30.03.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minor but positive profitability deviations versus 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306864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lestone DS: Aug 19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delayed DS by 4 week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comparably short cycle time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f 6,25 months (M1 – D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463860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tailed planning incl. resources available with M1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1268280"/>
            <a:ext cx="5241960" cy="1671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very short timeline and working not according to standard process (mechanics and testing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duced milestone content requirements (shortened environmental test periods) to achieve timeli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 on minor quality issues for ramp up quant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24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7080" y="2778120"/>
              <a:ext cx="12096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89040" y="2752560"/>
              <a:ext cx="2233440" cy="2208240"/>
              <a:chOff x="689040" y="2752560"/>
              <a:chExt cx="2233440" cy="2208240"/>
            </a:xfrm>
          </p:grpSpPr>
          <p:sp>
            <p:nvSpPr>
              <p:cNvPr id="131" name=""/>
              <p:cNvSpPr/>
              <p:nvPr/>
            </p:nvSpPr>
            <p:spPr>
              <a:xfrm>
                <a:off x="689040" y="2757600"/>
                <a:ext cx="2233440" cy="2203200"/>
              </a:xfrm>
              <a:prstGeom prst="ellipse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98640" y="3052800"/>
                <a:ext cx="1614240" cy="1614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32000" y="3387600"/>
                <a:ext cx="949320" cy="941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836640" y="3317760"/>
                <a:ext cx="1942920" cy="1082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7800" y="3297240"/>
                <a:ext cx="1927080" cy="111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807920" y="2752560"/>
                <a:ext cx="4680" cy="2208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3760" y="3246480"/>
              <a:ext cx="1756080" cy="127008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30.03.05 – no deviations versus 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8320" y="12204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stone Trend Analysis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Status 24.03.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048" t="12662" r="8912" b="3166"/>
          <a:stretch/>
        </p:blipFill>
        <p:spPr>
          <a:xfrm>
            <a:off x="179280" y="1125360"/>
            <a:ext cx="6697800" cy="5183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129440" y="1125360"/>
            <a:ext cx="18352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1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8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1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1.02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15   0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     2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5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0.05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2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0.06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08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5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D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9.08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e1d3e"/>
                </a:solidFill>
                <a:latin typeface="Arial"/>
              </a:rPr>
              <a:t>S2 declared 8 days in advance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23360"/>
            <a:ext cx="855180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itical Path, Measure to be taken, Decision to be taken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120" y="1360440"/>
            <a:ext cx="861696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itical Path: </a:t>
            </a:r>
            <a:r>
              <a:rPr b="0" lang="en-US" sz="1700" spc="-1" strike="noStrike">
                <a:solidFill>
                  <a:srgbClr val="9e1d3e"/>
                </a:solidFill>
                <a:latin typeface="Arial"/>
              </a:rPr>
              <a:t>Mechanics/EMC-Antenna &gt;&gt; TA approval &amp; Product Quality at Laun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pected delay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-14 days         (delivery to VF  on  8.8.200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or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+28 days        (additional prototype run because of TA or major quality issu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st likel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0 day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&amp; Decisions to be tak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wh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ementation of HW tracking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tin Krepck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pid prototyping for early feedback loop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1.2 run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actional supplier deliveri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until S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ementation Contro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ekly HW and SW tracking round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716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00720" y="1855800"/>
            <a:ext cx="4468680" cy="44830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ni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 over LC decreased 0,19 € due to release button &amp; user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nse Fees over LC increased 0,07 € due to ARM/3D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of 0’9 m € since M1 based on new R&amp;D allocation forecast and P&amp;L Report (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G85 EGK Factor still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19440" y="1166760"/>
            <a:ext cx="446256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1003320"/>
          <a:ext cx="4305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03320"/>
                    <a:ext cx="4305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73160" y="6154560"/>
            <a:ext cx="446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w/o variant ad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83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0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pared to M1, the actual Business Case indicates +1’4 m EUR Profi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Key Parameters</a:t>
            </a:r>
            <a:br>
              <a:rPr sz="20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us as of 23rd March 200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79280" y="1197000"/>
          <a:ext cx="8820000" cy="3971880"/>
        </p:xfrm>
        <a:graphic>
          <a:graphicData uri="http://schemas.openxmlformats.org/drawingml/2006/table">
            <a:tbl>
              <a:tblPr/>
              <a:tblGrid>
                <a:gridCol w="1900080"/>
                <a:gridCol w="1984320"/>
                <a:gridCol w="1042920"/>
                <a:gridCol w="2003400"/>
                <a:gridCol w="1889280"/>
              </a:tblGrid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-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% (12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COGS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’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H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‘7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in indirect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2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TS lice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license/IPR/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ents (p.u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79280" y="5229360"/>
            <a:ext cx="3884760" cy="222120"/>
          </a:xfrm>
          <a:prstGeom prst="rect">
            <a:avLst/>
          </a:prstGeom>
          <a:solidFill>
            <a:srgbClr val="4c9bc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40" y="5256360"/>
            <a:ext cx="22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Further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5451480"/>
            <a:ext cx="3884760" cy="892080"/>
          </a:xfrm>
          <a:prstGeom prst="rect">
            <a:avLst/>
          </a:prstGeom>
          <a:solidFill>
            <a:srgbClr val="afc2c8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9000" y="5584680"/>
            <a:ext cx="3655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M decrease over LC not applicable as BOM is only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vailable as average value per 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5222880"/>
            <a:ext cx="3884760" cy="222120"/>
          </a:xfrm>
          <a:prstGeom prst="rect">
            <a:avLst/>
          </a:prstGeom>
          <a:solidFill>
            <a:srgbClr val="62646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5445000"/>
            <a:ext cx="3884760" cy="863640"/>
          </a:xfrm>
          <a:prstGeom prst="rect">
            <a:avLst/>
          </a:prstGeom>
          <a:solidFill>
            <a:srgbClr val="9e1d3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21080" y="5545080"/>
            <a:ext cx="2394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Mi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17‘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% of T/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4,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per Unit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4,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73040" y="5229360"/>
            <a:ext cx="152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844640"/>
            <a:ext cx="1628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1125360"/>
            <a:ext cx="2303280" cy="43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Cas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176688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ayed launch due to short timelin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1125360"/>
            <a:ext cx="388764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26080" y="1125360"/>
            <a:ext cx="2448000" cy="420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21400" y="176688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4160" y="1492200"/>
            <a:ext cx="6127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50080" y="1492200"/>
            <a:ext cx="12859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 margin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16760" y="1765440"/>
            <a:ext cx="10162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,03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6080" y="1770120"/>
            <a:ext cx="9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81760" y="1768320"/>
            <a:ext cx="10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000" y="22716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95520" y="220680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nimum price line realized over Lifecycle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32560" y="220680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7920" y="2205000"/>
            <a:ext cx="9288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,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7800" y="2776680"/>
            <a:ext cx="1629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6680" y="2711520"/>
            <a:ext cx="4010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185760" indent="-185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rget Market Share not realized in EMEA during Q1 FY05 leading to a reduction of 300ku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in China cancelled by region  affects all other Chinese SW varia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depending completely on VF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43720" y="271152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’0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39080" y="2709720"/>
            <a:ext cx="1006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,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90840" y="4437000"/>
            <a:ext cx="3665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 appl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125360"/>
            <a:ext cx="8785440" cy="36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840" y="44370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Risks &amp;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5041800"/>
            <a:ext cx="8713800" cy="15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to secure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t volume forecasts on country / customer level                                                       (Roland Aubauer)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om Area Operation Managers  until CW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ose failure tracking in VF approval phase                                                                (Roland Aubaue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333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2005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RIES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60" y="6676920"/>
            <a:ext cx="782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763640" y="1125360"/>
            <a:ext cx="7165800" cy="5180760"/>
            <a:chOff x="1763640" y="1125360"/>
            <a:chExt cx="7165800" cy="5180760"/>
          </a:xfrm>
        </p:grpSpPr>
        <p:sp>
          <p:nvSpPr>
            <p:cNvPr id="191" name=""/>
            <p:cNvSpPr/>
            <p:nvPr/>
          </p:nvSpPr>
          <p:spPr>
            <a:xfrm>
              <a:off x="1763640" y="1125360"/>
              <a:ext cx="7165800" cy="518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6920" y="1125360"/>
              <a:ext cx="7091280" cy="51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35280" y="1125360"/>
            <a:ext cx="712944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266760" indent="-266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High/Low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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2 declared – 1 week BEFORE M1-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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 on silver-copper EMI painting for metallization in uppe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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critical issues from environmental tests: MDF foil broken, static load not passed, joystick centricity 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önix, Sirius, Adonis, Arie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short intervals on one SW data base (ZI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 Worn SAR@0cm too high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currently no blocking point with respect to legal iss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gt;&gt; Counter measure implemented and tested posi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1.97W/kg(10g)@0cm (1TX) &gt;&gt; 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3.94W/kg(10g)@0cm (2TX) &gt;&gt; hint in user manual/ NEW SIEMENS guid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GL2005 defect priorization &amp; tracking finally sta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-IDB4 for DS SW stabilization will start on 18th of APRIL / Maintenance in BEJ  (DS schedule: 1) Phönix/Sirius, 2) Adonis, 3) Arie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vacuum metallization currently not suffici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&gt; Switch to silver-copper EMI painting decided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spec conformity of JIGs/metallization area to be confi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8240" y="141300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48428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68444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873080"/>
            <a:ext cx="14472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6840" y="2349360"/>
            <a:ext cx="173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Yellow traffic light, because B1 evaluation not finalized &amp; B1+ must have TA mat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2:52:45Z</dcterms:created>
  <dc:creator>Aeugle Thomas</dc:creator>
  <dc:description/>
  <dc:language>en-US</dc:language>
  <cp:lastModifiedBy>Roland Aubauer</cp:lastModifiedBy>
  <dcterms:modified xsi:type="dcterms:W3CDTF">2005-03-29T13:52:19Z</dcterms:modified>
  <cp:revision>15</cp:revision>
  <dc:subject/>
  <dc:title>Executive Summary Minos 1/2   Status 14.03.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0838590</vt:r8>
  </property>
  <property fmtid="{D5CDD505-2E9C-101B-9397-08002B2CF9AE}" pid="3" name="_AuthorEmail">
    <vt:lpwstr>roland.aubauer@siemens.com</vt:lpwstr>
  </property>
  <property fmtid="{D5CDD505-2E9C-101B-9397-08002B2CF9AE}" pid="4" name="_AuthorEmailDisplayName">
    <vt:lpwstr>Aubauer Roland Com MD PBM PG65</vt:lpwstr>
  </property>
  <property fmtid="{D5CDD505-2E9C-101B-9397-08002B2CF9AE}" pid="5" name="_EmailSubject">
    <vt:lpwstr>PSR_ARIES_C75_300305_1.ppt</vt:lpwstr>
  </property>
</Properties>
</file>