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C94-C690-49A6-B6FD-FA66C950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FD49-491B-410E-978F-02BD4491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6BFA-B77D-46A7-A7F9-8875CD9E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3F7-9584-44F7-B77E-B5340DDA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B95-E00A-4900-AF9B-EE69A23F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74D-A49B-4349-81D8-2C310947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240-8B89-435F-82EC-B68AB2D9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59A-9618-46A2-808E-C733C89F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3851-8E5F-4A17-BEA2-FAB2B812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C9AE-DDF0-4AC1-8C45-52F25B52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B1D-A6BD-40AF-AC28-56F612C3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B09-5F5F-4C6E-A73E-A9FBC844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DBE8-76A0-4281-BAC5-C3C94DBA136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62C3966F-1F92-403D-A85C-F8B86FA70E1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hpa8tdc.mchp.siemens.de:8000/sap/bc/bsp/sap/zcrlight_mvc/crmain.do?ACTION=list&amp;CR_REQ_NUMBER=0000000196" TargetMode="External"/><Relationship Id="rId2" Type="http://schemas.openxmlformats.org/officeDocument/2006/relationships/hyperlink" Target="http://mhpa8tdc.mchp.siemens.de:8000/sap/bc/bsp/sap/zcrlight_frame/default.htm?ACTION=display&amp;CR_REQ_NUMBER=0000000135" TargetMode="External"/><Relationship Id="rId3" Type="http://schemas.openxmlformats.org/officeDocument/2006/relationships/hyperlink" Target="http://mchp72ra.mch.sbs.de:8002/sap/bc/bsp/sap/zcrlight_mvc/crmain.do?ACTION=list&amp;CR_REQ_NUMBER=0000000123" TargetMode="External"/><Relationship Id="rId4" Type="http://schemas.openxmlformats.org/officeDocument/2006/relationships/hyperlink" Target="http://mchp72ra.mch.sbs.de:8002/sap/bc/bsp/sap/zcrlight_mvc/crmain.do?ACTION=list&amp;CR_REQ_NUMBER=0000000516" TargetMode="Externa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0920" y="473400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R </a:t>
            </a:r>
            <a:br>
              <a:rPr sz="6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75 SG2 Software Status, 04.05.05 </a:t>
            </a:r>
            <a:br>
              <a:rPr sz="2800"/>
            </a:b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latform Project Manager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lrike Hark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roject Manager Mino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fan Miehl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roject Manager Hydra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emming Mikaels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roject Manager Customisation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lrich Mey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519" t="0" r="0" b="0"/>
          <a:stretch/>
        </p:blipFill>
        <p:spPr>
          <a:xfrm>
            <a:off x="162000" y="139680"/>
            <a:ext cx="8816760" cy="2656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437000" y="3833640"/>
            <a:ext cx="4500720" cy="256572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2000" y="3833640"/>
            <a:ext cx="4275000" cy="25657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2000" y="1133640"/>
            <a:ext cx="8775720" cy="2609640"/>
          </a:xfrm>
          <a:prstGeom prst="rect">
            <a:avLst/>
          </a:prstGeom>
          <a:solidFill>
            <a:srgbClr val="c0c0c0">
              <a:alpha val="8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75 SG2 SW Milestone status and suc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3936960"/>
            <a:ext cx="40957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 Production SW for Minos and Hyd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1+ test ongoing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T, Accessory support provi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280" y="1224000"/>
            <a:ext cx="8731440" cy="24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ached Milestones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Next Milestones according pla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latform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o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Hydra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S25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2.07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D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14.10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Next Milestones (challenge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S25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5.07.05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D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7.10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P8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27720" y="3929040"/>
            <a:ext cx="4365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ature s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P 8: B1+ test &amp; B2 Production 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9560" y="18331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65280" y="18331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8120" y="21823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71760" y="21823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8120" y="25729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71760" y="25729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1640" y="29350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65280" y="29350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4320" y="18331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21808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2520" y="25729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4320" y="29332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7000" y="1133640"/>
            <a:ext cx="0" cy="22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712360" y="6443640"/>
            <a:ext cx="43164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37000" y="5049720"/>
            <a:ext cx="4500720" cy="134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27720" y="5094360"/>
            <a:ext cx="427500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MMI 2,75 on ris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WI targets progr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75% Level 2 &amp; Level 3 ‚in use‘ reache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- Assessment in 06/05 to be discu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000" y="3159000"/>
            <a:ext cx="540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97000" y="342900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Arial"/>
              </a:rPr>
              <a:t>~4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2000" y="3294000"/>
            <a:ext cx="877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62360" y="3342600"/>
            <a:ext cx="495360" cy="366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81280" y="3429000"/>
            <a:ext cx="22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Arial"/>
              </a:rPr>
              <a:t>01.04.05 =&gt; 28.04.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62360" y="2488680"/>
            <a:ext cx="49536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62360" y="2893320"/>
            <a:ext cx="49536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50920" y="2394000"/>
            <a:ext cx="2656080" cy="3465360"/>
          </a:xfrm>
          <a:prstGeom prst="rect">
            <a:avLst/>
          </a:prstGeom>
          <a:solidFill>
            <a:srgbClr val="ae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1640" y="2664000"/>
            <a:ext cx="990720" cy="3195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2360" y="2664000"/>
            <a:ext cx="1170000" cy="319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2360" y="2664000"/>
            <a:ext cx="0" cy="328608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1640" y="2349360"/>
            <a:ext cx="0" cy="35546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141280" y="1494000"/>
            <a:ext cx="44280" cy="4456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86640" y="1898640"/>
            <a:ext cx="0" cy="4005360"/>
          </a:xfrm>
          <a:prstGeom prst="line">
            <a:avLst/>
          </a:prstGeom>
          <a:ln w="38160">
            <a:solidFill>
              <a:srgbClr val="62646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6372360" y="1673280"/>
            <a:ext cx="676080" cy="450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43080" y="4238640"/>
            <a:ext cx="0" cy="16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062000" y="1494000"/>
            <a:ext cx="44640" cy="4456080"/>
          </a:xfrm>
          <a:prstGeom prst="line">
            <a:avLst/>
          </a:prstGeom>
          <a:ln w="255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75 SG2 SW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6280" y="5904000"/>
            <a:ext cx="846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727000" y="4059360"/>
            <a:ext cx="4680" cy="184608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50920" y="1223640"/>
            <a:ext cx="0" cy="477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2303640"/>
            <a:ext cx="0" cy="36446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6640" y="60339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5120" y="60357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94040" y="60357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46280" y="6033960"/>
            <a:ext cx="1079280" cy="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17720" y="6308640"/>
            <a:ext cx="31572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38440" y="6488280"/>
            <a:ext cx="134640" cy="134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7720" y="6488280"/>
            <a:ext cx="315720" cy="13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8440" y="6308640"/>
            <a:ext cx="135000" cy="135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48080" y="6308640"/>
            <a:ext cx="157464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20680" y="5778360"/>
            <a:ext cx="0" cy="22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17640" y="603252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85920" y="579600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57640" y="578808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36920" y="579600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5120" y="579276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11280" y="4778280"/>
            <a:ext cx="0" cy="113832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7000" y="6039000"/>
            <a:ext cx="107928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16640" y="579600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22360" y="4194000"/>
            <a:ext cx="0" cy="17114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836640" y="1493640"/>
            <a:ext cx="541440" cy="314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29360" y="60357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61440" y="5805360"/>
            <a:ext cx="0" cy="22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02360" y="1989000"/>
            <a:ext cx="0" cy="391500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51640" y="2573280"/>
            <a:ext cx="1125720" cy="139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o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-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ange Help/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omesc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fus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92720" y="2573280"/>
            <a:ext cx="1125720" cy="8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Video/ Audio streaming Audio progr. down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000" y="3427560"/>
            <a:ext cx="1844280" cy="264960"/>
            <a:chOff x="297000" y="3427560"/>
            <a:chExt cx="1844280" cy="264960"/>
          </a:xfrm>
        </p:grpSpPr>
        <p:sp>
          <p:nvSpPr>
            <p:cNvPr id="202" name=""/>
            <p:cNvSpPr/>
            <p:nvPr/>
          </p:nvSpPr>
          <p:spPr>
            <a:xfrm>
              <a:off x="297000" y="3427560"/>
              <a:ext cx="1844280" cy="264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9520" y="3427560"/>
              <a:ext cx="16606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Arial"/>
                </a:rPr>
                <a:t>DoJa/Java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/AppCnt/U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97000" y="3743280"/>
            <a:ext cx="2025360" cy="271440"/>
            <a:chOff x="297000" y="3743280"/>
            <a:chExt cx="2025360" cy="271440"/>
          </a:xfrm>
        </p:grpSpPr>
        <p:sp>
          <p:nvSpPr>
            <p:cNvPr id="205" name=""/>
            <p:cNvSpPr/>
            <p:nvPr/>
          </p:nvSpPr>
          <p:spPr>
            <a:xfrm>
              <a:off x="297000" y="3743280"/>
              <a:ext cx="2025360" cy="2714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1280" y="3781800"/>
              <a:ext cx="189036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ppMsg/MM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97000" y="4057560"/>
            <a:ext cx="2430360" cy="265320"/>
            <a:chOff x="297000" y="4057560"/>
            <a:chExt cx="2430360" cy="265320"/>
          </a:xfrm>
        </p:grpSpPr>
        <p:sp>
          <p:nvSpPr>
            <p:cNvPr id="208" name=""/>
            <p:cNvSpPr/>
            <p:nvPr/>
          </p:nvSpPr>
          <p:spPr>
            <a:xfrm>
              <a:off x="297000" y="4057560"/>
              <a:ext cx="2430360" cy="265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2360" y="4095360"/>
              <a:ext cx="2025720" cy="1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BS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738440" y="6308640"/>
            <a:ext cx="134640" cy="135000"/>
          </a:xfrm>
          <a:prstGeom prst="rect">
            <a:avLst/>
          </a:prstGeom>
          <a:blipFill rotWithShape="0">
            <a:blip r:embed="rId3">
              <a:alphaModFix amt="56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1915920" y="1493640"/>
            <a:ext cx="541080" cy="314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6640" y="1224000"/>
            <a:ext cx="1620720" cy="181080"/>
          </a:xfrm>
          <a:custGeom>
            <a:avLst/>
            <a:gdLst>
              <a:gd name="textAreaLeft" fmla="*/ 283680 w 1620720"/>
              <a:gd name="textAreaRight" fmla="*/ 1175040 w 162072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50920" y="1224000"/>
            <a:ext cx="76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6280" y="1179360"/>
            <a:ext cx="1395360" cy="225720"/>
          </a:xfrm>
          <a:custGeom>
            <a:avLst/>
            <a:gdLst>
              <a:gd name="textAreaLeft" fmla="*/ 244080 w 1395360"/>
              <a:gd name="textAreaRight" fmla="*/ 1011600 w 1395360"/>
              <a:gd name="textAreaTop" fmla="*/ 30240 h 225720"/>
              <a:gd name="textAreaBottom" fmla="*/ 195480 h 225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97360" y="1179360"/>
            <a:ext cx="989280" cy="223920"/>
          </a:xfrm>
          <a:custGeom>
            <a:avLst/>
            <a:gdLst>
              <a:gd name="textAreaLeft" fmla="*/ 173160 w 989280"/>
              <a:gd name="textAreaRight" fmla="*/ 717480 w 989280"/>
              <a:gd name="textAreaTop" fmla="*/ 29880 h 223920"/>
              <a:gd name="textAreaBottom" fmla="*/ 194040 h 223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0800000">
            <a:off x="6372360" y="1403280"/>
            <a:ext cx="676080" cy="449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2360" y="1584360"/>
            <a:ext cx="0" cy="43196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2360" y="1719360"/>
            <a:ext cx="0" cy="423072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1640" y="2438280"/>
            <a:ext cx="216072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nned Stab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62360" y="2349360"/>
            <a:ext cx="297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6280" y="2168640"/>
            <a:ext cx="13953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3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597720" y="1224000"/>
            <a:ext cx="449280" cy="181080"/>
          </a:xfrm>
          <a:custGeom>
            <a:avLst/>
            <a:gdLst>
              <a:gd name="textAreaLeft" fmla="*/ 78840 w 449280"/>
              <a:gd name="textAreaRight" fmla="*/ 326160 w 44928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8440" y="6488280"/>
            <a:ext cx="135000" cy="134640"/>
          </a:xfrm>
          <a:prstGeom prst="rect">
            <a:avLst/>
          </a:prstGeom>
          <a:solidFill>
            <a:srgbClr val="aed0ee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48080" y="6488280"/>
            <a:ext cx="1574640" cy="13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ystemtest based on I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0800000">
            <a:off x="3715920" y="1494000"/>
            <a:ext cx="630360" cy="350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3446280" y="1493640"/>
            <a:ext cx="595080" cy="3171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7720" y="2394000"/>
            <a:ext cx="44280" cy="351000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97360" y="1089000"/>
            <a:ext cx="76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Challenge+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13080" y="6308640"/>
            <a:ext cx="135000" cy="135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92720" y="6308640"/>
            <a:ext cx="297000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hallenged new Milestones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41280" y="5229360"/>
            <a:ext cx="1170000" cy="269640"/>
            <a:chOff x="341280" y="5229360"/>
            <a:chExt cx="1170000" cy="269640"/>
          </a:xfrm>
        </p:grpSpPr>
        <p:sp>
          <p:nvSpPr>
            <p:cNvPr id="232" name=""/>
            <p:cNvSpPr/>
            <p:nvPr/>
          </p:nvSpPr>
          <p:spPr>
            <a:xfrm>
              <a:off x="341280" y="5229360"/>
              <a:ext cx="1170000" cy="269640"/>
            </a:xfrm>
            <a:prstGeom prst="rect">
              <a:avLst/>
            </a:prstGeom>
            <a:blipFill rotWithShape="0">
              <a:blip r:embed="rId4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6280" y="5267160"/>
              <a:ext cx="7650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nalo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41280" y="4915080"/>
            <a:ext cx="1170000" cy="268200"/>
            <a:chOff x="341280" y="4915080"/>
            <a:chExt cx="1170000" cy="268200"/>
          </a:xfrm>
        </p:grpSpPr>
        <p:sp>
          <p:nvSpPr>
            <p:cNvPr id="235" name=""/>
            <p:cNvSpPr/>
            <p:nvPr/>
          </p:nvSpPr>
          <p:spPr>
            <a:xfrm>
              <a:off x="341280" y="4915080"/>
              <a:ext cx="1170000" cy="268200"/>
            </a:xfrm>
            <a:prstGeom prst="rect">
              <a:avLst/>
            </a:prstGeom>
            <a:blipFill rotWithShape="0">
              <a:blip r:embed="rId5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80" y="4952520"/>
              <a:ext cx="76500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41280" y="5543640"/>
            <a:ext cx="1170000" cy="271440"/>
            <a:chOff x="341280" y="5543640"/>
            <a:chExt cx="1170000" cy="271440"/>
          </a:xfrm>
        </p:grpSpPr>
        <p:sp>
          <p:nvSpPr>
            <p:cNvPr id="238" name=""/>
            <p:cNvSpPr/>
            <p:nvPr/>
          </p:nvSpPr>
          <p:spPr>
            <a:xfrm>
              <a:off x="341280" y="5543640"/>
              <a:ext cx="1170000" cy="271440"/>
            </a:xfrm>
            <a:prstGeom prst="rect">
              <a:avLst/>
            </a:prstGeom>
            <a:blipFill rotWithShape="0">
              <a:blip r:embed="rId6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6280" y="5582160"/>
              <a:ext cx="76500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BasicMM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V="1">
            <a:off x="1511280" y="432864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0800000">
            <a:off x="1241280" y="4689000"/>
            <a:ext cx="541440" cy="314280"/>
          </a:xfrm>
          <a:prstGeom prst="triangle">
            <a:avLst>
              <a:gd name="adj" fmla="val 50000"/>
            </a:avLst>
          </a:prstGeom>
          <a:solidFill>
            <a:srgbClr val="7469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97000" y="3112920"/>
            <a:ext cx="1349280" cy="263520"/>
            <a:chOff x="297000" y="3112920"/>
            <a:chExt cx="1349280" cy="263520"/>
          </a:xfrm>
        </p:grpSpPr>
        <p:sp>
          <p:nvSpPr>
            <p:cNvPr id="243" name=""/>
            <p:cNvSpPr/>
            <p:nvPr/>
          </p:nvSpPr>
          <p:spPr>
            <a:xfrm>
              <a:off x="297000" y="3112920"/>
              <a:ext cx="1349280" cy="26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7320" y="3151800"/>
              <a:ext cx="108792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75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 rot="10800000">
            <a:off x="1376280" y="2887200"/>
            <a:ext cx="541440" cy="31428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46280" y="3292560"/>
            <a:ext cx="2116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1871640" y="3157200"/>
            <a:ext cx="541440" cy="3142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85920" y="3652920"/>
            <a:ext cx="1576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2050920" y="3517560"/>
            <a:ext cx="541440" cy="3142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51280" y="347328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7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22360" y="392436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51280" y="311292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51280" y="374328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6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57360" y="3833640"/>
            <a:ext cx="541440" cy="3146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51280" y="405756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4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27360" y="4238640"/>
            <a:ext cx="1035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42000" y="2349360"/>
            <a:ext cx="153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46280" y="2168640"/>
            <a:ext cx="11257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5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1640" y="234936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2360" y="2349360"/>
            <a:ext cx="1214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210920" y="6489720"/>
            <a:ext cx="135000" cy="135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92720" y="6489720"/>
            <a:ext cx="157464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2 test du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61280" y="1989000"/>
            <a:ext cx="0" cy="391500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800000">
            <a:off x="7812000" y="1494000"/>
            <a:ext cx="811440" cy="630000"/>
          </a:xfrm>
          <a:prstGeom prst="triangle">
            <a:avLst>
              <a:gd name="adj" fmla="val 50000"/>
            </a:avLst>
          </a:prstGeom>
          <a:solidFill>
            <a:srgbClr val="98e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721640" y="4103640"/>
            <a:ext cx="1216080" cy="82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F Live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F Classli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as M1, without CR 2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128080" y="2349360"/>
            <a:ext cx="585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27720" y="1224000"/>
            <a:ext cx="765360" cy="9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7000" y="4689360"/>
            <a:ext cx="720720" cy="365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TI last deli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67360" y="2168640"/>
            <a:ext cx="161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681280" y="432864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97720" y="1584360"/>
            <a:ext cx="1351080" cy="365400"/>
          </a:xfrm>
          <a:prstGeom prst="rect">
            <a:avLst/>
          </a:prstGeom>
          <a:solidFill>
            <a:srgbClr val="ffffff">
              <a:alpha val="9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or Approval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07000" y="1089000"/>
            <a:ext cx="765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Challenge+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4898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75 SG2 SW: Countermeasures to reduce risks for S25/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76280" y="1719360"/>
            <a:ext cx="7966080" cy="361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priority CR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5920" y="1179360"/>
          <a:ext cx="8475480" cy="4918320"/>
        </p:xfrm>
        <a:graphic>
          <a:graphicData uri="http://schemas.openxmlformats.org/drawingml/2006/table">
            <a:tbl>
              <a:tblPr/>
              <a:tblGrid>
                <a:gridCol w="1049040"/>
                <a:gridCol w="2432160"/>
                <a:gridCol w="4994280"/>
              </a:tblGrid>
              <a:tr h="51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 numb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statu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17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profiles for Consortia Initialis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17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F UE Compliance C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2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SC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not be 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e to JAV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s impacted (800 hour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7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3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lations of second level of Media Fold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 be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restriction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hat it will be stopped if there is a risk for stabilization of DS software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CR 0019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mini monitor (no open b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7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CR 001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alpha transparency of PNG format for ic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ift to Rel2 (X8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CR 001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mented Reality API for Jav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ift to Rel2 (X8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CR 005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w DRM details in File Attributes scree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920" y="279360"/>
            <a:ext cx="8299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s to secure S2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1280" y="1133280"/>
            <a:ext cx="7875720" cy="52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cooperation between SW and Systemt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sion IDB SW to system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dback about test results of Sytemtest based on IDB SW &amp; Release 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OT starting 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ily status quo and prio decision between SW and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in the past: B1+ test, B2 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in the future: Ensure early type/operator approval for Systemtest (ST1/ST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outstanding deliveries weekly 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ation of IP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rporation of the adapted integration sce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urance of weekly SW delivery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tion and installation of Interface change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sion of Lintable SW on CDB and I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ment of CM setup (Mch, Bej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allation of integration camps and increased onsite support by dedicated team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, Accessories,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camp in case of neces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itional budget and ressources to ensure MM time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site support of supplier e.g. PacketVideo in A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279360"/>
            <a:ext cx="8299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F 11/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1640" y="1403280"/>
            <a:ext cx="7920360" cy="36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v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F Class Librarie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 class libraries (com.vodafone.util, com.vodafone.lcdui)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 class libraries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R 26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(com.vodafone.system, com.vodafone.midlet)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valuation continued with low priority to ensure TT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ffort CR 2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C_JAVA: Effort: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800 h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; 20000,-€ additional costs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ppIDC: Effort: 84h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Browser: Effort: 40h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ppMsg: Effort: 32h; 2100,-€ additional costs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PIM: Effort: 99h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no other components affect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Ulrike Harke, ICM CP RD</cp:lastModifiedBy>
  <cp:lastPrinted>2004-03-18T12:12:20Z</cp:lastPrinted>
  <dcterms:modified xsi:type="dcterms:W3CDTF">2005-05-03T10:02:51Z</dcterms:modified>
  <cp:revision>9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66802172</vt:r8>
  </property>
  <property fmtid="{D5CDD505-2E9C-101B-9397-08002B2CF9AE}" pid="3" name="_AuthorEmail">
    <vt:lpwstr>ulrike.harke@siemens.com</vt:lpwstr>
  </property>
  <property fmtid="{D5CDD505-2E9C-101B-9397-08002B2CF9AE}" pid="4" name="_AuthorEmailDisplayName">
    <vt:lpwstr>Harke Ulrike Com CPE PMD D SD 1</vt:lpwstr>
  </property>
  <property fmtid="{D5CDD505-2E9C-101B-9397-08002B2CF9AE}" pid="5" name="_EmailSubject">
    <vt:lpwstr>PSR 04.05.05</vt:lpwstr>
  </property>
  <property fmtid="{D5CDD505-2E9C-101B-9397-08002B2CF9AE}" pid="6" name="_PreviousAdHocReviewCycleID">
    <vt:r8>490686221</vt:r8>
  </property>
</Properties>
</file>