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A7F3-46F0-4AB1-AE58-A523493A8DE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F05D-D750-4598-8ED9-936B13FEF98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440" y="4792320"/>
            <a:ext cx="54831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6080" y="4484520"/>
            <a:ext cx="1942920" cy="18864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7" idx="0"/>
            <a:endCxn id="337" idx="1"/>
          </p:cNvCxnSpPr>
          <p:nvPr/>
        </p:nvCxnSpPr>
        <p:spPr>
          <a:xfrm>
            <a:off x="661680" y="4565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339" name=""/>
          <p:cNvCxnSpPr>
            <a:stCxn id="337" idx="2"/>
            <a:endCxn id="337" idx="3"/>
          </p:cNvCxnSpPr>
          <p:nvPr/>
        </p:nvCxnSpPr>
        <p:spPr>
          <a:xfrm>
            <a:off x="661680" y="4754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9566-46B1-4E7A-A39A-884C30B1FCA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440" y="4792320"/>
            <a:ext cx="54831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6080" y="4484520"/>
            <a:ext cx="1942920" cy="18864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0"/>
            <a:endCxn id="346" idx="1"/>
          </p:cNvCxnSpPr>
          <p:nvPr/>
        </p:nvCxnSpPr>
        <p:spPr>
          <a:xfrm>
            <a:off x="661680" y="4565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348" name=""/>
          <p:cNvCxnSpPr>
            <a:stCxn id="346" idx="2"/>
            <a:endCxn id="346" idx="3"/>
          </p:cNvCxnSpPr>
          <p:nvPr/>
        </p:nvCxnSpPr>
        <p:spPr>
          <a:xfrm>
            <a:off x="661680" y="4754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8398-0904-4246-AF05-7700098F6E2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41480" y="755640"/>
            <a:ext cx="4844880" cy="3633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2840" y="4619160"/>
            <a:ext cx="50292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9A4B-E972-4EF4-BA69-61723271FA6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6840" y="736560"/>
            <a:ext cx="4861080" cy="3645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374760" y="4486320"/>
            <a:ext cx="61005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0256-EB77-4803-8263-6599E24F996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90CF-1467-4D8F-A367-7031BB61460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© Siemens      SISK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     PSR on May 4th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94920" y="420660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 MD PLM Emily Zhao,  Carlos Schmidt,  Paul X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skin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“Fashionable snapshot phon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duct Status Report at M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519" t="0" r="0" b="0"/>
          <a:stretch/>
        </p:blipFill>
        <p:spPr>
          <a:xfrm>
            <a:off x="162000" y="142920"/>
            <a:ext cx="8816760" cy="2655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21480" y="6308640"/>
            <a:ext cx="134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April 29th,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12920" y="2998800"/>
            <a:ext cx="2143080" cy="295128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5600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9728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40360" y="2998800"/>
            <a:ext cx="214164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82800" y="3057480"/>
            <a:ext cx="19144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176*220, 260K TF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 Mpix camera/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5M shared memory + T-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 &amp;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24440" y="3057480"/>
            <a:ext cx="19159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176*220, 260K TFT, 2nd display 65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/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96M shared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 &amp; 40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67520" y="3057480"/>
            <a:ext cx="19144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:260K TFD, 240*3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5M shared memory+SD c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64 poly &amp; 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82800" y="4525920"/>
            <a:ext cx="1914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2nd display 4096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ize:88x47x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67520" y="4587840"/>
            <a:ext cx="191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2nd display 120* 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ize: 105*49*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9720" y="3173400"/>
            <a:ext cx="19162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260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1.3Mpix came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Size: 93x46x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9720" y="4641840"/>
            <a:ext cx="19162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size: 128*160,               2nd display 96*64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No 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Siskin Competi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2920" y="1160640"/>
            <a:ext cx="2143080" cy="56196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1160640"/>
            <a:ext cx="21430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99080" y="1160640"/>
            <a:ext cx="21412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40360" y="1160640"/>
            <a:ext cx="214164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908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2920" y="17226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5600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4036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2920" y="29988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2920" y="447372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76040" y="3575160"/>
            <a:ext cx="322560" cy="322200"/>
            <a:chOff x="176040" y="3575160"/>
            <a:chExt cx="322560" cy="322200"/>
          </a:xfrm>
        </p:grpSpPr>
        <p:sp>
          <p:nvSpPr>
            <p:cNvPr id="214" name=""/>
            <p:cNvSpPr/>
            <p:nvPr/>
          </p:nvSpPr>
          <p:spPr>
            <a:xfrm>
              <a:off x="176040" y="3575160"/>
              <a:ext cx="322560" cy="322200"/>
            </a:xfrm>
            <a:prstGeom prst="ellipse">
              <a:avLst/>
            </a:prstGeom>
            <a:solidFill>
              <a:srgbClr val="d46028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6600" y="3651120"/>
              <a:ext cx="0" cy="168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2360" y="373536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76040" y="5049720"/>
            <a:ext cx="322560" cy="322560"/>
            <a:chOff x="176040" y="5049720"/>
            <a:chExt cx="322560" cy="322560"/>
          </a:xfrm>
        </p:grpSpPr>
        <p:sp>
          <p:nvSpPr>
            <p:cNvPr id="218" name=""/>
            <p:cNvSpPr/>
            <p:nvPr/>
          </p:nvSpPr>
          <p:spPr>
            <a:xfrm>
              <a:off x="176040" y="5049720"/>
              <a:ext cx="322560" cy="3225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2360" y="521028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117440" y="1212840"/>
            <a:ext cx="733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emens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32800" y="1212840"/>
            <a:ext cx="802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torola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V6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24200" y="1212840"/>
            <a:ext cx="496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G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5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5400" y="1212840"/>
            <a:ext cx="881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tsubishi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9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27160" y="1770120"/>
            <a:ext cx="714240" cy="11826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Motorola V635&#10;MORE PICTURES"/>
          <p:cNvPicPr/>
          <p:nvPr/>
        </p:nvPicPr>
        <p:blipFill>
          <a:blip r:embed="rId1"/>
          <a:stretch/>
        </p:blipFill>
        <p:spPr>
          <a:xfrm>
            <a:off x="3106800" y="1763640"/>
            <a:ext cx="877680" cy="1160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LG L5100&#10;MORE PICTURES"/>
          <p:cNvPicPr/>
          <p:nvPr/>
        </p:nvPicPr>
        <p:blipFill>
          <a:blip r:embed="rId2"/>
          <a:stretch/>
        </p:blipFill>
        <p:spPr>
          <a:xfrm>
            <a:off x="5457960" y="1830240"/>
            <a:ext cx="860400" cy="968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100480" y="1838160"/>
            <a:ext cx="471600" cy="941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Mitsubishi M430i/M900&#10;MORE PICTURES"/>
          <p:cNvPicPr/>
          <p:nvPr/>
        </p:nvPicPr>
        <p:blipFill>
          <a:blip r:embed="rId4"/>
          <a:stretch/>
        </p:blipFill>
        <p:spPr>
          <a:xfrm>
            <a:off x="7400880" y="1747800"/>
            <a:ext cx="906480" cy="1050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12920" y="2998800"/>
            <a:ext cx="2143080" cy="295128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5600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9728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40360" y="2998800"/>
            <a:ext cx="214164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82800" y="3057480"/>
            <a:ext cx="191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24440" y="3057480"/>
            <a:ext cx="19159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260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ize: 176*220, 2nd display 65K O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/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90M shard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 &amp; 64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67520" y="3057480"/>
            <a:ext cx="19144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260K TFT , 176*220, 2nd display O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50M shared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64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82800" y="4525920"/>
            <a:ext cx="191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:128*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hickness: 24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Versus the Compet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2920" y="1160640"/>
            <a:ext cx="2143080" cy="56196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1160640"/>
            <a:ext cx="21430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99080" y="1160640"/>
            <a:ext cx="21412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40360" y="1160640"/>
            <a:ext cx="214164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9908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2920" y="17226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5600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2920" y="29988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2920" y="447372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6040" y="3575160"/>
            <a:ext cx="322560" cy="322200"/>
            <a:chOff x="176040" y="3575160"/>
            <a:chExt cx="322560" cy="322200"/>
          </a:xfrm>
        </p:grpSpPr>
        <p:sp>
          <p:nvSpPr>
            <p:cNvPr id="251" name=""/>
            <p:cNvSpPr/>
            <p:nvPr/>
          </p:nvSpPr>
          <p:spPr>
            <a:xfrm>
              <a:off x="176040" y="3575160"/>
              <a:ext cx="322560" cy="322200"/>
            </a:xfrm>
            <a:prstGeom prst="ellipse">
              <a:avLst/>
            </a:prstGeom>
            <a:solidFill>
              <a:srgbClr val="d46028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6600" y="3651120"/>
              <a:ext cx="0" cy="168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2360" y="373536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76040" y="5049720"/>
            <a:ext cx="322560" cy="322560"/>
            <a:chOff x="176040" y="5049720"/>
            <a:chExt cx="322560" cy="322560"/>
          </a:xfrm>
        </p:grpSpPr>
        <p:sp>
          <p:nvSpPr>
            <p:cNvPr id="255" name=""/>
            <p:cNvSpPr/>
            <p:nvPr/>
          </p:nvSpPr>
          <p:spPr>
            <a:xfrm>
              <a:off x="176040" y="5049720"/>
              <a:ext cx="322560" cy="3225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2360" y="521028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117440" y="1212840"/>
            <a:ext cx="733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emens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53600" y="1212840"/>
            <a:ext cx="960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nostrea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74080" y="1212840"/>
            <a:ext cx="801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amsung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E7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11400" y="1198440"/>
            <a:ext cx="8236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ams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GH z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27160" y="1770120"/>
            <a:ext cx="714240" cy="11826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53160" y="1770120"/>
            <a:ext cx="714600" cy="11826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Benchm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9720" y="3173400"/>
            <a:ext cx="19162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260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1.3Mpix came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Size: 93x46x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9720" y="4641840"/>
            <a:ext cx="19162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size: 128*160, 2nd display 96*64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No 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Samsung E720&#10;MORE PICTURES"/>
          <p:cNvPicPr/>
          <p:nvPr/>
        </p:nvPicPr>
        <p:blipFill>
          <a:blip r:embed="rId1"/>
          <a:stretch/>
        </p:blipFill>
        <p:spPr>
          <a:xfrm>
            <a:off x="5334120" y="1763640"/>
            <a:ext cx="876240" cy="1160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Innostream A10"/>
          <p:cNvPicPr/>
          <p:nvPr/>
        </p:nvPicPr>
        <p:blipFill>
          <a:blip r:embed="rId2"/>
          <a:stretch/>
        </p:blipFill>
        <p:spPr>
          <a:xfrm>
            <a:off x="3051000" y="1735200"/>
            <a:ext cx="876600" cy="1160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Samsung Z300"/>
          <p:cNvPicPr/>
          <p:nvPr/>
        </p:nvPicPr>
        <p:blipFill>
          <a:blip r:embed="rId3"/>
          <a:stretch/>
        </p:blipFill>
        <p:spPr>
          <a:xfrm>
            <a:off x="7345440" y="1754280"/>
            <a:ext cx="884160" cy="117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093080" y="4653000"/>
            <a:ext cx="172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Size: 89×47×2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65656"/>
                </a:solidFill>
                <a:latin typeface="Arial"/>
              </a:rPr>
              <a:t>Siskin SW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73160" y="1112760"/>
          <a:ext cx="8785080" cy="5219640"/>
        </p:xfrm>
        <a:graphic>
          <a:graphicData uri="http://schemas.openxmlformats.org/drawingml/2006/table">
            <a:tbl>
              <a:tblPr/>
              <a:tblGrid>
                <a:gridCol w="4392360"/>
                <a:gridCol w="4392720"/>
              </a:tblGrid>
              <a:tr h="53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tr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Weak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</a:tr>
              <a:tr h="2006640"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ashionable but clear design in a modern form factor (Clam-Shell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 resolution camera phone. (1.3M pi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 end consumer relevant features includ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urrent profit performance of the product below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luetooth not inclu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50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pportun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hre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</a:tr>
              <a:tr h="2170080"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ress market segment which is looking for a fashionable phone at an competitive price (at 115 Euro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apitalizing on the market trend: Clam shells for an affordable and attractive 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petition becomes quite strong in the Clam Shell marke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petition with Adonis intern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0" y="3560760"/>
            <a:ext cx="35244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919040" y="2027160"/>
            <a:ext cx="37306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970920" y="4400640"/>
            <a:ext cx="3733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3680" indent="-193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03920" y="4390920"/>
            <a:ext cx="3732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42000" y="6194520"/>
            <a:ext cx="2292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Source: Verena Pannenbaeck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  <a:ea typeface="宋体"/>
              </a:rPr>
              <a:t>Key-parameters / input for the Reverse Calcul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Siemens Sans"/>
                <a:ea typeface="宋体"/>
              </a:rPr>
              <a:t>Product: Sisk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525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4673520" y="1181160"/>
          <a:ext cx="4254480" cy="4654440"/>
        </p:xfrm>
        <a:graphic>
          <a:graphicData uri="http://schemas.openxmlformats.org/drawingml/2006/table">
            <a:tbl>
              <a:tblPr/>
              <a:tblGrid>
                <a:gridCol w="774720"/>
                <a:gridCol w="2640240"/>
                <a:gridCol w="839520"/>
              </a:tblGrid>
              <a:tr h="25092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arketing (direct)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er unit sol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Return r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st per retu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Return costs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rowSpan="6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anu-factur-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Ø Manufacturing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nversion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Ø B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BOM price decrease over life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Variant Add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icen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13269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C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arget Cost Ga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€ 15’5 50’3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Cost Gap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e1d3e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€ 6,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177840" y="1181160"/>
          <a:ext cx="4330800" cy="4650840"/>
        </p:xfrm>
        <a:graphic>
          <a:graphicData uri="http://schemas.openxmlformats.org/drawingml/2006/table">
            <a:tbl>
              <a:tblPr/>
              <a:tblGrid>
                <a:gridCol w="838080"/>
                <a:gridCol w="2565360"/>
                <a:gridCol w="927360"/>
              </a:tblGrid>
              <a:tr h="250560">
                <a:tc rowSpan="3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aunch d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of Lif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ositio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 ti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Uni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2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aunch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EOL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S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ice decrease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ver life-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,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’9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H 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ministration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H 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evelopment (indirect) in % of 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arketing (indirect)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elling Expense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CM Cost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ther GOG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154080" y="5872320"/>
            <a:ext cx="1519200" cy="47304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30240" y="5896080"/>
            <a:ext cx="7161480" cy="46836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ve Profit: EUR 0‘4 (0,2% / € 0,01 per uni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tential for improvements especially in Service costs, CC an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4160" y="220680"/>
            <a:ext cx="77817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skin – Business Case</a:t>
            </a:r>
            <a:br>
              <a:rPr sz="2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actual Business Case of the Siskin shows a Profit of EUR 470k (0,2%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71440" y="1131840"/>
            <a:ext cx="8601120" cy="5097600"/>
          </a:xfrm>
          <a:prstGeom prst="rect">
            <a:avLst/>
          </a:prstGeom>
          <a:solidFill>
            <a:srgbClr val="ffffff"/>
          </a:solidFill>
          <a:ln w="19080">
            <a:solidFill>
              <a:srgbClr val="87b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51000" y="1249200"/>
          <a:ext cx="851832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249200"/>
                    <a:ext cx="85183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4160" y="129600"/>
            <a:ext cx="778176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skin – Reverse Calculation</a:t>
            </a:r>
            <a:br>
              <a:rPr sz="28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98440" y="1268280"/>
            <a:ext cx="8666280" cy="49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55640" y="1197000"/>
          <a:ext cx="7343640" cy="50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97000"/>
                    <a:ext cx="734364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516720" y="1268280"/>
            <a:ext cx="2448000" cy="5040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0120" y="152280"/>
            <a:ext cx="232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sk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87b8e5"/>
                </a:solidFill>
                <a:latin typeface="Arial"/>
              </a:rPr>
              <a:t>Direct R&amp;D-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81080" y="1123920"/>
          <a:ext cx="6276960" cy="23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123920"/>
                    <a:ext cx="627696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108000" y="4581360"/>
          <a:ext cx="6362640" cy="1695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4581360"/>
                    <a:ext cx="636264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6588000" y="1392120"/>
            <a:ext cx="2484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ccount: E981-07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0 to be declared today (04.05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1 planned 21.04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3 planned 02.02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fforts after M3: 0’03 Mio. 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GK-Factor of 85 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4/05: 2,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5/06: 1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latfo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/3 of X75 / 85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not approved y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ate of FC: M0 Plan (15.04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4076640"/>
            <a:ext cx="1676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Cost overview until M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19040" y="-37152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d2435"/>
                </a:solidFill>
                <a:latin typeface="Arial"/>
              </a:rPr>
              <a:t>Risks and Actions Si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30200" y="1197000"/>
          <a:ext cx="8174160" cy="5224320"/>
        </p:xfrm>
        <a:graphic>
          <a:graphicData uri="http://schemas.openxmlformats.org/drawingml/2006/table">
            <a:tbl>
              <a:tblPr/>
              <a:tblGrid>
                <a:gridCol w="1168560"/>
                <a:gridCol w="2246040"/>
                <a:gridCol w="911520"/>
                <a:gridCol w="500040"/>
                <a:gridCol w="1895400"/>
                <a:gridCol w="919080"/>
                <a:gridCol w="533520"/>
              </a:tblGrid>
              <a:tr h="623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AR 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alue is about 1.4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atest result is the SAR value may be is smaller than adonis SAR 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tinue to put effort for reducing SAR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an Hai T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ou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 between Liftpart and Basepart is small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&lt;0.5mm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ack Volume is small (&lt;1.5c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M to accept the current perform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Zhao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vliery time will affect Liftpart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 and 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tant monitoring of EPSON delivery schedule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grid Kremmer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adine Roh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livery time will affect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mponent qualifiaction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Application qual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Set up the detail plan in P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hen Zhuo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g Run She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livery time will affect SW development plan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 Camera 1,3Meg CMOS Camera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TFT 272K L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Set up the detail plan in PV in order to analyse the 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uang K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Meg CMOS Camera(Radermacher klaus concerns the development, because 1.3Meg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MOS Camera will involved optical issu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 and 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Collecting development experience and knowledge from other proj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g Run She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iftp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MC/ES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tinue to put effort for reducing R&amp;D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an Hai T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1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PC M1 Decla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PC Delivery Schedule is not include in schedule (Only qualification schedu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M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Set up the detail plan in PV in order to analyse the 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Xu Haixi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6560" y="29160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document is review and agreed by the extended Siskin REA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5880" y="1562040"/>
            <a:ext cx="794556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LT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       SPM 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C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3040" y="2109960"/>
            <a:ext cx="132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Emily Zh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8600" y="4076640"/>
            <a:ext cx="103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Li 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39320" y="4076640"/>
            <a:ext cx="132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Oliver 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76040" y="4076640"/>
            <a:ext cx="11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Mike C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74960" y="2133720"/>
            <a:ext cx="109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Paul X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66960" y="2133720"/>
            <a:ext cx="159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Carlos Schmi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109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3886200"/>
            <a:ext cx="5289480" cy="2953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P 95€ , launch price 115€, 80€ EOL: No pric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’12 units, 36% total volume risks (based on 115€ launch)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, EE no major risk, Americas 61%, AIP 100% !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ina 64%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 63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too-thick mock-up was used in the design acceptance test (medium ranking); Dr. Lepold is reported to have accepted the right 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M: Very negative feedback on design (loop antenna), positive feedback on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sing customer requirements: Bluetooth, EDGE, flash, orange- &amp; i-mode-custom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2281320"/>
            <a:ext cx="5289480" cy="15861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fit +0’4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€ (+0.2%, current) vs. +15’9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€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(+7.5%, target</a:t>
            </a:r>
            <a:r>
              <a:rPr b="1" lang="en-GB" sz="1400" spc="-1" strike="noStrike">
                <a:solidFill>
                  <a:srgbClr val="d46028"/>
                </a:solidFill>
                <a:latin typeface="Arial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based on 115€ launch, 2’12 units) --&gt; profit deviation: -9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gh confidence in current BC for M0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increase is crucial for BC improvement, reduction of the manufacturing cost is main 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692280"/>
            <a:ext cx="5289480" cy="15861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ong fit to story 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&amp; high portfolio impact, as Siskin is the only C-Class image clamshell in 06 (Baya &amp; Macaw cancell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fe cycle of 12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 addressable market of Siskin is still a mainstream market.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’2 units, market share: 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Siski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4840" y="6016680"/>
            <a:ext cx="320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9-Ma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G. Blecher,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357720"/>
            <a:ext cx="1514520" cy="1184040"/>
          </a:xfrm>
          <a:custGeom>
            <a:avLst/>
            <a:gdLst/>
            <a:ahLst/>
            <a:rect l="l" t="t" r="r" b="b"/>
            <a:pathLst>
              <a:path w="954" h="746">
                <a:moveTo>
                  <a:pt x="567" y="746"/>
                </a:moveTo>
                <a:lnTo>
                  <a:pt x="954" y="529"/>
                </a:lnTo>
                <a:lnTo>
                  <a:pt x="944" y="95"/>
                </a:lnTo>
                <a:lnTo>
                  <a:pt x="566" y="159"/>
                </a:lnTo>
                <a:lnTo>
                  <a:pt x="0" y="0"/>
                </a:lnTo>
                <a:lnTo>
                  <a:pt x="421" y="418"/>
                </a:lnTo>
                <a:lnTo>
                  <a:pt x="567" y="7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Siski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55880" y="3645000"/>
            <a:ext cx="5241960" cy="2088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ow TTM confidence due to 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te availability of software driver which is needed for a display and camera upgra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2.04.05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21 work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6.05.05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19 work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2.09.05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10 work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08.12.05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(no delay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6.01.06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1 workday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55880" y="5805360"/>
            <a:ext cx="5241960" cy="939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n: 6 overdue activ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isk management plan not finalised, ye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55880" y="1003320"/>
            <a:ext cx="5241960" cy="2584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Worst-case SAR value does not meet SAG requirements (1.3 vs. 0.8 W/kg over 1g).</a:t>
            </a:r>
            <a:r>
              <a:rPr b="1" lang="en-US" sz="1500" spc="-1" strike="noStrike">
                <a:solidFill>
                  <a:srgbClr val="d46028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owever, Siskin reuses the mechanical &amp; antenna concept of Leopard/Adonis, thus same values are expected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Risk of an increased return rate due to new technology for internal display lens (die cut glass len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One-stop solution, BYD, last audit result for Adonis is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76% for plastic/design part (Class B), 71% for cameras (Class C). However, required is &gt;=80% (A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140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4840" y="6016680"/>
            <a:ext cx="320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9-Ma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G. Blecher,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357720"/>
            <a:ext cx="1514520" cy="1184040"/>
          </a:xfrm>
          <a:custGeom>
            <a:avLst/>
            <a:gdLst/>
            <a:ahLst/>
            <a:rect l="l" t="t" r="r" b="b"/>
            <a:pathLst>
              <a:path w="954" h="746">
                <a:moveTo>
                  <a:pt x="567" y="746"/>
                </a:moveTo>
                <a:lnTo>
                  <a:pt x="954" y="529"/>
                </a:lnTo>
                <a:lnTo>
                  <a:pt x="944" y="95"/>
                </a:lnTo>
                <a:lnTo>
                  <a:pt x="566" y="159"/>
                </a:lnTo>
                <a:lnTo>
                  <a:pt x="0" y="0"/>
                </a:lnTo>
                <a:lnTo>
                  <a:pt x="421" y="418"/>
                </a:lnTo>
                <a:lnTo>
                  <a:pt x="567" y="7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asures, Responsibles and Due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413000"/>
          <a:ext cx="8642160" cy="39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64216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5387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usiness Case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urrent Business Case shows a profit of 0,4m EUR or 0,2% of Turno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1166760"/>
            <a:ext cx="3887640" cy="70812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Analysis /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41200" y="1143000"/>
          <a:ext cx="464832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200" y="1143000"/>
                    <a:ext cx="464832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932360" y="1908000"/>
            <a:ext cx="3875040" cy="45133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„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Fast track“ model; w/o M-Alpha/B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olume reduction by 20% or 558k units over LC due to sales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erage CRP increased by 31% or 22,5 EUR to 95,2 EUR compared to Roadmap Scenario 2C’. Launch price at EUR 115,- / Phase out price at EUR 80,-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Actual HK increased by 8,26 EUR per unit compared to Roadmap Scenario 2C‘. New BOM: 59,55 EUR per unit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Cost per Return: EUR 45,02. Return Rate in FY06: 9,2% and in FY07 8,7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rect R&amp;D costs of 2,5m EUR, including  platform costs of 1,2m E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com costs: 7,7 EUR per un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EBIT of 0,4m EUR or 0,2% of Turn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s Proposals in case of red Q-G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920" y="1198440"/>
            <a:ext cx="6710040" cy="42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 marL="874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.) Go ahead with project until M1</a:t>
            </a:r>
            <a:br>
              <a:rPr sz="18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Approve M0 status connected with the following conditions / action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1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Improve the BOM </a:t>
            </a:r>
            <a:r>
              <a:rPr b="1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Magnus/ Nadine till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11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lift part (BYD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E-BOM cost (Infinio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Conversion 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mplement measures to secure M0  timeline </a:t>
            </a:r>
            <a:r>
              <a:rPr b="1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Paul,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Monitor Epson 758 deliver schedu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Implement measures to secure product quality </a:t>
            </a:r>
            <a:r>
              <a:rPr b="1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Paul, M1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6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SAR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6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Epson 75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.) Stop the project: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mpact on overall MD portfolio is :2’2 unites, 213’ Revenue,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no competitive image phone in 2006, due to Baya and Macaw were cancel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0560" y="5924520"/>
            <a:ext cx="412560" cy="31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63840" y="592596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03360" y="595944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97360" y="595476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86040" y="556560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7440" y="5583240"/>
            <a:ext cx="3021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propose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0560" y="5972040"/>
            <a:ext cx="41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81720" y="2930400"/>
            <a:ext cx="1283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duct Profile - Siski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shionable snapshot 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2000" y="1160640"/>
            <a:ext cx="4359240" cy="12603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22760" y="1160640"/>
            <a:ext cx="4359240" cy="12603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2000" y="2503440"/>
            <a:ext cx="4359240" cy="1663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22760" y="2503440"/>
            <a:ext cx="4359240" cy="1663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2000" y="4255920"/>
            <a:ext cx="4359240" cy="1636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22760" y="4255920"/>
            <a:ext cx="4359240" cy="1636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4360" y="2606760"/>
            <a:ext cx="400824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Consumer Highlight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ashionable snapshot ph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fashionable companion always ready to capture instant snapshots of your favorite moments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ery fashionable Clamshell with 1.3 Mpix camera and 262k TFT display for a competitive pr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4360" y="5950080"/>
            <a:ext cx="12002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ource: PDM/MM/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65760" y="2585880"/>
            <a:ext cx="4033800" cy="14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Against Competition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ttractive, fashionable and stylish design in a modern form factor (clamshell). Slim—with the thickness of 21.1 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.3 M camera with 262K TFT display and messaging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ll end consumer relevant basic features inclu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4360" y="4371840"/>
            <a:ext cx="400824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Operator Benefit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ashionable clamshell attracts a big target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tegrated 1.3 Mpix camera and MMS for additional ARP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Java and WAP for download over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oja 1.2 to meet I-Mode entry level phone’s requir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4360" y="1143000"/>
            <a:ext cx="4008240" cy="13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Positioning / Brand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-Class, Emotional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ghtly more female(6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ge: 16 –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ow to mid in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ocus on privat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53160" y="4237200"/>
            <a:ext cx="418284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Differentiation within MP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Quail: Pure voice communi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– Modern-styled clamshell for pure voice communicat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wift: Eye-catching multimedia 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ffers instant entertainment and infotainment in QVGA quality in a valuable, eye-catching slider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54600" y="1184400"/>
            <a:ext cx="402444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Busines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olume: 2’232 uni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SP: EUR 95.24  /   HK: EUR 70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RD: EUR 7‘4  /  MARCOM: EUR 17‘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Profit: EUR 0‘4 (0,2% resp. EUR 0,01 per un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8:55:12Z</dcterms:created>
  <dc:creator>Blecher Gunnar</dc:creator>
  <dc:description/>
  <dc:language>en-US</dc:language>
  <cp:lastModifiedBy>Dr. Marcell Assan</cp:lastModifiedBy>
  <dcterms:modified xsi:type="dcterms:W3CDTF">2005-05-03T15:32:06Z</dcterms:modified>
  <cp:revision>45</cp:revision>
  <dc:subject/>
  <dc:title>Product Status Review (PSR) Concept</dc:title>
</cp:coreProperties>
</file>