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2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872640" y="738000"/>
            <a:ext cx="4916520" cy="36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66720" y="4671720"/>
            <a:ext cx="53294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3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4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E769-096F-40A4-8DBF-30F06DABD11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EF32-55F5-4B95-A9AF-BA498E3353C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9080" y="763560"/>
            <a:ext cx="4884840" cy="36640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5840" y="4657320"/>
            <a:ext cx="488808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9880-DF00-4B08-A03F-0E64D7F6A7D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9080" y="763560"/>
            <a:ext cx="4884840" cy="36640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5840" y="4657320"/>
            <a:ext cx="488808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0976-0272-436F-BF98-AD46C497CD6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85960" y="744480"/>
            <a:ext cx="4895640" cy="3672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361800" y="4524480"/>
            <a:ext cx="5934240" cy="48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TA shows that the project is on tr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yhow,  the dependency of the Ulysses platform SW caused a 2weeks shift of the delivery 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vertheless, the financial impact can be made up because of the high ROF with that the originally planned May volumes can be shifted completely to J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89000"/>
            <a:ext cx="88027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7EC5E091-559E-4452-A100-BBDF5542D277}" type="datetime5">
              <a:rPr b="0" lang="de-DE" sz="1200" spc="-1" strike="noStrike">
                <a:solidFill>
                  <a:srgbClr val="000000"/>
                </a:solidFill>
                <a:latin typeface="Arial"/>
              </a:rPr>
              <a:t>30. Jul 2026</a:t>
            </a:fld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668A4F57-16CC-4104-960B-EFFFD330338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028000" y="189000"/>
            <a:ext cx="93672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540640" y="1764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9280" y="2924280"/>
            <a:ext cx="880128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79280" y="44280"/>
            <a:ext cx="8964360" cy="2781000"/>
            <a:chOff x="179280" y="44280"/>
            <a:chExt cx="8964360" cy="278100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79280" y="192240"/>
              <a:ext cx="8799480" cy="263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8576280" y="44280"/>
              <a:ext cx="567360" cy="561960"/>
            </a:xfrm>
            <a:custGeom>
              <a:avLst/>
              <a:gdLst/>
              <a:ahLst/>
              <a:rect l="l" t="t" r="r" b="b"/>
              <a:pathLst>
                <a:path w="318" h="317">
                  <a:moveTo>
                    <a:pt x="0" y="0"/>
                  </a:moveTo>
                  <a:lnTo>
                    <a:pt x="318" y="0"/>
                  </a:lnTo>
                  <a:lnTo>
                    <a:pt x="318" y="3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78920" y="5913000"/>
            <a:ext cx="83185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oland Auba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yrne Wil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chael Schus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lf K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12920" y="3213000"/>
            <a:ext cx="831816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RIES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werful imaging aid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duct Status Report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rch 30,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4125960"/>
            <a:ext cx="5256360" cy="23324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es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ood design acceptan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cenario based on non-VDF exclusiv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SP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92€;   CRP: 99€ launch, 75€ EO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sk:  only 20% of forecasted 23% Market Share in EMEA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09-12/05 range  (300k on risk) 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sk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nly minimum price can be realized for non-VF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ustomers 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08360" y="2843280"/>
            <a:ext cx="5256360" cy="121500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urrent 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4,7% (=17‘5 €) profit vs. target 7,5% (= 27'9€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ice/Volume risk has impact of -17’1m EUR on profit 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1) 2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TM risk has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pact of -1‘1m EUR on profi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08360" y="1123920"/>
            <a:ext cx="5256360" cy="16239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y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ries is necessary to stay with high volume product in VF live! (as well in other key customer’s) portfolio and to strengthen our low-end C-class w/ state of the art produ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ddressable market (LC): 52' units, market share: 8%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EMEA 09-12/05 market share = 23%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27080" y="2435400"/>
            <a:ext cx="3359880" cy="2879280"/>
            <a:chOff x="127080" y="2435400"/>
            <a:chExt cx="3359880" cy="2879280"/>
          </a:xfrm>
        </p:grpSpPr>
        <p:sp>
          <p:nvSpPr>
            <p:cNvPr id="104" name=""/>
            <p:cNvSpPr/>
            <p:nvPr/>
          </p:nvSpPr>
          <p:spPr>
            <a:xfrm>
              <a:off x="689040" y="2757600"/>
              <a:ext cx="2233440" cy="2284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98640" y="3052800"/>
              <a:ext cx="1614240" cy="1674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32000" y="3387600"/>
              <a:ext cx="949320" cy="9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836640" y="3317760"/>
              <a:ext cx="1942920" cy="11224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7800" y="3297240"/>
              <a:ext cx="1927080" cy="11606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807920" y="2752560"/>
              <a:ext cx="4680" cy="228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09680" y="2435400"/>
              <a:ext cx="10234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fita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25560" y="4468680"/>
              <a:ext cx="7016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Project</a:t>
              </a:r>
              <a:br>
                <a:rPr sz="1200"/>
              </a:br>
              <a:r>
                <a:rPr b="1" lang="en-US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74080" y="2855880"/>
              <a:ext cx="8128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 F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4720" y="4468680"/>
              <a:ext cx="8024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Product </a:t>
              </a:r>
              <a:br>
                <a:rPr sz="1200"/>
              </a:br>
              <a:r>
                <a:rPr b="1" lang="en-US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7080" y="2778120"/>
              <a:ext cx="120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rate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72520" y="5040360"/>
              <a:ext cx="12762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Time-to-Mar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23760" y="3246480"/>
              <a:ext cx="1756080" cy="1317600"/>
            </a:xfrm>
            <a:custGeom>
              <a:avLst/>
              <a:gdLst/>
              <a:ahLst/>
              <a:rect l="l" t="t" r="r" b="b"/>
              <a:pathLst>
                <a:path w="1106" h="800">
                  <a:moveTo>
                    <a:pt x="553" y="800"/>
                  </a:moveTo>
                  <a:lnTo>
                    <a:pt x="1106" y="703"/>
                  </a:lnTo>
                  <a:lnTo>
                    <a:pt x="1094" y="86"/>
                  </a:lnTo>
                  <a:lnTo>
                    <a:pt x="564" y="0"/>
                  </a:lnTo>
                  <a:lnTo>
                    <a:pt x="0" y="46"/>
                  </a:lnTo>
                  <a:lnTo>
                    <a:pt x="196" y="599"/>
                  </a:lnTo>
                  <a:lnTo>
                    <a:pt x="553" y="800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67000" y="3587760"/>
              <a:ext cx="6904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entury Gothic"/>
                </a:rPr>
                <a:t>Q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2920" y="35244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cutive Summar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tus 30.03.0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only minor but positive profitability deviations versus 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08360" y="3068640"/>
            <a:ext cx="5241960" cy="14432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ilestone DS: Aug 19,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sk: delayed DS by 4 week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jor risk due to comparably short cycle time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f 6,25 months (M1 – D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08360" y="4638600"/>
            <a:ext cx="5241960" cy="6634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tailed planning incl. resources available with M1 qua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1268280"/>
            <a:ext cx="5241960" cy="16714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jor risk due to very short timeline and working not according to standard process (mechanics and testing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duced milestone content requirements (shortened environmental test periods) to achieve timelin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sk on minor quality issues for ramp up quantit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7080" y="2435400"/>
            <a:ext cx="3359880" cy="2879280"/>
            <a:chOff x="127080" y="2435400"/>
            <a:chExt cx="3359880" cy="2879280"/>
          </a:xfrm>
        </p:grpSpPr>
        <p:sp>
          <p:nvSpPr>
            <p:cNvPr id="124" name=""/>
            <p:cNvSpPr/>
            <p:nvPr/>
          </p:nvSpPr>
          <p:spPr>
            <a:xfrm>
              <a:off x="1309680" y="2435400"/>
              <a:ext cx="10234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Profita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25560" y="4468680"/>
              <a:ext cx="7016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ject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74080" y="2855880"/>
              <a:ext cx="8128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Sales F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4720" y="4468680"/>
              <a:ext cx="8024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uct 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7080" y="2778120"/>
              <a:ext cx="12096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Strate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F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72520" y="5040360"/>
              <a:ext cx="12762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-to-Mar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689040" y="2752560"/>
              <a:ext cx="2233440" cy="2208240"/>
              <a:chOff x="689040" y="2752560"/>
              <a:chExt cx="2233440" cy="2208240"/>
            </a:xfrm>
          </p:grpSpPr>
          <p:sp>
            <p:nvSpPr>
              <p:cNvPr id="131" name=""/>
              <p:cNvSpPr/>
              <p:nvPr/>
            </p:nvSpPr>
            <p:spPr>
              <a:xfrm>
                <a:off x="689040" y="2757600"/>
                <a:ext cx="2233440" cy="2203200"/>
              </a:xfrm>
              <a:prstGeom prst="ellipse">
                <a:avLst/>
              </a:prstGeom>
              <a:solidFill>
                <a:srgbClr val="00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98640" y="3052800"/>
                <a:ext cx="1614240" cy="1614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332000" y="3387600"/>
                <a:ext cx="949320" cy="941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836640" y="3317760"/>
                <a:ext cx="1942920" cy="10828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47800" y="3297240"/>
                <a:ext cx="1927080" cy="1119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1807920" y="2752560"/>
                <a:ext cx="4680" cy="2208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1467000" y="3587760"/>
              <a:ext cx="6904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ffffff"/>
                  </a:solidFill>
                  <a:latin typeface="Century Gothic"/>
                </a:rPr>
                <a:t>Q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23760" y="3246480"/>
              <a:ext cx="1756080" cy="1270080"/>
            </a:xfrm>
            <a:custGeom>
              <a:avLst/>
              <a:gdLst/>
              <a:ahLst/>
              <a:rect l="l" t="t" r="r" b="b"/>
              <a:pathLst>
                <a:path w="1106" h="800">
                  <a:moveTo>
                    <a:pt x="553" y="800"/>
                  </a:moveTo>
                  <a:lnTo>
                    <a:pt x="1106" y="703"/>
                  </a:lnTo>
                  <a:lnTo>
                    <a:pt x="1094" y="86"/>
                  </a:lnTo>
                  <a:lnTo>
                    <a:pt x="564" y="0"/>
                  </a:lnTo>
                  <a:lnTo>
                    <a:pt x="0" y="46"/>
                  </a:lnTo>
                  <a:lnTo>
                    <a:pt x="196" y="599"/>
                  </a:lnTo>
                  <a:lnTo>
                    <a:pt x="553" y="800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cutive Summa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/2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 30.03.05 – no deviations versus M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8320" y="122040"/>
            <a:ext cx="7391160" cy="990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lestone Trend Analysis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Status 24.03.20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1048" t="12662" r="8912" b="3166"/>
          <a:stretch/>
        </p:blipFill>
        <p:spPr>
          <a:xfrm>
            <a:off x="179280" y="1125360"/>
            <a:ext cx="6697800" cy="5183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129440" y="1125360"/>
            <a:ext cx="18352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chedu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M0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21.01.2005 </a:t>
            </a:r>
            <a:r>
              <a:rPr b="1" lang="en-US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0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28.01.2005 </a:t>
            </a:r>
            <a:r>
              <a:rPr b="1" lang="en-US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M1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11.02.2005 </a:t>
            </a:r>
            <a:r>
              <a:rPr b="1" lang="en-US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15   04.03.2005 </a:t>
            </a:r>
            <a:r>
              <a:rPr b="1" lang="en-US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2     24.03.2005 </a:t>
            </a:r>
            <a:r>
              <a:rPr b="1" lang="en-US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25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20.05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M2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10.06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3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08.07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PS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15.07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DS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19.08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4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30.09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M3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30.09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e1d3e"/>
                </a:solidFill>
                <a:latin typeface="Arial"/>
              </a:rPr>
              <a:t>S2 declared 8 days in advance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423360"/>
            <a:ext cx="855180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ritical Path, Measure to be taken, Decision to be taken</a:t>
            </a:r>
            <a:br>
              <a:rPr sz="18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6120" y="1360440"/>
            <a:ext cx="8616960" cy="44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ritical Path: </a:t>
            </a:r>
            <a:r>
              <a:rPr b="0" lang="en-US" sz="1700" spc="-1" strike="noStrike">
                <a:solidFill>
                  <a:srgbClr val="9e1d3e"/>
                </a:solidFill>
                <a:latin typeface="Arial"/>
              </a:rPr>
              <a:t>Mechanics/EMC-Antenna &gt;&gt; TA approval &amp; Product Quality at Launc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xpected delay: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est cas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-14 days         (delivery to VF  on  8.8.200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orst cas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+28 days        (additional prototype run because of TA or major quality issue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ost likel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0 day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easures &amp; Decisions to be take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whe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plementation of HW tracking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rtin Krepck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apid prototyping for early feedback loop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1.2 run </a:t>
            </a:r>
            <a:r>
              <a:rPr b="0" lang="en-U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alf Ker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ractional supplier deliverie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until S3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alf Ker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mplementation Controll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eekly HW and SW tracking round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alf Ker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67280" y="371628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00720" y="1855800"/>
            <a:ext cx="4468680" cy="448308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Lifecy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ni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S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M over LC decreased 0,19 € due to release button &amp; user gu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ense Fees over LC increased 0,07 € due to ARM/3D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CQ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&amp;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of 0’9 m € since M1 based on new R&amp;D allocation forecast and P&amp;L Report (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G85 EGK Factor still conside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arc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19440" y="1166760"/>
            <a:ext cx="4462560" cy="65412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iation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280" y="1003320"/>
          <a:ext cx="43056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03320"/>
                    <a:ext cx="43056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173160" y="6154560"/>
            <a:ext cx="446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* w/o variant ad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75834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arison Business Case</a:t>
            </a:r>
            <a:br>
              <a:rPr sz="20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mpared to M1, the actual Business Case indicates +1’4 m EUR Profi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76006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Case – Key Parameters</a:t>
            </a:r>
            <a:br>
              <a:rPr sz="20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atus as of 23rd March 200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79280" y="1197000"/>
          <a:ext cx="8820000" cy="3971880"/>
        </p:xfrm>
        <a:graphic>
          <a:graphicData uri="http://schemas.openxmlformats.org/drawingml/2006/table">
            <a:tbl>
              <a:tblPr/>
              <a:tblGrid>
                <a:gridCol w="1900080"/>
                <a:gridCol w="1984320"/>
                <a:gridCol w="1042920"/>
                <a:gridCol w="2003400"/>
                <a:gridCol w="1889280"/>
              </a:tblGrid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nch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 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o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-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urn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50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urn 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% (12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per unit s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4006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nch 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 COGS in % of T/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OL 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in % of T/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’1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4006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ce decrease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 life-cyc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per unit s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Ø H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ling in % of T/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version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&amp;D in % of T/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Ø B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R&amp;D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‘7 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4006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M price decrease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 life-cyc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in indirect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&amp;D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’2 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MTS lice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n in % of T/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4006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 license/IPR/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ents (p.u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179280" y="5229360"/>
            <a:ext cx="3884760" cy="222120"/>
          </a:xfrm>
          <a:prstGeom prst="rect">
            <a:avLst/>
          </a:prstGeom>
          <a:solidFill>
            <a:srgbClr val="4c9bc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7840" y="5256360"/>
            <a:ext cx="222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Further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5451480"/>
            <a:ext cx="3884760" cy="892080"/>
          </a:xfrm>
          <a:prstGeom prst="rect">
            <a:avLst/>
          </a:prstGeom>
          <a:solidFill>
            <a:srgbClr val="afc2c8">
              <a:alpha val="5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9000" y="5584680"/>
            <a:ext cx="3655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M decrease over LC not applicable as BOM is only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vailable as average value per 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76720" y="5222880"/>
            <a:ext cx="3884760" cy="222120"/>
          </a:xfrm>
          <a:prstGeom prst="rect">
            <a:avLst/>
          </a:prstGeom>
          <a:solidFill>
            <a:srgbClr val="626465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76720" y="5445000"/>
            <a:ext cx="3884760" cy="863640"/>
          </a:xfrm>
          <a:prstGeom prst="rect">
            <a:avLst/>
          </a:prstGeom>
          <a:solidFill>
            <a:srgbClr val="9e1d3e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21080" y="5545080"/>
            <a:ext cx="239436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1" marL="138240" indent="-136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rofit in Mio: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€ 17‘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40" indent="-136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rofit in % of T/O: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4,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40" indent="-136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rofit per Unit: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€ 4,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73040" y="5229360"/>
            <a:ext cx="152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5840" y="1844640"/>
            <a:ext cx="16286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1080" y="1125360"/>
            <a:ext cx="2303280" cy="43200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usiness Cas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1766880"/>
            <a:ext cx="366552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layed launch due to short timeline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as reported M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56000" y="1125360"/>
            <a:ext cx="3887640" cy="43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26080" y="1125360"/>
            <a:ext cx="2448000" cy="420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21400" y="1766880"/>
            <a:ext cx="13064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’1 m 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34160" y="1492200"/>
            <a:ext cx="61272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50080" y="1492200"/>
            <a:ext cx="128592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BIT margin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916760" y="1765440"/>
            <a:ext cx="10162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,03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26080" y="1770120"/>
            <a:ext cx="95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81760" y="1768320"/>
            <a:ext cx="104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7000" y="2271600"/>
            <a:ext cx="162864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95520" y="2206800"/>
            <a:ext cx="366552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nimum price line realized over Lifecycle (as reported M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32560" y="2206800"/>
            <a:ext cx="13064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3’1 m 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27920" y="2205000"/>
            <a:ext cx="9288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,5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7800" y="2776680"/>
            <a:ext cx="16290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06680" y="2711520"/>
            <a:ext cx="40100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marL="185760" indent="-1857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rget Market Share not realized in EMEA during Q1 FY05 leading to a reduction of 300ku (as reported M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unch in China cancelled by region  affects all other Chinese SW varian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unch depending completely on VF approva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880" indent="-177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880" indent="-177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43720" y="2711520"/>
            <a:ext cx="13064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’0 m 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939080" y="2709720"/>
            <a:ext cx="100656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,1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90840" y="4437000"/>
            <a:ext cx="366552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t applic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9280" y="1125360"/>
            <a:ext cx="8785440" cy="36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840" y="4437000"/>
            <a:ext cx="162864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76006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Case – Risks &amp; Meas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9280" y="5041800"/>
            <a:ext cx="8713800" cy="15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7840" indent="-17784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easures to secure B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et volume forecasts on country / customer level                                                       (Roland Aubauer)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rom Area Operation Managers  until CW1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ose failure tracking in VF approval phase                                                                (Roland Aubauer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560" y="333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L2005 produc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ARIES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360" y="6676920"/>
            <a:ext cx="7820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763640" y="1125360"/>
            <a:ext cx="7165800" cy="5180760"/>
            <a:chOff x="1763640" y="1125360"/>
            <a:chExt cx="7165800" cy="5180760"/>
          </a:xfrm>
        </p:grpSpPr>
        <p:sp>
          <p:nvSpPr>
            <p:cNvPr id="191" name=""/>
            <p:cNvSpPr/>
            <p:nvPr/>
          </p:nvSpPr>
          <p:spPr>
            <a:xfrm>
              <a:off x="1763640" y="1125360"/>
              <a:ext cx="7165800" cy="5180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16920" y="1125360"/>
              <a:ext cx="7091280" cy="51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835280" y="1125360"/>
            <a:ext cx="7129440" cy="54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266760" indent="-2667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High/Low l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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2 declared – 1 week BEFORE M1-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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sion on silver-copper EMI painting for metallization in upper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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critical issues from environmental tests: MDF foil broken, static load not passed, joystick centricity cri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jor threa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hönix, Sirius, Adonis, Aries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 short intervals on one SW data base (ZI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dy Worn SAR@0cm too high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currently no blocking point with respect to legal iss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gt;&gt; Counter measure implemented and tested positiv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&gt;&gt; 1.97W/kg(10g)@0cm (1TX) &gt;&gt; OK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&gt;&gt; 3.94W/kg(10g)@0cm (2TX) &gt;&gt; hint in user manual/ NEW SIEMENS guide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GL2005 defect priorization &amp; tracking finally star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-IDB4 for DS SW stabilization will start on 18th of APRIL / Maintenance in BEJ  (DS schedule: 1) Phönix/Sirius, 2) Adonis, 3) Aries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of vacuum metallization currently not sufficien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&gt; Switch to silver-copper EMI painting decided;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spec conformity of JIGs/metallization area to be confirm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8240" y="1413000"/>
            <a:ext cx="28728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6920" y="1484280"/>
            <a:ext cx="14472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6920" y="1684440"/>
            <a:ext cx="1447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6920" y="1873080"/>
            <a:ext cx="144720" cy="144720"/>
          </a:xfrm>
          <a:prstGeom prst="ellipse">
            <a:avLst/>
          </a:prstGeom>
          <a:solidFill>
            <a:srgbClr val="00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6840" y="2349360"/>
            <a:ext cx="173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Yellow traffic light, because B1 evaluation not finalized &amp; B1+ must have TA mat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2:52:45Z</dcterms:created>
  <dc:creator>Aeugle Thomas</dc:creator>
  <dc:description/>
  <dc:language>en-US</dc:language>
  <cp:lastModifiedBy>Roland Aubauer</cp:lastModifiedBy>
  <dcterms:modified xsi:type="dcterms:W3CDTF">2005-03-29T13:52:19Z</dcterms:modified>
  <cp:revision>15</cp:revision>
  <dc:subject/>
  <dc:title>Executive Summary Minos 1/2   Status 14.03.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30838590</vt:r8>
  </property>
  <property fmtid="{D5CDD505-2E9C-101B-9397-08002B2CF9AE}" pid="3" name="_AuthorEmail">
    <vt:lpwstr>roland.aubauer@siemens.com</vt:lpwstr>
  </property>
  <property fmtid="{D5CDD505-2E9C-101B-9397-08002B2CF9AE}" pid="4" name="_AuthorEmailDisplayName">
    <vt:lpwstr>Aubauer Roland Com MD PBM PG65</vt:lpwstr>
  </property>
  <property fmtid="{D5CDD505-2E9C-101B-9397-08002B2CF9AE}" pid="5" name="_EmailSubject">
    <vt:lpwstr>PSR_ARIES_C75_300305_1.ppt</vt:lpwstr>
  </property>
</Properties>
</file>