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050320" y="152280"/>
            <a:ext cx="91584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Gold Lit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S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522560" y="8128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30.03.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1600" y="4175280"/>
            <a:ext cx="8042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GL Platform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" y="5000760"/>
            <a:ext cx="297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5-03-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PL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laus Zieg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D SWP Mario Topel February 9th, 2004 - Confidential 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old-Lite Platform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4120" y="1244520"/>
            <a:ext cx="8529480" cy="5174280"/>
            <a:chOff x="384120" y="1244520"/>
            <a:chExt cx="8529480" cy="5174280"/>
          </a:xfrm>
        </p:grpSpPr>
        <p:sp>
          <p:nvSpPr>
            <p:cNvPr id="104" name=""/>
            <p:cNvSpPr/>
            <p:nvPr/>
          </p:nvSpPr>
          <p:spPr>
            <a:xfrm>
              <a:off x="384120" y="1244520"/>
              <a:ext cx="8529480" cy="517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7480" y="1244520"/>
              <a:ext cx="8440560" cy="51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8800" y="1289160"/>
            <a:ext cx="851868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0: 09.04.04 (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9.04.04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3.08.04 (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13.08.04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:  29.05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: 08.06.04 (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8.06.04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:  08.04.0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 has been delayed to April 08, 2005 because of insufficient product SW stability (L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ntly discovered HW-bug in B6E – both possible solutions of metal fix and layout change not in ti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pilot series of lead product. Screening of parts at supplier side needs to be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debugging for EGold-Lite generic SW is ongoing (with Libra B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consumption in”normal case” and “worst case” is higher than expected. Investigations a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ongoing. Deadline for fixing this bug is April 8, 2005 (Libra SW S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5 for lead project (Libr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 will be declared on April 4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old-Lite baseband chipset qualification is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risk releases for EGold-Lite in Libra, Dorado and Pegasus have been m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285840"/>
                <a:tab algn="l" pos="2743200"/>
                <a:tab algn="l" pos="2971800"/>
                <a:tab algn="l" pos="5432400"/>
                <a:tab algn="l" pos="5716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tions regarding effect of B6E bug on products and search for countermeasures are ongo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D SWP Mario Topel February 9th, 2004 - Confidential 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defects for EGL Products which determine TT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 Defects /w RPN&gt;1000 on EGL Products as of 29.03.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6680" y="1766880"/>
            <a:ext cx="7524720" cy="4622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31960" y="1395360"/>
            <a:ext cx="62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g fixing rate of appr. 20 bugs per week =&gt; not critical for 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D SWP Mario Topel February 9th, 2004 - Confidential 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 Topel</dc:creator>
  <dc:description/>
  <dc:language>en-US</dc:language>
  <cp:lastModifiedBy>CN1FZ000</cp:lastModifiedBy>
  <cp:lastPrinted>2004-02-29T14:41:19Z</cp:lastPrinted>
  <dcterms:modified xsi:type="dcterms:W3CDTF">2005-03-30T03:38:46Z</dcterms:modified>
  <cp:revision>497</cp:revision>
  <dc:subject>SW-Status SGold Lite Platform</dc:subject>
  <dc:title>PowerPoint Presentation</dc:title>
</cp:coreProperties>
</file>