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7943-C3E1-44AD-BE69-126A26F520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DC80-66CD-4F21-8508-89C295C0EA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6D01-D258-471E-8420-99E7D5804F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C6CD-0479-40A4-833D-E7315544A8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1D71-E573-444B-8322-DDA0DE988C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96E804-0310-49BD-932B-EE1EC997ED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642A77-9370-43E2-A773-DA2B27BC4D3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0B0E12-19E8-4B4F-928C-EE783EAB05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3CB2B3-0FE8-4811-B6BC-D0DD5E36E59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6E052B-B8C0-4F21-BBDE-EF060A23D4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02C133-3100-4A6E-A5C9-77903D37571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892039-2885-4E26-BA10-A3FF8489C41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B5FA0C-B7CC-4398-9FD1-9DEE6069AA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89E13A-6618-4786-9320-51DDD9D7FF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B55D98-1556-4074-806C-937E3CCDEE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B5B229-8A6A-4DF1-8045-672459C6B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5118CD-C0E5-4088-BBF4-13677F8F45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064DEA32-F5A7-4865-8915-4CF595F95B9D}" type="datetime5">
              <a:rPr b="0" lang="de-DE" sz="1200" spc="-1" strike="noStrike">
                <a:solidFill>
                  <a:srgbClr val="000000"/>
                </a:solidFill>
                <a:latin typeface="Arial"/>
                <a:ea typeface="宋体"/>
              </a:rPr>
              <a:t>30. Jul 2026</a:t>
            </a:fld>
            <a:r>
              <a:rPr b="0" lang="de-DE" sz="1200" spc="-1" strike="noStrike">
                <a:solidFill>
                  <a:srgbClr val="000000"/>
                </a:solidFill>
                <a:latin typeface="Arial"/>
                <a:ea typeface="宋体"/>
              </a:rPr>
              <a:t>   </a:t>
            </a:r>
            <a:fld id="{79D17490-D57F-4E8E-9628-548770FFA74B}"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4AB7E04-1661-4256-BA5E-4B9371592246}"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F7174022-37EC-41DE-BF21-EA477389FF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DCF8321F-4A7F-447A-9157-C61D4677F2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