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96C5-2E6F-4675-A394-9515E707E7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3FA8-DAF9-4F91-8050-FF1BE66641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4F61-7DF1-4F6D-8069-A783398787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49E2-D65E-4FA7-A969-A6B8201DAB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318B-9478-4101-8806-29592EF445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E1D2-4F3E-49A7-9BFA-A91FF47AD6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EB6B-057D-480E-B900-BD20D12F29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F329-A625-4994-9BCA-48F0D67F61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53F3-DC02-4151-91F9-AF02500EAF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3EB5-7488-4EC8-A4A3-BE587337CA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3C88-4956-40BA-ABE7-B7293C8EF7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A97D-5E77-4EB1-BA83-91C66879CC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6B0B-E91C-4BA2-88E8-11E18B57A2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36FA-EFB4-4028-B02C-D4BB7A36D2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F260-D6F3-4D88-AC6C-429B61B410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25A5AF84-9157-4B7A-A0F6-CEC31B63A611}" type="datetime">
              <a:rPr b="0" lang="de-DE" sz="1200" spc="-1" strike="noStrike">
                <a:solidFill>
                  <a:srgbClr val="000000"/>
                </a:solidFill>
                <a:latin typeface="Arial"/>
              </a:rPr>
              <a:t>30.07.26</a:t>
            </a:fld>
            <a:r>
              <a:rPr b="0" lang="de-DE" sz="1200" spc="-1" strike="noStrike">
                <a:solidFill>
                  <a:srgbClr val="000000"/>
                </a:solidFill>
                <a:latin typeface="Arial"/>
              </a:rPr>
              <a:t>   </a:t>
            </a:r>
            <a:fld id="{CD60218C-F7FA-4BA3-A4DA-9C9867B7030D}"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