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DBAA-B518-4842-BADD-07FF3B65E96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E092-047B-418F-B7F7-C7B6306494F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00080" y="738360"/>
            <a:ext cx="4856040" cy="36414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374400" y="4489200"/>
            <a:ext cx="610236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     Flamingo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PSR on Dec 22, 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lamingo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about fashio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“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duct Status Report after M0 – Jan 19, 0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2560" y="4184640"/>
            <a:ext cx="3692520" cy="2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Sommerer (PDM)/O. Girke (SPM)/B. Lui (PLT)/C. Rechenauer (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79440" y="103320"/>
            <a:ext cx="7391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duct Status X85 Flamingo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„ All about fashion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9440" y="5405400"/>
            <a:ext cx="174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9440" y="1600200"/>
            <a:ext cx="2187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ing/Market  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9440" y="3902040"/>
            <a:ext cx="1749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9440" y="4863960"/>
            <a:ext cx="174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62280" y="1752480"/>
            <a:ext cx="652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14480" y="1801800"/>
            <a:ext cx="128520" cy="125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27240" y="18018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40000" y="18018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22560" y="4641840"/>
            <a:ext cx="4876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09440" y="2868480"/>
            <a:ext cx="2405160" cy="604800"/>
            <a:chOff x="109440" y="2868480"/>
            <a:chExt cx="2405160" cy="604800"/>
          </a:xfrm>
        </p:grpSpPr>
        <p:sp>
          <p:nvSpPr>
            <p:cNvPr id="106" name=""/>
            <p:cNvSpPr/>
            <p:nvPr/>
          </p:nvSpPr>
          <p:spPr>
            <a:xfrm>
              <a:off x="109440" y="2868480"/>
              <a:ext cx="174960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Financi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(status S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62280" y="2928600"/>
              <a:ext cx="6523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14480" y="2973240"/>
              <a:ext cx="128520" cy="1252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27240" y="2973240"/>
              <a:ext cx="128520" cy="125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340000" y="2973240"/>
              <a:ext cx="128520" cy="125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743200" y="1447920"/>
            <a:ext cx="6171840" cy="1044000"/>
            <a:chOff x="2743200" y="1447920"/>
            <a:chExt cx="6171840" cy="1044000"/>
          </a:xfrm>
        </p:grpSpPr>
        <p:sp>
          <p:nvSpPr>
            <p:cNvPr id="112" name=""/>
            <p:cNvSpPr/>
            <p:nvPr/>
          </p:nvSpPr>
          <p:spPr>
            <a:xfrm>
              <a:off x="2743200" y="1447920"/>
              <a:ext cx="6171840" cy="1044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88920" y="1447920"/>
              <a:ext cx="6107760" cy="104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91960" indent="-291960"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743200" y="4667400"/>
            <a:ext cx="6171840" cy="633240"/>
            <a:chOff x="2743200" y="4667400"/>
            <a:chExt cx="6171840" cy="633240"/>
          </a:xfrm>
        </p:grpSpPr>
        <p:sp>
          <p:nvSpPr>
            <p:cNvPr id="115" name=""/>
            <p:cNvSpPr/>
            <p:nvPr/>
          </p:nvSpPr>
          <p:spPr>
            <a:xfrm>
              <a:off x="2743200" y="4667400"/>
              <a:ext cx="6171840" cy="63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88920" y="4667400"/>
              <a:ext cx="610776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91960" indent="-29196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lim I/O – basic accessories as 75g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1960" indent="-29196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rCit port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1960" indent="-29196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200400" y="1066680"/>
            <a:ext cx="48769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atus and major changes, dependencies, risk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62280" y="486396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14480" y="4913280"/>
            <a:ext cx="128520" cy="125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27240" y="491328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4913280"/>
            <a:ext cx="128520" cy="12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743200" y="5372280"/>
            <a:ext cx="6171840" cy="720360"/>
            <a:chOff x="2743200" y="5372280"/>
            <a:chExt cx="6171840" cy="720360"/>
          </a:xfrm>
        </p:grpSpPr>
        <p:sp>
          <p:nvSpPr>
            <p:cNvPr id="123" name=""/>
            <p:cNvSpPr/>
            <p:nvPr/>
          </p:nvSpPr>
          <p:spPr>
            <a:xfrm>
              <a:off x="2743200" y="5372280"/>
              <a:ext cx="6171840" cy="72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88920" y="5372280"/>
              <a:ext cx="6107760" cy="72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91960" indent="-291960">
                <a:lnSpc>
                  <a:spcPct val="85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 simple Java games: Sea Battle &amp; Marble cross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1960" indent="-291960">
                <a:lnSpc>
                  <a:spcPct val="85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olyphonic ringtones (16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743200" y="3727440"/>
            <a:ext cx="6171840" cy="863280"/>
            <a:chOff x="2743200" y="3727440"/>
            <a:chExt cx="6171840" cy="863280"/>
          </a:xfrm>
        </p:grpSpPr>
        <p:sp>
          <p:nvSpPr>
            <p:cNvPr id="126" name=""/>
            <p:cNvSpPr/>
            <p:nvPr/>
          </p:nvSpPr>
          <p:spPr>
            <a:xfrm>
              <a:off x="2743200" y="3727440"/>
              <a:ext cx="6171840" cy="863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88920" y="3727440"/>
              <a:ext cx="6107760" cy="8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91960" indent="-291960">
                <a:lnSpc>
                  <a:spcPct val="85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utstanding desig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1960" indent="-291960">
                <a:lnSpc>
                  <a:spcPct val="85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0x130 TFT display 65k colou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1960" indent="-291960">
                <a:lnSpc>
                  <a:spcPct val="85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Basic feature set / EGold lite platfo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05840" y="1446120"/>
            <a:ext cx="5959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0 10.12.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0 23.12.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1 28.01.05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 week later than planned @ M0; no effect on DS/market availabil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S 24.10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3/market availability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50k 25.11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76400" y="1371600"/>
            <a:ext cx="2635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Webdings"/>
                <a:ea typeface="Webdings"/>
              </a:rPr>
              <a:t>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78200" y="1565280"/>
            <a:ext cx="2635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Webdings"/>
                <a:ea typeface="Webdings"/>
              </a:rPr>
              <a:t>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743200" y="2565360"/>
            <a:ext cx="6171840" cy="1079280"/>
            <a:chOff x="2743200" y="2565360"/>
            <a:chExt cx="6171840" cy="1079280"/>
          </a:xfrm>
        </p:grpSpPr>
        <p:sp>
          <p:nvSpPr>
            <p:cNvPr id="132" name=""/>
            <p:cNvSpPr/>
            <p:nvPr/>
          </p:nvSpPr>
          <p:spPr>
            <a:xfrm>
              <a:off x="2743200" y="2565360"/>
              <a:ext cx="6171840" cy="1079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88920" y="2565360"/>
              <a:ext cx="610776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2811240" y="2587680"/>
            <a:ext cx="2899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‘95 units over life cycle (all variants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ofit EUR 39‘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(14% of T/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K: EUR 58,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SP: EUR 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63720" y="544356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16280" y="5492880"/>
            <a:ext cx="128520" cy="125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28680" y="5492880"/>
            <a:ext cx="12888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41440" y="5492880"/>
            <a:ext cx="128880" cy="12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35280" y="400536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87480" y="4054320"/>
            <a:ext cx="128520" cy="1256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00240" y="4054320"/>
            <a:ext cx="128520" cy="12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13000" y="4054320"/>
            <a:ext cx="128520" cy="12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06520" y="1052640"/>
            <a:ext cx="8637480" cy="30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.) Release budget for Flamin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as M1 will not be declared before CW04/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4 tooling sets for upper/lower case due to 3 different manufacturing sites – would not be different if quantities reduced to 1.4 mio uni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sembly lines of upper/lower case to be taken over from previous projects &amp; to be adapted for Flamin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2560" y="4276800"/>
            <a:ext cx="38124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8800" y="5180040"/>
            <a:ext cx="38088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30360" y="4330800"/>
            <a:ext cx="2746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PSR decision: Release budg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89680" y="5229360"/>
            <a:ext cx="3670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PSR decision: Do not release budget y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6560" y="279360"/>
            <a:ext cx="6553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ision Propos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08:55:12Z</dcterms:created>
  <dc:creator>Blecher Gunnar</dc:creator>
  <dc:description/>
  <dc:language>en-US</dc:language>
  <cp:lastModifiedBy>mchbk406</cp:lastModifiedBy>
  <dcterms:modified xsi:type="dcterms:W3CDTF">2005-01-19T07:24:09Z</dcterms:modified>
  <cp:revision>50</cp:revision>
  <dc:subject/>
  <dc:title>Product Status Review (PSR) Conce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18822735</vt:r8>
  </property>
  <property fmtid="{D5CDD505-2E9C-101B-9397-08002B2CF9AE}" pid="3" name="_AuthorEmail">
    <vt:lpwstr>oliver.girke@siemens.com</vt:lpwstr>
  </property>
  <property fmtid="{D5CDD505-2E9C-101B-9397-08002B2CF9AE}" pid="4" name="_AuthorEmailDisplayName">
    <vt:lpwstr>Girke Oliver Com MD PBM PG85</vt:lpwstr>
  </property>
  <property fmtid="{D5CDD505-2E9C-101B-9397-08002B2CF9AE}" pid="5" name="_EmailSubject">
    <vt:lpwstr>PSR presentation X85 flamingo for 19.01.05</vt:lpwstr>
  </property>
  <property fmtid="{D5CDD505-2E9C-101B-9397-08002B2CF9AE}" pid="6" name="_ReviewingToolsShownOnce">
    <vt:lpwstr/>
  </property>
</Properties>
</file>