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42113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428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81960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02880" y="740880"/>
            <a:ext cx="4940280" cy="370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74640" y="4857480"/>
            <a:ext cx="5394240" cy="42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0" y="938664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819600" y="938664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63391CC-E150-45B1-B28B-21D747E891B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4640" y="4857480"/>
            <a:ext cx="5394240" cy="42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10200" y="4543560"/>
            <a:ext cx="1943640" cy="18936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" rIns="10440" tIns="648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1" lang="de-DE" sz="1200" spc="-1" strike="noStrike">
                <a:solidFill>
                  <a:srgbClr val="9e1d3e"/>
                </a:solidFill>
                <a:latin typeface="Arial"/>
              </a:rPr>
              <a:t>STRICTL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0"/>
            <a:endCxn id="235" idx="1"/>
          </p:cNvCxnSpPr>
          <p:nvPr/>
        </p:nvCxnSpPr>
        <p:spPr>
          <a:xfrm>
            <a:off x="579240" y="4543200"/>
            <a:ext cx="200556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  <p:cxnSp>
        <p:nvCxnSpPr>
          <p:cNvPr id="237" name=""/>
          <p:cNvCxnSpPr>
            <a:stCxn id="235" idx="2"/>
            <a:endCxn id="235" idx="3"/>
          </p:cNvCxnSpPr>
          <p:nvPr/>
        </p:nvCxnSpPr>
        <p:spPr>
          <a:xfrm>
            <a:off x="579240" y="4741560"/>
            <a:ext cx="200556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19600" y="938664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912E98B-B639-49F6-ABEE-21D84D07D41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0" y="938664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1960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74640" y="4856040"/>
            <a:ext cx="539424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50160" y="4543560"/>
            <a:ext cx="1941480" cy="18936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" rIns="10080" tIns="648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de-DE" sz="1200" spc="-1" strike="noStrike">
                <a:solidFill>
                  <a:srgbClr val="9e1d3e"/>
                </a:solidFill>
                <a:latin typeface="Arial"/>
              </a:rPr>
              <a:t>STRICTL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65" idx="0"/>
            <a:endCxn id="265" idx="1"/>
          </p:cNvCxnSpPr>
          <p:nvPr/>
        </p:nvCxnSpPr>
        <p:spPr>
          <a:xfrm>
            <a:off x="657000" y="4543200"/>
            <a:ext cx="192780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  <p:cxnSp>
        <p:nvCxnSpPr>
          <p:cNvPr id="267" name=""/>
          <p:cNvCxnSpPr>
            <a:stCxn id="265" idx="2"/>
            <a:endCxn id="265" idx="3"/>
          </p:cNvCxnSpPr>
          <p:nvPr/>
        </p:nvCxnSpPr>
        <p:spPr>
          <a:xfrm>
            <a:off x="657000" y="4733640"/>
            <a:ext cx="192780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819600" y="938664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23233859-BE72-4B8F-8782-E02B21A23BC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0" y="938664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81960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74640" y="4856040"/>
            <a:ext cx="539424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59520" y="4541760"/>
            <a:ext cx="1941480" cy="18936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" rIns="10080" tIns="648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de-DE" sz="1200" spc="-1" strike="noStrike">
                <a:solidFill>
                  <a:srgbClr val="9e1d3e"/>
                </a:solidFill>
                <a:latin typeface="Arial"/>
              </a:rPr>
              <a:t>STRICTL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4" idx="0"/>
            <a:endCxn id="274" idx="1"/>
          </p:cNvCxnSpPr>
          <p:nvPr/>
        </p:nvCxnSpPr>
        <p:spPr>
          <a:xfrm>
            <a:off x="674280" y="4541400"/>
            <a:ext cx="191196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  <p:cxnSp>
        <p:nvCxnSpPr>
          <p:cNvPr id="276" name=""/>
          <p:cNvCxnSpPr>
            <a:stCxn id="274" idx="2"/>
            <a:endCxn id="274" idx="3"/>
          </p:cNvCxnSpPr>
          <p:nvPr/>
        </p:nvCxnSpPr>
        <p:spPr>
          <a:xfrm>
            <a:off x="674280" y="4747680"/>
            <a:ext cx="191196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3819600" y="938664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793E7F6-AACF-4F15-A535-10C60A334CE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0" y="938664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81960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74640" y="5011560"/>
            <a:ext cx="539424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755640" y="4664160"/>
            <a:ext cx="2617920" cy="348840"/>
            <a:chOff x="755640" y="4664160"/>
            <a:chExt cx="2617920" cy="348840"/>
          </a:xfrm>
        </p:grpSpPr>
        <p:sp>
          <p:nvSpPr>
            <p:cNvPr id="284" name=""/>
            <p:cNvSpPr/>
            <p:nvPr/>
          </p:nvSpPr>
          <p:spPr>
            <a:xfrm>
              <a:off x="755640" y="4664160"/>
              <a:ext cx="261792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720" tIns="0" bIns="45360" anchor="t">
              <a:spAutoFit/>
            </a:bodyPr>
            <a:p>
              <a:pPr algn="ctr">
                <a:lnSpc>
                  <a:spcPts val="2387"/>
                </a:lnSpc>
                <a:spcBef>
                  <a:spcPts val="1001"/>
                </a:spcBef>
                <a:tabLst>
                  <a:tab algn="l" pos="0"/>
                  <a:tab algn="l" pos="907920"/>
                  <a:tab algn="l" pos="1816200"/>
                  <a:tab algn="l" pos="2724120"/>
                  <a:tab algn="l" pos="3632040"/>
                  <a:tab algn="l" pos="4540320"/>
                  <a:tab algn="l" pos="5448240"/>
                  <a:tab algn="l" pos="6356520"/>
                  <a:tab algn="l" pos="7264440"/>
                  <a:tab algn="l" pos="8172360"/>
                  <a:tab algn="l" pos="9080640"/>
                  <a:tab algn="l" pos="9988560"/>
                  <a:tab algn="l" pos="1089648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TRICTLY CONFIDENT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55640" y="4664160"/>
              <a:ext cx="254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55640" y="4988880"/>
              <a:ext cx="254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819600" y="938664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3508C20-8067-498A-B0AF-B31B8FF66A4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0" y="938664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81960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46080" y="766800"/>
            <a:ext cx="4910040" cy="36828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26640" y="4680000"/>
            <a:ext cx="494676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3819600" y="938664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16864375-FC4F-412B-9F69-552C1890D1E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0" y="938664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1960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46080" y="766800"/>
            <a:ext cx="4910040" cy="36828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26640" y="4680000"/>
            <a:ext cx="494676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819600" y="938664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E5F1AC5D-13D4-4E9C-BD87-57B89793C98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0" y="938664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81960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74640" y="4856040"/>
            <a:ext cx="539424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50160" y="4543560"/>
            <a:ext cx="1941480" cy="18936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" rIns="10080" tIns="648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de-DE" sz="1200" spc="-1" strike="noStrike">
                <a:solidFill>
                  <a:srgbClr val="9e1d3e"/>
                </a:solidFill>
                <a:latin typeface="Arial"/>
              </a:rPr>
              <a:t>STRICTL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7" name=""/>
          <p:cNvCxnSpPr>
            <a:stCxn id="256" idx="0"/>
            <a:endCxn id="256" idx="1"/>
          </p:cNvCxnSpPr>
          <p:nvPr/>
        </p:nvCxnSpPr>
        <p:spPr>
          <a:xfrm>
            <a:off x="657000" y="4543200"/>
            <a:ext cx="192780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  <p:cxnSp>
        <p:nvCxnSpPr>
          <p:cNvPr id="258" name=""/>
          <p:cNvCxnSpPr>
            <a:stCxn id="256" idx="2"/>
            <a:endCxn id="256" idx="3"/>
          </p:cNvCxnSpPr>
          <p:nvPr/>
        </p:nvCxnSpPr>
        <p:spPr>
          <a:xfrm>
            <a:off x="657000" y="4733640"/>
            <a:ext cx="192780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45960" y="6442200"/>
            <a:ext cx="1255680" cy="2826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2177640" y="6453000"/>
            <a:ext cx="65530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</a:t>
            </a:r>
            <a:fld id="{66E3D17C-CA12-4948-B040-88547DD90C8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14280" y="6122880"/>
            <a:ext cx="2054160" cy="457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81080"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360360"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539640"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5396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5396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62000" y="152280"/>
            <a:ext cx="8813880" cy="2654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rius    “Entertainment goes outdoor”</a:t>
            </a:r>
            <a:br>
              <a:rPr sz="3200"/>
            </a:br>
            <a:r>
              <a:rPr b="1" lang="en-GB" sz="3200" spc="-1" strike="noStrike">
                <a:solidFill>
                  <a:srgbClr val="d46028"/>
                </a:solidFill>
                <a:latin typeface="Arial"/>
              </a:rPr>
              <a:t>Product Status Report at S25/M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12920" y="4184280"/>
            <a:ext cx="831816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SR, 4th May 2005 – Confidential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2920" y="4641840"/>
            <a:ext cx="369252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. Mildenberger (SPM), Gregor Flüge (PLT), J. Jungbauer (SPM BA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rcRect l="7219" t="11624" r="6563" b="3231"/>
          <a:stretch/>
        </p:blipFill>
        <p:spPr>
          <a:xfrm>
            <a:off x="88920" y="0"/>
            <a:ext cx="8926560" cy="6872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March 2005; Confidential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757872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d46028"/>
                </a:solidFill>
                <a:latin typeface="Arial"/>
              </a:rPr>
              <a:t>MTA still shows a delivery start as agreed at M1 (28th Jun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d46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rcRect l="664" t="15086" r="490" b="5412"/>
          <a:stretch/>
        </p:blipFill>
        <p:spPr>
          <a:xfrm>
            <a:off x="223920" y="1098720"/>
            <a:ext cx="8459640" cy="530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March 2005; Confidential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93560" y="222120"/>
            <a:ext cx="739152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d46028"/>
                </a:solidFill>
                <a:latin typeface="Arial"/>
              </a:rPr>
              <a:t>R&amp;D Spending Siri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0" y="1038240"/>
          <a:ext cx="6581880" cy="279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38240"/>
                    <a:ext cx="6581880" cy="27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685800" y="4505400"/>
          <a:ext cx="5410080" cy="1886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505400"/>
                    <a:ext cx="541008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6515280" y="1295280"/>
            <a:ext cx="2438280" cy="39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mment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unt: E981-05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0 declared 23.06.20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1 declared 11.11.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3 planned 17.08.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orts after M3: 0‘16 Mio. 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K-Fac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3/04: 2,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05: 1,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 of FC: 10.03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d46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March 2005; Confidential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d46028"/>
                </a:solidFill>
                <a:latin typeface="Arial"/>
              </a:rPr>
              <a:t>Product highligh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2000" y="1108080"/>
            <a:ext cx="2900160" cy="722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2920" y="1413000"/>
            <a:ext cx="120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Key Featur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80040" y="1108080"/>
            <a:ext cx="2900520" cy="722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331320" y="1413000"/>
            <a:ext cx="1069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990960" y="1122480"/>
            <a:ext cx="1162080" cy="23158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d46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14360" y="1957320"/>
            <a:ext cx="26478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Siemens Protection SystemTM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Shock, splash water and dust resistant (IP54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Media player (music &amp; video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RS MultiMediaCard slot (card and headset bundled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Push and Talk (PaT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2000" y="1165320"/>
            <a:ext cx="2900160" cy="722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2920" y="1413000"/>
            <a:ext cx="120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Key Featur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32400" y="1957320"/>
            <a:ext cx="264816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Integrated 1.3-megapixel camer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Video recording &amp; play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262K colour display, TF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3D Java engi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RS MultiMediaCard slo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Bluetooth</a:t>
            </a:r>
            <a:r>
              <a:rPr b="0" lang="en-GB" sz="13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, GPRS Class 1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80040" y="1165320"/>
            <a:ext cx="2900520" cy="722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31320" y="1413000"/>
            <a:ext cx="1069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14360" y="4354560"/>
            <a:ext cx="264780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Superior outdoor bar pho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Robust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igh value finis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uthentic materials (metal frame and rubber protected sides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2000" y="3560760"/>
            <a:ext cx="2900160" cy="722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14000" y="3807000"/>
            <a:ext cx="636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373560" y="4354560"/>
            <a:ext cx="2647800" cy="6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Mobile Music Se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Wide range of Headsets and </a:t>
            </a:r>
            <a:br>
              <a:rPr sz="1300"/>
            </a:b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Car Solu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1200" y="3560760"/>
            <a:ext cx="2900160" cy="722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372120" y="3808440"/>
            <a:ext cx="11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Accessori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332400" y="4354560"/>
            <a:ext cx="2648160" cy="10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3D Java games and </a:t>
            </a:r>
            <a:br>
              <a:rPr sz="1300"/>
            </a:b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multiplayer games via Bluetooth</a:t>
            </a:r>
            <a:r>
              <a:rPr b="0" lang="en-GB" sz="13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Themes, Download Assista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Instant messag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Weather forecas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80040" y="3560760"/>
            <a:ext cx="2900520" cy="722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330600" y="3807000"/>
            <a:ext cx="1145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March 2005; Confidential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d46028"/>
                </a:solidFill>
                <a:latin typeface="Arial"/>
              </a:rPr>
              <a:t>Entertainment Goes Outdo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633760" y="1165320"/>
            <a:ext cx="43290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joice in music and video entertainment in all circumstances with this robust phone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633760" y="2981160"/>
            <a:ext cx="4329000" cy="4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ale more than fema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id to high incom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633760" y="3657600"/>
            <a:ext cx="4332240" cy="20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utdoor activities have a very high priority for the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y expect robustness and reliability in their mobile devic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y want mobile devices to fit to travel, adventure and leisure activities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hey enjoy using mobile devices with a variety of multimedia and technologically innovative features</a:t>
            </a:r>
            <a:r>
              <a:rPr b="0" lang="en-GB" sz="15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633760" y="2247840"/>
            <a:ext cx="4329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-Class, Outdoo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rcRect l="2523" t="1522" r="2523" b="1764"/>
          <a:stretch/>
        </p:blipFill>
        <p:spPr>
          <a:xfrm>
            <a:off x="7091280" y="1646280"/>
            <a:ext cx="1882800" cy="38257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d46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Product Idea,</a:t>
            </a:r>
            <a:br>
              <a:rPr sz="900"/>
            </a:b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Target Grou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d46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62000" y="1165320"/>
            <a:ext cx="2270160" cy="722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14360" y="1413000"/>
            <a:ext cx="1954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Product Ide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2000" y="2000160"/>
            <a:ext cx="2270160" cy="7225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2000" y="2828880"/>
            <a:ext cx="2270160" cy="7225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2000" y="3657600"/>
            <a:ext cx="2270160" cy="722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4360" y="2246400"/>
            <a:ext cx="1954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Product Seg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4360" y="2976480"/>
            <a:ext cx="1954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Target Group</a:t>
            </a:r>
            <a:br>
              <a:rPr sz="1500"/>
            </a:b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Socio-demographic Da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14360" y="3805200"/>
            <a:ext cx="1954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Target Group</a:t>
            </a:r>
            <a:br>
              <a:rPr sz="1500"/>
            </a:b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Behavioural Aspe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March 2005; Confidential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15880" y="1562040"/>
            <a:ext cx="7945560" cy="351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__________________ 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 __________________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 __________________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SPM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PLT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           SPM B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__________________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__________________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SD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Q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1240" y="2109960"/>
            <a:ext cx="166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gned, M. Mildenber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7840" y="5310360"/>
            <a:ext cx="843732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Due to a decision from last PSR all extended core team members have to commit to the content of this presentation and “virtually” sign the presentation! Please send mail to SPM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70560" y="2146320"/>
            <a:ext cx="1235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gned, G. Flu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73280" y="2146320"/>
            <a:ext cx="1448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gned, J. Jungbau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46880" y="4083120"/>
            <a:ext cx="1046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igned, Z. Kir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07200" y="4056120"/>
            <a:ext cx="1155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gned, M. F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30040" y="291600"/>
            <a:ext cx="6553440" cy="6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46028"/>
                </a:solidFill>
                <a:latin typeface="Arial"/>
              </a:rPr>
              <a:t>This document is review and agreed by the extended Sirius REA Te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d46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612240" y="4065480"/>
            <a:ext cx="116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gned, K. Zlatk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March 2005; Confidential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r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46028"/>
                </a:solidFill>
                <a:latin typeface="Arial"/>
              </a:rPr>
              <a:t>Quality Gate Rating Sirius</a:t>
            </a:r>
            <a:r>
              <a:rPr b="1" lang="en-US" sz="2000" spc="-1" strike="noStrike">
                <a:solidFill>
                  <a:srgbClr val="d4602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d46028"/>
                </a:solidFill>
                <a:latin typeface="Arial"/>
              </a:rPr>
              <a:t>1/2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us S25/M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20960" y="1301760"/>
            <a:ext cx="74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71640" bIns="-71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d46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05120" y="1233360"/>
            <a:ext cx="5289480" cy="64512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rategy F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eature set and position are o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08360" y="2030400"/>
            <a:ext cx="5289480" cy="132876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fit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M2: Profit +11’0€ (+7.21%) vs. M1: +24'7€ (10.1%,)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based on 813k units and 200€ CRP launch price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absolute Profit deviation: -5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ow confidence in Business Case due to price/volum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741240" y="2509920"/>
            <a:ext cx="2233440" cy="2208240"/>
            <a:chOff x="741240" y="2509920"/>
            <a:chExt cx="2233440" cy="2208240"/>
          </a:xfrm>
        </p:grpSpPr>
        <p:sp>
          <p:nvSpPr>
            <p:cNvPr id="116" name=""/>
            <p:cNvSpPr/>
            <p:nvPr/>
          </p:nvSpPr>
          <p:spPr>
            <a:xfrm>
              <a:off x="741240" y="2514960"/>
              <a:ext cx="2233440" cy="2203200"/>
            </a:xfrm>
            <a:prstGeom prst="ellipse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050840" y="2810160"/>
              <a:ext cx="1614240" cy="1614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84200" y="3144960"/>
              <a:ext cx="949320" cy="941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888840" y="3075120"/>
              <a:ext cx="1942920" cy="108288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900000" y="3054600"/>
              <a:ext cx="1927080" cy="1119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1860120" y="2509920"/>
              <a:ext cx="4680" cy="2208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1362240" y="2192400"/>
            <a:ext cx="1023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fi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778120" y="4226040"/>
            <a:ext cx="701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Project</a:t>
            </a:r>
            <a:br>
              <a:rPr sz="1200"/>
            </a:b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726640" y="2612880"/>
            <a:ext cx="812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ales 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7280" y="4226040"/>
            <a:ext cx="802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Product </a:t>
            </a:r>
            <a:br>
              <a:rPr sz="1200"/>
            </a:b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9280" y="2535120"/>
            <a:ext cx="120996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24720" y="4797360"/>
            <a:ext cx="12762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Time-to-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732120" y="3546360"/>
            <a:ext cx="5289480" cy="290772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ales F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Launch CRP 200€; 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rice risks: WE &amp; EE 13%, MEA &amp; APAC 8.5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0000"/>
                </a:solidFill>
                <a:latin typeface="Arial"/>
              </a:rPr>
              <a:t>540k units (current demand planning) vs. 813k units (in Business Case)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vs. 1’35 units (M1) </a:t>
            </a:r>
            <a:r>
              <a:rPr b="0" lang="en-GB" sz="1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34% volume risk in B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 areas: Keys too small, bulky appearance, proportions between display and housing is wro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WE,EE,MEA: Capacity of MMC is too low (32 vs. 128 MB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WE: Java music player does not work due to a  problem in JAVA implementation (not required in M1)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19200" y="3344760"/>
            <a:ext cx="690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</a:rPr>
              <a:t>Q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37400" y="5773680"/>
            <a:ext cx="309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ing Meeting: 21-Apr-05 (update 2-May-05)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SO support: Dr. M. Ass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84240" y="3103560"/>
            <a:ext cx="1447920" cy="1163520"/>
          </a:xfrm>
          <a:custGeom>
            <a:avLst/>
            <a:gdLst/>
            <a:ahLst/>
            <a:rect l="l" t="t" r="r" b="b"/>
            <a:pathLst>
              <a:path w="912" h="733">
                <a:moveTo>
                  <a:pt x="548" y="733"/>
                </a:moveTo>
                <a:lnTo>
                  <a:pt x="912" y="526"/>
                </a:lnTo>
                <a:lnTo>
                  <a:pt x="738" y="218"/>
                </a:lnTo>
                <a:lnTo>
                  <a:pt x="559" y="118"/>
                </a:lnTo>
                <a:lnTo>
                  <a:pt x="0" y="0"/>
                </a:lnTo>
                <a:lnTo>
                  <a:pt x="202" y="520"/>
                </a:lnTo>
                <a:lnTo>
                  <a:pt x="548" y="733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March 2005; Confidential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r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46028"/>
                </a:solidFill>
                <a:latin typeface="Arial"/>
              </a:rPr>
              <a:t>Quality Gate Rating Sirius </a:t>
            </a:r>
            <a:r>
              <a:rPr b="1" lang="en-US" sz="2000" spc="-1" strike="noStrike">
                <a:solidFill>
                  <a:srgbClr val="d4602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d46028"/>
                </a:solidFill>
                <a:latin typeface="Arial"/>
              </a:rPr>
              <a:t>2/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us S25/M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720960" y="1301760"/>
            <a:ext cx="74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71640" bIns="-71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d46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90600" y="2435400"/>
            <a:ext cx="1023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Profi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706840" y="4468680"/>
            <a:ext cx="701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655000" y="2855880"/>
            <a:ext cx="812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Sales 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5640" y="4468680"/>
            <a:ext cx="802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duct 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8000" y="2778120"/>
            <a:ext cx="1209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53440" y="5040360"/>
            <a:ext cx="12762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ime-to-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736800" y="2795760"/>
            <a:ext cx="5241960" cy="144324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ime-to-Mar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TM delay of up to 1.5 weeks expected due to the same reasons as Phoeni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3:  25-May-05 (no delay in Primavera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DS: 28-Jun-05 (no delay in Primavera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736800" y="4473720"/>
            <a:ext cx="5241960" cy="116748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ject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D: partly missing skills in English, communication, project management and know-how about organis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till insufficient SW resources to improve TT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736800" y="1177920"/>
            <a:ext cx="5241960" cy="144324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duct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 features are implemented and ready to te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Dust on the display is not sufficient for IP54, ye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ycling time in production is to high due to SW work- around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669960" y="2752560"/>
            <a:ext cx="2233440" cy="2208240"/>
            <a:chOff x="669960" y="2752560"/>
            <a:chExt cx="2233440" cy="2208240"/>
          </a:xfrm>
        </p:grpSpPr>
        <p:sp>
          <p:nvSpPr>
            <p:cNvPr id="146" name=""/>
            <p:cNvSpPr/>
            <p:nvPr/>
          </p:nvSpPr>
          <p:spPr>
            <a:xfrm>
              <a:off x="669960" y="2757600"/>
              <a:ext cx="2233440" cy="2203200"/>
            </a:xfrm>
            <a:prstGeom prst="ellipse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79560" y="3052800"/>
              <a:ext cx="1614240" cy="1614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12920" y="3387600"/>
              <a:ext cx="949320" cy="941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817560" y="3317760"/>
              <a:ext cx="1942920" cy="108288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28720" y="3297240"/>
              <a:ext cx="1927080" cy="1119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1788840" y="2752560"/>
              <a:ext cx="4680" cy="2208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1447920" y="3587760"/>
            <a:ext cx="690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</a:rPr>
              <a:t>Q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65760" y="6016680"/>
            <a:ext cx="309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ing Meeting: 21-Apr-05 (update 2-May-05)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SO support: Dr. M. Ass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12960" y="3346560"/>
            <a:ext cx="1447560" cy="1163520"/>
          </a:xfrm>
          <a:custGeom>
            <a:avLst/>
            <a:gdLst/>
            <a:ahLst/>
            <a:rect l="l" t="t" r="r" b="b"/>
            <a:pathLst>
              <a:path w="912" h="733">
                <a:moveTo>
                  <a:pt x="548" y="733"/>
                </a:moveTo>
                <a:lnTo>
                  <a:pt x="912" y="526"/>
                </a:lnTo>
                <a:lnTo>
                  <a:pt x="738" y="218"/>
                </a:lnTo>
                <a:lnTo>
                  <a:pt x="559" y="118"/>
                </a:lnTo>
                <a:lnTo>
                  <a:pt x="0" y="0"/>
                </a:lnTo>
                <a:lnTo>
                  <a:pt x="202" y="520"/>
                </a:lnTo>
                <a:lnTo>
                  <a:pt x="548" y="733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March 2005; Confidential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68360" y="333360"/>
            <a:ext cx="753912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d46028"/>
                </a:solidFill>
                <a:latin typeface="Arial"/>
              </a:rPr>
              <a:t>Comparison Business Case</a:t>
            </a:r>
            <a:br>
              <a:rPr sz="2400"/>
            </a:b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Current Business Case of Sirius indicates a Profit of – 1’7 (-1.2%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d46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10080" y="1855800"/>
            <a:ext cx="4516560" cy="438156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Lifecyc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ill M1 assumptions (06/05 – 05/0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Units</a:t>
            </a:r>
            <a:r>
              <a:rPr b="1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lta: +0’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2: DP 04/05;  Actual: PBM Input in ROF 05/0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ASP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lta: - € 17.0/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2: M1 price line;  Actual: QPM 04/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H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crease M2 and Actual due to lower quantities (tooling inves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CCQ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ill M1 assum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R&amp;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lta: +1.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2: R&amp;D Forecast 03/05; Actual: new indirect cost facto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Marc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ill M1 assumptions (2’5 + 5% of T/O + 5 €/p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92800" y="1190520"/>
            <a:ext cx="4462200" cy="654120"/>
          </a:xfrm>
          <a:prstGeom prst="rect">
            <a:avLst/>
          </a:prstGeom>
          <a:solidFill>
            <a:srgbClr val="87b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viation Analysis M2 vs. Act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31760" y="1177920"/>
          <a:ext cx="4148280" cy="487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760" y="1177920"/>
                    <a:ext cx="414828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March 2005; Confidential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6560" y="279360"/>
            <a:ext cx="65534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d46028"/>
                </a:solidFill>
                <a:latin typeface="Arial"/>
              </a:rPr>
              <a:t>Proposed next ste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d46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0160" y="1362240"/>
            <a:ext cx="79740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noAutofit/>
          </a:bodyPr>
          <a:p>
            <a:pPr marL="358920" indent="-179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D to set up crisis management team to lead the SW bug fixing process, PSR and MD board support in nominating a dedicated project leader for this 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179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ze details regarding software quality and expected return 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179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e potential TTM delay / loss of volumes in case software targets have to be reac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179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 decision proposal to management latest end of M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8120" y="5073480"/>
            <a:ext cx="34113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SR agrees to propos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92240" y="5572080"/>
            <a:ext cx="380880" cy="30492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463840" y="5572080"/>
            <a:ext cx="380880" cy="30492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03360" y="5607000"/>
            <a:ext cx="5662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969280" y="5602320"/>
            <a:ext cx="4305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57480" y="5411880"/>
            <a:ext cx="921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March 2005; Confidential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630072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d46028"/>
                </a:solidFill>
                <a:latin typeface="Arial"/>
              </a:rPr>
              <a:t>Backu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d46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March 2005; Confidential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d46028"/>
                </a:solidFill>
                <a:latin typeface="Arial"/>
              </a:rPr>
              <a:t>Measures, Responsibilities and Due Da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12760" y="1155600"/>
          <a:ext cx="8764560" cy="5762880"/>
        </p:xfrm>
        <a:graphic>
          <a:graphicData uri="http://schemas.openxmlformats.org/drawingml/2006/table">
            <a:tbl>
              <a:tblPr/>
              <a:tblGrid>
                <a:gridCol w="1284120"/>
                <a:gridCol w="4461120"/>
                <a:gridCol w="664920"/>
                <a:gridCol w="601920"/>
                <a:gridCol w="1752480"/>
              </a:tblGrid>
              <a:tr h="344160"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-Gate Ax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0e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s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0e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0e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0e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i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0e3"/>
                    </a:solidFill>
                  </a:tcPr>
                </a:tc>
              </a:tr>
              <a:tr h="412200"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tegy F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080"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ita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es F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6200"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 Qu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st on display: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oot cause is potentially the cushion. A new cushion will reduce or solve probl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ftware: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ycle time 2 seconds too long due to lots of workarounds. This will reduce capacity if not sol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ystick: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 to 40% of all joystick caps falls off after the assembly and a short time of use. Improvements are defined and will be tested until End of cw19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ystick: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% failure rate in customer test, under eval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 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280"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280"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Qu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216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0560"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d46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March 2005; Confidential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rcRect l="7050" t="10348" r="6563" b="4538"/>
          <a:stretch/>
        </p:blipFill>
        <p:spPr>
          <a:xfrm>
            <a:off x="88920" y="0"/>
            <a:ext cx="8899560" cy="6835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March 2005; Confidential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Marco Mildenberger</cp:lastModifiedBy>
  <cp:lastPrinted>2005-01-13T16:58:42Z</cp:lastPrinted>
  <dcterms:modified xsi:type="dcterms:W3CDTF">2005-05-04T08:06:26Z</dcterms:modified>
  <cp:revision>535</cp:revision>
  <dc:subject/>
  <dc:title>PowerPoint Presentation</dc:title>
</cp:coreProperties>
</file>