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428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02880" y="740880"/>
            <a:ext cx="4940280" cy="37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4640" y="4857480"/>
            <a:ext cx="539424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94BB439-B908-4615-AEC1-5746B529FDE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4640" y="4857480"/>
            <a:ext cx="539424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0200" y="4543560"/>
            <a:ext cx="194364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" rIns="1044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0"/>
            <a:endCxn id="235" idx="1"/>
          </p:cNvCxnSpPr>
          <p:nvPr/>
        </p:nvCxnSpPr>
        <p:spPr>
          <a:xfrm>
            <a:off x="579240" y="4543200"/>
            <a:ext cx="200556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237" name=""/>
          <p:cNvCxnSpPr>
            <a:stCxn id="235" idx="2"/>
            <a:endCxn id="235" idx="3"/>
          </p:cNvCxnSpPr>
          <p:nvPr/>
        </p:nvCxnSpPr>
        <p:spPr>
          <a:xfrm>
            <a:off x="579240" y="4741560"/>
            <a:ext cx="200556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D098294-BE20-43E3-91B8-AF192CDEE10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4640" y="4856040"/>
            <a:ext cx="53942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0160" y="454356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65" idx="0"/>
            <a:endCxn id="265" idx="1"/>
          </p:cNvCxnSpPr>
          <p:nvPr/>
        </p:nvCxnSpPr>
        <p:spPr>
          <a:xfrm>
            <a:off x="657000" y="4543200"/>
            <a:ext cx="192780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267" name=""/>
          <p:cNvCxnSpPr>
            <a:stCxn id="265" idx="2"/>
            <a:endCxn id="265" idx="3"/>
          </p:cNvCxnSpPr>
          <p:nvPr/>
        </p:nvCxnSpPr>
        <p:spPr>
          <a:xfrm>
            <a:off x="657000" y="4733640"/>
            <a:ext cx="192780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0DB0355-E2DE-4057-8E55-C1DAD602081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4640" y="4856040"/>
            <a:ext cx="53942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59520" y="454176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0"/>
            <a:endCxn id="274" idx="1"/>
          </p:cNvCxnSpPr>
          <p:nvPr/>
        </p:nvCxnSpPr>
        <p:spPr>
          <a:xfrm>
            <a:off x="674280" y="4541400"/>
            <a:ext cx="191196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276" name=""/>
          <p:cNvCxnSpPr>
            <a:stCxn id="274" idx="2"/>
            <a:endCxn id="274" idx="3"/>
          </p:cNvCxnSpPr>
          <p:nvPr/>
        </p:nvCxnSpPr>
        <p:spPr>
          <a:xfrm>
            <a:off x="674280" y="4747680"/>
            <a:ext cx="191196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F594C06-4270-494E-8C5F-AA62C0B5A44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4640" y="5011560"/>
            <a:ext cx="53942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55640" y="4664160"/>
            <a:ext cx="2617920" cy="348840"/>
            <a:chOff x="755640" y="4664160"/>
            <a:chExt cx="2617920" cy="348840"/>
          </a:xfrm>
        </p:grpSpPr>
        <p:sp>
          <p:nvSpPr>
            <p:cNvPr id="284" name=""/>
            <p:cNvSpPr/>
            <p:nvPr/>
          </p:nvSpPr>
          <p:spPr>
            <a:xfrm>
              <a:off x="755640" y="4664160"/>
              <a:ext cx="261792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720" tIns="0" bIns="45360" anchor="t">
              <a:spAutoFit/>
            </a:bodyPr>
            <a:p>
              <a:pPr algn="ctr">
                <a:lnSpc>
                  <a:spcPts val="2387"/>
                </a:lnSpc>
                <a:spcBef>
                  <a:spcPts val="1001"/>
                </a:spcBef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5640" y="4664160"/>
              <a:ext cx="254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5640" y="4988880"/>
              <a:ext cx="254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E38BDB5-3D86-475A-9983-7BE8E5E6671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46080" y="76680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26640" y="4680000"/>
            <a:ext cx="494676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F28595A-37CA-41A7-A38E-EB1CCE1A456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46080" y="76680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26640" y="4680000"/>
            <a:ext cx="494676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D439A68-EF55-40BD-A480-1C314530475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74640" y="4856040"/>
            <a:ext cx="53942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0160" y="454356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6" idx="0"/>
            <a:endCxn id="256" idx="1"/>
          </p:cNvCxnSpPr>
          <p:nvPr/>
        </p:nvCxnSpPr>
        <p:spPr>
          <a:xfrm>
            <a:off x="657000" y="4543200"/>
            <a:ext cx="192780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258" name=""/>
          <p:cNvCxnSpPr>
            <a:stCxn id="256" idx="2"/>
            <a:endCxn id="256" idx="3"/>
          </p:cNvCxnSpPr>
          <p:nvPr/>
        </p:nvCxnSpPr>
        <p:spPr>
          <a:xfrm>
            <a:off x="657000" y="4733640"/>
            <a:ext cx="192780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fld id="{579287F7-D797-4178-9A78-C68B66EBDAD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2000" y="152280"/>
            <a:ext cx="8813880" cy="2654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rius    “Entertainment goes outdoor”</a:t>
            </a:r>
            <a:br>
              <a:rPr sz="3200"/>
            </a:br>
            <a:r>
              <a:rPr b="1" lang="en-GB" sz="3200" spc="-1" strike="noStrike">
                <a:solidFill>
                  <a:srgbClr val="d46028"/>
                </a:solidFill>
                <a:latin typeface="Arial"/>
              </a:rPr>
              <a:t>Product Status Report at S25/M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SR, 4th May 2005 – Confidenti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2920" y="4641840"/>
            <a:ext cx="36925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. Mildenberger (SPM), Gregor Flüge (PLT), J. Jungbauer (SPM B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rcRect l="7219" t="11624" r="6563" b="3231"/>
          <a:stretch/>
        </p:blipFill>
        <p:spPr>
          <a:xfrm>
            <a:off x="88920" y="0"/>
            <a:ext cx="8926560" cy="687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7578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MTA still shows a delivery start as agreed at M1 (28th Ju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664" t="15086" r="490" b="5412"/>
          <a:stretch/>
        </p:blipFill>
        <p:spPr>
          <a:xfrm>
            <a:off x="223920" y="1098720"/>
            <a:ext cx="8459640" cy="530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93560" y="222120"/>
            <a:ext cx="739152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d46028"/>
                </a:solidFill>
                <a:latin typeface="Arial"/>
              </a:rPr>
              <a:t>R&amp;D Spending Sir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0" y="1038240"/>
          <a:ext cx="6581880" cy="279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38240"/>
                    <a:ext cx="658188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85800" y="4505400"/>
          <a:ext cx="5410080" cy="1886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505400"/>
                    <a:ext cx="541008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6515280" y="1295280"/>
            <a:ext cx="2438280" cy="39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: E981-05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 declared 23.06.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 declared 11.11.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3 planned 17.08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after M3: 0‘16 Mio. 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K-Fa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3/04: 2,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05: 1,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of FC: 10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Product highligh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2000" y="1108080"/>
            <a:ext cx="290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2920" y="1413000"/>
            <a:ext cx="120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80040" y="1108080"/>
            <a:ext cx="29005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31320" y="1413000"/>
            <a:ext cx="106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990960" y="1122480"/>
            <a:ext cx="1162080" cy="23158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4360" y="1957320"/>
            <a:ext cx="26478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iemens Protection SystemTM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hock, splash water and dust resistant (IP54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edia player (music &amp; video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S MultiMediaCard slot (card and headset bundle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Push and Talk (Pa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2000" y="1165320"/>
            <a:ext cx="290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2920" y="1413000"/>
            <a:ext cx="120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32400" y="1957320"/>
            <a:ext cx="26481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tegrated 1.3-megapixel came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Video recording &amp; play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262K colour display, TF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3D Java engi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S MultiMediaCard slo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luetooth</a:t>
            </a:r>
            <a:r>
              <a:rPr b="0" lang="en-GB" sz="13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, GPRS Class 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80040" y="1165320"/>
            <a:ext cx="29005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31320" y="1413000"/>
            <a:ext cx="106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4360" y="4354560"/>
            <a:ext cx="26478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uperior outdoor bar ph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obus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gh value finis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hentic materials (metal frame and rubber protected side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2000" y="3560760"/>
            <a:ext cx="290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4000" y="3807000"/>
            <a:ext cx="63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73560" y="4354560"/>
            <a:ext cx="2647800" cy="6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obile Music S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Wide range of Headsets and </a:t>
            </a:r>
            <a:br>
              <a:rPr sz="13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ar Solu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1200" y="3560760"/>
            <a:ext cx="290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72120" y="3808440"/>
            <a:ext cx="11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32400" y="4354560"/>
            <a:ext cx="264816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3D Java games and </a:t>
            </a:r>
            <a:br>
              <a:rPr sz="13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ultiplayer games via Bluetooth</a:t>
            </a:r>
            <a:r>
              <a:rPr b="0" lang="en-GB" sz="13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hemes, Download Assist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stant messag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Weather foreca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80040" y="3560760"/>
            <a:ext cx="29005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30600" y="3807000"/>
            <a:ext cx="114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Entertainment Goes Outdo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33760" y="1165320"/>
            <a:ext cx="4329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joice in music and video entertainment in all circumstances with this robust phon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33760" y="2981160"/>
            <a:ext cx="432900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le more than fe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id to high inco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33760" y="3657600"/>
            <a:ext cx="433224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utdoor activities have a very high priority for th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y expect robustness and reliability in their mobile devic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y want mobile devices to fit to travel, adventure and leisure activiti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y enjoy using mobile devices with a variety of multimedia and technologically innovative features</a:t>
            </a: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33760" y="2247840"/>
            <a:ext cx="43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-Class, Outdo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2523" t="1522" r="2523" b="1764"/>
          <a:stretch/>
        </p:blipFill>
        <p:spPr>
          <a:xfrm>
            <a:off x="7091280" y="1646280"/>
            <a:ext cx="1882800" cy="3825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Product Idea,</a:t>
            </a:r>
            <a:br>
              <a:rPr sz="900"/>
            </a:b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Target Gro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2000" y="1165320"/>
            <a:ext cx="227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4360" y="1413000"/>
            <a:ext cx="195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duct Ide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2000" y="2000160"/>
            <a:ext cx="227016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2000" y="2828880"/>
            <a:ext cx="227016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2000" y="3657600"/>
            <a:ext cx="227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4360" y="2246400"/>
            <a:ext cx="195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duct Seg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4360" y="2976480"/>
            <a:ext cx="195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arget Group</a:t>
            </a:r>
            <a:br>
              <a:rPr sz="15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ocio-demographic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4360" y="3805200"/>
            <a:ext cx="195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arget Group</a:t>
            </a:r>
            <a:br>
              <a:rPr sz="15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ehavioural Aspe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15880" y="1562040"/>
            <a:ext cx="7945560" cy="35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__________________ 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 __________________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 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SPM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PLT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           SPM B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SD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Q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1240" y="2109960"/>
            <a:ext cx="166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M. Mildenber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7840" y="5310360"/>
            <a:ext cx="84373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Due to a decision from last PSR all extended core team members have to commit to the content of this presentation and “virtually” sign the presentation! Please send mail to SPM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70560" y="2146320"/>
            <a:ext cx="123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G. Flu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3280" y="2146320"/>
            <a:ext cx="144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J. Jungbau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46880" y="4083120"/>
            <a:ext cx="1046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igned, Z. Ki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07200" y="4056120"/>
            <a:ext cx="115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M. F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0040" y="29160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This document is review and agreed by the extended Sirius REA 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12240" y="4065480"/>
            <a:ext cx="116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K. Zlat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r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Quality Gate Rating Sirius</a:t>
            </a: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1/2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S25/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05120" y="1233360"/>
            <a:ext cx="5289480" cy="6451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eature set and position are 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2030400"/>
            <a:ext cx="5289480" cy="13287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M2: Profit +11’0€ (+7.21%) vs. M1: +24'7€ (10.1%,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based on 813k units and 200€ CRP launch pri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bsolute Profit deviation: -5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ow confidence in Business Case due to price/volum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41240" y="2509920"/>
            <a:ext cx="2233440" cy="2208240"/>
            <a:chOff x="741240" y="2509920"/>
            <a:chExt cx="2233440" cy="2208240"/>
          </a:xfrm>
        </p:grpSpPr>
        <p:sp>
          <p:nvSpPr>
            <p:cNvPr id="116" name=""/>
            <p:cNvSpPr/>
            <p:nvPr/>
          </p:nvSpPr>
          <p:spPr>
            <a:xfrm>
              <a:off x="741240" y="251496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50840" y="281016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84200" y="314496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88840" y="307512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00000" y="305460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860120" y="250992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362240" y="2192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78120" y="422604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26640" y="2612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7280" y="422604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2535120"/>
            <a:ext cx="12099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24720" y="4797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2120" y="3546360"/>
            <a:ext cx="5289480" cy="2907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unch CRP 200€;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ice risks: WE &amp; EE 13%, MEA &amp; APAC 8.5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540k units (current demand planning) vs. 813k units (in Business Case)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vs. 1’35 units (M1) </a:t>
            </a:r>
            <a:r>
              <a:rPr b="0" lang="en-GB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34% volume risk in B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 areas: Keys too small, bulky appearance, proportions between display and housing is wro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E,EE,MEA: Capacity of MMC is too low (32 vs. 128 MB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E: Java music player does not work due to a  problem in JAVA implementation (not required in M1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19200" y="3344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7400" y="5773680"/>
            <a:ext cx="309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21-Apr-05 (update 2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Dr.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84240" y="3103560"/>
            <a:ext cx="1447920" cy="1163520"/>
          </a:xfrm>
          <a:custGeom>
            <a:avLst/>
            <a:gdLst/>
            <a:ahLst/>
            <a:rect l="l" t="t" r="r" b="b"/>
            <a:pathLst>
              <a:path w="912" h="733">
                <a:moveTo>
                  <a:pt x="548" y="733"/>
                </a:moveTo>
                <a:lnTo>
                  <a:pt x="912" y="526"/>
                </a:lnTo>
                <a:lnTo>
                  <a:pt x="738" y="218"/>
                </a:lnTo>
                <a:lnTo>
                  <a:pt x="559" y="118"/>
                </a:lnTo>
                <a:lnTo>
                  <a:pt x="0" y="0"/>
                </a:lnTo>
                <a:lnTo>
                  <a:pt x="202" y="520"/>
                </a:lnTo>
                <a:lnTo>
                  <a:pt x="548" y="733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r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Quality Gate Rating Sirius </a:t>
            </a: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2/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S25/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060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0684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5500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564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800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5344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6800" y="2795760"/>
            <a:ext cx="5241960" cy="1443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TM delay of up to 1.5 weeks expected due to the same reasons as Phoeni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3:  25-May-05 (no delay in Primaver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S: 28-Jun-05 (no delay in Primaver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36800" y="4473720"/>
            <a:ext cx="5241960" cy="11674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D: partly missing skills in English, communication, project management and know-how about organis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till insufficient SW resources to improve TT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36800" y="1177920"/>
            <a:ext cx="5241960" cy="1443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 features are implemented and ready to 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ust on the display is not sufficient for IP54, y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ing time in production is to high due to SW work- aroun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69960" y="2752560"/>
            <a:ext cx="2233440" cy="2208240"/>
            <a:chOff x="669960" y="2752560"/>
            <a:chExt cx="2233440" cy="2208240"/>
          </a:xfrm>
        </p:grpSpPr>
        <p:sp>
          <p:nvSpPr>
            <p:cNvPr id="146" name=""/>
            <p:cNvSpPr/>
            <p:nvPr/>
          </p:nvSpPr>
          <p:spPr>
            <a:xfrm>
              <a:off x="66996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7956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1292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1756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872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78884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44792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" y="6016680"/>
            <a:ext cx="309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21-Apr-05 (update 2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Dr.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2960" y="3346560"/>
            <a:ext cx="1447560" cy="1163520"/>
          </a:xfrm>
          <a:custGeom>
            <a:avLst/>
            <a:gdLst/>
            <a:ahLst/>
            <a:rect l="l" t="t" r="r" b="b"/>
            <a:pathLst>
              <a:path w="912" h="733">
                <a:moveTo>
                  <a:pt x="548" y="733"/>
                </a:moveTo>
                <a:lnTo>
                  <a:pt x="912" y="526"/>
                </a:lnTo>
                <a:lnTo>
                  <a:pt x="738" y="218"/>
                </a:lnTo>
                <a:lnTo>
                  <a:pt x="559" y="118"/>
                </a:lnTo>
                <a:lnTo>
                  <a:pt x="0" y="0"/>
                </a:lnTo>
                <a:lnTo>
                  <a:pt x="202" y="520"/>
                </a:lnTo>
                <a:lnTo>
                  <a:pt x="548" y="733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360" y="333360"/>
            <a:ext cx="75391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Comparison Business Case</a:t>
            </a:r>
            <a:br>
              <a:rPr sz="2400"/>
            </a:b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urrent Business Case of Sirius indicates a Profit of – 1’7 (-1.2%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10080" y="1855800"/>
            <a:ext cx="4516560" cy="43815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ifecy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ll M1 assumptions (06/05 – 05/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Units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lta: +0’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2: DP 04/05;  Actual: PBM Input in ROF 05/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AS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ta: - € 17.0/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: M1 price line;  Actual: QPM 04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 M2 and Actual due to lower quantities (tooling inve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CQ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ll M1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R&amp;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ta: +1.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: R&amp;D Forecast 03/05; Actual: new indirect cost fact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arc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ll M1 assumptions (2’5 + 5% of T/O + 5 €/p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2800" y="1190520"/>
            <a:ext cx="4462200" cy="65412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iation Analysis M2 vs. A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31760" y="1177920"/>
          <a:ext cx="4148280" cy="48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" y="1177920"/>
                    <a:ext cx="414828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Proposed next ste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0160" y="1362240"/>
            <a:ext cx="79740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pPr marL="358920" indent="-179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 to set up crisis management team to lead the SW bug fixing process, PSR and MD board support in nominating a dedicated project leader for this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179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details regarding software quality and expected return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179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potential TTM delay / loss of volumes in case software targets have to be rea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179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 decision proposal to management latest end of M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8120" y="5073480"/>
            <a:ext cx="341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SR agrees to propos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92240" y="557208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63840" y="557208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03360" y="5607000"/>
            <a:ext cx="566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69280" y="5602320"/>
            <a:ext cx="430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57480" y="5411880"/>
            <a:ext cx="92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6300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Back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Measures, Responsibilities and Due 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12760" y="1155600"/>
          <a:ext cx="8764560" cy="5762880"/>
        </p:xfrm>
        <a:graphic>
          <a:graphicData uri="http://schemas.openxmlformats.org/drawingml/2006/table">
            <a:tbl>
              <a:tblPr/>
              <a:tblGrid>
                <a:gridCol w="1284120"/>
                <a:gridCol w="4461120"/>
                <a:gridCol w="664920"/>
                <a:gridCol w="601920"/>
                <a:gridCol w="1752480"/>
              </a:tblGrid>
              <a:tr h="34416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-Gate Ax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</a:tr>
              <a:tr h="41220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gy F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F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20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st on display: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oot cause is potentially the cushion. A new cushion will reduce or solve probl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: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ycle time 2 seconds too long due to lots of workarounds. This will reduce capacity if not sol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stick: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 to 40% of all joystick caps falls off after the assembly and a short time of use. Improvements are defined and will be tested until End of cw1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stick: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 failure rate in customer test, under e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56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7050" t="10348" r="6563" b="4538"/>
          <a:stretch/>
        </p:blipFill>
        <p:spPr>
          <a:xfrm>
            <a:off x="88920" y="0"/>
            <a:ext cx="8899560" cy="683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Marco Mildenberger</cp:lastModifiedBy>
  <cp:lastPrinted>2005-01-13T16:58:42Z</cp:lastPrinted>
  <dcterms:modified xsi:type="dcterms:W3CDTF">2005-05-04T08:06:26Z</dcterms:modified>
  <cp:revision>535</cp:revision>
  <dc:subject/>
  <dc:title>PowerPoint Presentation</dc:title>
</cp:coreProperties>
</file>