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FB37-F20A-4EF9-8448-1AFA5E6EC2D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928C-924C-456B-9EAC-AA3926DA2A8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2B37-066F-4973-AB41-463B2F89CD2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Finch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19-Apr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94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4297320"/>
            <a:ext cx="5289480" cy="25272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nch price 60€, ASP 52€, EOL 45€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M: price position is too high, max. 52€ lau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'65 units,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total volume ~50% (</a:t>
            </a:r>
            <a:r>
              <a:rPr b="1" i="1" lang="en-GB" sz="1400" spc="-1" strike="noStrike">
                <a:solidFill>
                  <a:srgbClr val="ff0000"/>
                </a:solidFill>
                <a:latin typeface="Arial"/>
              </a:rPr>
              <a:t>based on 60€ launch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):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 no risk, EE 20-50%, Americas 51%, MEA 90%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AC 100 %, China 4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ssing customer requirements: camera, bluetooth or Ir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 design acceptance test: ranking for Pipe design: 3rd place (1st was Around design, preferred by AP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P: No USP (me-too), only compete on price or br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08360" y="2946240"/>
            <a:ext cx="5289480" cy="13287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rofit: -7’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€ (-2.4%, current) vs. +11’7€ (+4%, target)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-&gt; deviation: -160% (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ased on 52€ launc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'65 un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% confidence in the current BC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isk on pricing and BOM-commitment of SP implemen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08360" y="642960"/>
            <a:ext cx="5289480" cy="22698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st fit to roadmap and story line: standby time (270h vs. 410h) is not USP, is considered to be competitive and is a compromise to meet the required dimension and 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uge impact on portfolio as Finch addresses the entry level colour segment &amp; midrange A-class (high volum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fe cycle of 12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arge, mature market; addressable market: 191'8 units, market share: 3.4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4120" y="6016680"/>
            <a:ext cx="317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11-Ap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Finc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32040" y="3359160"/>
            <a:ext cx="1452240" cy="1481040"/>
          </a:xfrm>
          <a:custGeom>
            <a:avLst/>
            <a:gdLst/>
            <a:ahLst/>
            <a:rect l="l" t="t" r="r" b="b"/>
            <a:pathLst>
              <a:path w="915" h="933">
                <a:moveTo>
                  <a:pt x="545" y="933"/>
                </a:moveTo>
                <a:lnTo>
                  <a:pt x="915" y="516"/>
                </a:lnTo>
                <a:lnTo>
                  <a:pt x="735" y="216"/>
                </a:lnTo>
                <a:lnTo>
                  <a:pt x="555" y="158"/>
                </a:lnTo>
                <a:lnTo>
                  <a:pt x="0" y="0"/>
                </a:lnTo>
                <a:lnTo>
                  <a:pt x="207" y="496"/>
                </a:lnTo>
                <a:lnTo>
                  <a:pt x="545" y="9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Finc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55880" y="3213000"/>
            <a:ext cx="5241960" cy="16210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85% TTM confidence level: RF evaluation is op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3.05.05 (4 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2.11.05 (2 days earlie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25.01.06 (1 day earlier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2.02.06 (8 days earlie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55880" y="4995720"/>
            <a:ext cx="5241960" cy="891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ffing is complete, but resources for the LAM 850 variant evaluation are missing if SD2 RF solution is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55880" y="1197000"/>
            <a:ext cx="5241960" cy="1899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F: Antenna performance in GSM850 is not yet committed to meet the FBT requir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W: Microphone and vibrator are on the same side. This might cause an EMC problem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D: The two decorations on the top and bottom of the housing are a potential risk for the drop tes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125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120" y="6016680"/>
            <a:ext cx="317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11-Ap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32040" y="3359160"/>
            <a:ext cx="1452240" cy="1481040"/>
          </a:xfrm>
          <a:custGeom>
            <a:avLst/>
            <a:gdLst/>
            <a:ahLst/>
            <a:rect l="l" t="t" r="r" b="b"/>
            <a:pathLst>
              <a:path w="915" h="933">
                <a:moveTo>
                  <a:pt x="545" y="933"/>
                </a:moveTo>
                <a:lnTo>
                  <a:pt x="915" y="516"/>
                </a:lnTo>
                <a:lnTo>
                  <a:pt x="735" y="216"/>
                </a:lnTo>
                <a:lnTo>
                  <a:pt x="555" y="158"/>
                </a:lnTo>
                <a:lnTo>
                  <a:pt x="0" y="0"/>
                </a:lnTo>
                <a:lnTo>
                  <a:pt x="207" y="496"/>
                </a:lnTo>
                <a:lnTo>
                  <a:pt x="545" y="9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2520" y="213840"/>
            <a:ext cx="763452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arison Current Business Case  </a:t>
            </a:r>
            <a:br>
              <a:rPr sz="1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urrent Business Case shows a profit of -7’0 EUR or -2,4% of Turno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1960" y="1874880"/>
            <a:ext cx="5167440" cy="455148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olumes remained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erage CRP decreased by 8,- Euro compared to Roadmap Scenario 2C’. Launch price at EUR 52,-.  Phase out price EUR 37,-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K decreased by 17.4% or 11,3 EUR to 35,08 EUR compared with Scenario 2C‘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 BOM from CW17: 29,70 EUR per un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ion site split: SSMC (72%), Manaus (28%). KLF not forese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&amp;D cost decreased by 1,3m EUR after re-plann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Com: A-class costs for push-budget (1,50 EUR per unit) and pull-budget (1% of T/O) as well as HQ-Fund (1‘5 Mio EUR) consider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BIT indication of -7,0m EUR or -2% of Turnover. The profit went down by 10,1m compared with preliminary BC due to lower pric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3760" y="1141560"/>
            <a:ext cx="5178240" cy="70776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/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570880" y="-468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i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440" y="965160"/>
          <a:ext cx="3645000" cy="566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965160"/>
                    <a:ext cx="364500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8:55:12Z</dcterms:created>
  <dc:creator>Blecher Gunnar</dc:creator>
  <dc:description/>
  <dc:language>en-US</dc:language>
  <cp:lastModifiedBy>Dr. Marcell Assan</cp:lastModifiedBy>
  <dcterms:modified xsi:type="dcterms:W3CDTF">2005-05-03T17:15:33Z</dcterms:modified>
  <cp:revision>68</cp:revision>
  <dc:subject/>
  <dc:title>Product Status Review (PSR) Concept</dc:title>
</cp:coreProperties>
</file>