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907588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818640" y="759960"/>
            <a:ext cx="526572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1040" y="4637160"/>
            <a:ext cx="50166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3"/>
          </p:nvPr>
        </p:nvSpPr>
        <p:spPr>
          <a:xfrm>
            <a:off x="6340320" y="39960"/>
            <a:ext cx="4384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"/>
          <p:cNvSpPr txBox="1"/>
          <p:nvPr/>
        </p:nvSpPr>
        <p:spPr>
          <a:xfrm>
            <a:off x="6340320" y="39960"/>
            <a:ext cx="4384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PlaceHolder 1"/>
          <p:cNvSpPr>
            <a:spLocks noGrp="1"/>
          </p:cNvSpPr>
          <p:nvPr>
            <p:ph type="sldImg"/>
          </p:nvPr>
        </p:nvSpPr>
        <p:spPr>
          <a:xfrm>
            <a:off x="792000" y="739800"/>
            <a:ext cx="5274000" cy="3652920"/>
          </a:xfrm>
          <a:prstGeom prst="rect">
            <a:avLst/>
          </a:prstGeom>
          <a:ln w="0">
            <a:noFill/>
          </a:ln>
        </p:spPr>
      </p:sp>
      <p:sp>
        <p:nvSpPr>
          <p:cNvPr id="1564" name="PlaceHolder 2"/>
          <p:cNvSpPr>
            <a:spLocks noGrp="1"/>
          </p:cNvSpPr>
          <p:nvPr>
            <p:ph type="body"/>
          </p:nvPr>
        </p:nvSpPr>
        <p:spPr>
          <a:xfrm>
            <a:off x="375840" y="4498920"/>
            <a:ext cx="610092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"/>
          <p:cNvSpPr txBox="1"/>
          <p:nvPr/>
        </p:nvSpPr>
        <p:spPr>
          <a:xfrm>
            <a:off x="6340320" y="39960"/>
            <a:ext cx="4384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PlaceHolder 1"/>
          <p:cNvSpPr>
            <a:spLocks noGrp="1"/>
          </p:cNvSpPr>
          <p:nvPr>
            <p:ph type="sldImg"/>
          </p:nvPr>
        </p:nvSpPr>
        <p:spPr>
          <a:xfrm>
            <a:off x="792000" y="739800"/>
            <a:ext cx="5274000" cy="3652920"/>
          </a:xfrm>
          <a:prstGeom prst="rect">
            <a:avLst/>
          </a:prstGeom>
          <a:ln w="0">
            <a:noFill/>
          </a:ln>
        </p:spPr>
      </p:sp>
      <p:sp>
        <p:nvSpPr>
          <p:cNvPr id="1567" name="PlaceHolder 2"/>
          <p:cNvSpPr>
            <a:spLocks noGrp="1"/>
          </p:cNvSpPr>
          <p:nvPr>
            <p:ph type="body"/>
          </p:nvPr>
        </p:nvSpPr>
        <p:spPr>
          <a:xfrm>
            <a:off x="375840" y="4498920"/>
            <a:ext cx="610092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"/>
          <p:cNvSpPr txBox="1"/>
          <p:nvPr/>
        </p:nvSpPr>
        <p:spPr>
          <a:xfrm>
            <a:off x="6340320" y="39960"/>
            <a:ext cx="4384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PlaceHolder 1"/>
          <p:cNvSpPr>
            <a:spLocks noGrp="1"/>
          </p:cNvSpPr>
          <p:nvPr>
            <p:ph type="sldImg"/>
          </p:nvPr>
        </p:nvSpPr>
        <p:spPr>
          <a:xfrm>
            <a:off x="792000" y="739800"/>
            <a:ext cx="5274000" cy="3652920"/>
          </a:xfrm>
          <a:prstGeom prst="rect">
            <a:avLst/>
          </a:prstGeom>
          <a:ln w="0">
            <a:noFill/>
          </a:ln>
        </p:spPr>
      </p:sp>
      <p:sp>
        <p:nvSpPr>
          <p:cNvPr id="1570" name="PlaceHolder 2"/>
          <p:cNvSpPr>
            <a:spLocks noGrp="1"/>
          </p:cNvSpPr>
          <p:nvPr>
            <p:ph type="body"/>
          </p:nvPr>
        </p:nvSpPr>
        <p:spPr>
          <a:xfrm>
            <a:off x="375840" y="4498920"/>
            <a:ext cx="610092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"/>
          <p:cNvSpPr txBox="1"/>
          <p:nvPr/>
        </p:nvSpPr>
        <p:spPr>
          <a:xfrm>
            <a:off x="6340320" y="39960"/>
            <a:ext cx="4384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PlaceHolder 1"/>
          <p:cNvSpPr>
            <a:spLocks noGrp="1"/>
          </p:cNvSpPr>
          <p:nvPr>
            <p:ph type="sldImg"/>
          </p:nvPr>
        </p:nvSpPr>
        <p:spPr>
          <a:xfrm>
            <a:off x="792000" y="739800"/>
            <a:ext cx="5274000" cy="3652920"/>
          </a:xfrm>
          <a:prstGeom prst="rect">
            <a:avLst/>
          </a:prstGeom>
          <a:ln w="0">
            <a:noFill/>
          </a:ln>
        </p:spPr>
      </p:sp>
      <p:sp>
        <p:nvSpPr>
          <p:cNvPr id="1573" name="PlaceHolder 2"/>
          <p:cNvSpPr>
            <a:spLocks noGrp="1"/>
          </p:cNvSpPr>
          <p:nvPr>
            <p:ph type="body"/>
          </p:nvPr>
        </p:nvSpPr>
        <p:spPr>
          <a:xfrm>
            <a:off x="375840" y="4498920"/>
            <a:ext cx="610092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"/>
          <p:cNvSpPr txBox="1"/>
          <p:nvPr/>
        </p:nvSpPr>
        <p:spPr>
          <a:xfrm>
            <a:off x="6340320" y="39960"/>
            <a:ext cx="4384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PlaceHolder 1"/>
          <p:cNvSpPr>
            <a:spLocks noGrp="1"/>
          </p:cNvSpPr>
          <p:nvPr>
            <p:ph type="sldImg"/>
          </p:nvPr>
        </p:nvSpPr>
        <p:spPr>
          <a:xfrm>
            <a:off x="792000" y="739800"/>
            <a:ext cx="5274000" cy="3652920"/>
          </a:xfrm>
          <a:prstGeom prst="rect">
            <a:avLst/>
          </a:prstGeom>
          <a:ln w="0">
            <a:noFill/>
          </a:ln>
        </p:spPr>
      </p:sp>
      <p:sp>
        <p:nvSpPr>
          <p:cNvPr id="1576" name="PlaceHolder 2"/>
          <p:cNvSpPr>
            <a:spLocks noGrp="1"/>
          </p:cNvSpPr>
          <p:nvPr>
            <p:ph type="body"/>
          </p:nvPr>
        </p:nvSpPr>
        <p:spPr>
          <a:xfrm>
            <a:off x="375840" y="4498920"/>
            <a:ext cx="610092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"/>
          <p:cNvSpPr txBox="1"/>
          <p:nvPr/>
        </p:nvSpPr>
        <p:spPr>
          <a:xfrm>
            <a:off x="6340320" y="39960"/>
            <a:ext cx="4384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PlaceHolder 1"/>
          <p:cNvSpPr>
            <a:spLocks noGrp="1"/>
          </p:cNvSpPr>
          <p:nvPr>
            <p:ph type="sldImg"/>
          </p:nvPr>
        </p:nvSpPr>
        <p:spPr>
          <a:xfrm>
            <a:off x="792000" y="739800"/>
            <a:ext cx="5274000" cy="3652920"/>
          </a:xfrm>
          <a:prstGeom prst="rect">
            <a:avLst/>
          </a:prstGeom>
          <a:ln w="0">
            <a:noFill/>
          </a:ln>
        </p:spPr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375840" y="4498920"/>
            <a:ext cx="610092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"/>
          <p:cNvSpPr txBox="1"/>
          <p:nvPr/>
        </p:nvSpPr>
        <p:spPr>
          <a:xfrm>
            <a:off x="6340320" y="39960"/>
            <a:ext cx="4384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PlaceHolder 1"/>
          <p:cNvSpPr>
            <a:spLocks noGrp="1"/>
          </p:cNvSpPr>
          <p:nvPr>
            <p:ph type="sldImg"/>
          </p:nvPr>
        </p:nvSpPr>
        <p:spPr>
          <a:xfrm>
            <a:off x="781200" y="733320"/>
            <a:ext cx="5295600" cy="3667320"/>
          </a:xfrm>
          <a:prstGeom prst="rect">
            <a:avLst/>
          </a:prstGeom>
          <a:ln w="0">
            <a:noFill/>
          </a:ln>
        </p:spPr>
      </p:sp>
      <p:sp>
        <p:nvSpPr>
          <p:cNvPr id="1582" name="PlaceHolder 2"/>
          <p:cNvSpPr>
            <a:spLocks noGrp="1"/>
          </p:cNvSpPr>
          <p:nvPr>
            <p:ph type="body"/>
          </p:nvPr>
        </p:nvSpPr>
        <p:spPr>
          <a:xfrm>
            <a:off x="685800" y="4644720"/>
            <a:ext cx="54864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BFB31-F913-4822-9958-A0C371D531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73357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33160" y="2145960"/>
            <a:ext cx="73357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CDB15-B362-46E4-BC49-9F77237BCF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3160" y="214596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91920" y="214596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E3A64-F71A-4C5B-B349-1954A090E8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13560" y="125568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493960" y="125568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33160" y="214596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13560" y="214596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493960" y="214596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20677-EB0D-49E8-BB4E-FBEB4C3A9D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33160" y="1255680"/>
            <a:ext cx="733572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733572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95360" y="244080"/>
            <a:ext cx="6804000" cy="33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214596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533160" y="1255680"/>
            <a:ext cx="733572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3582C-FE05-4AB7-8A82-92D312102D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291920" y="214596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160" y="2145960"/>
            <a:ext cx="73357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73357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33160" y="2145960"/>
            <a:ext cx="73357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3160" y="214596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291920" y="214596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013560" y="125568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493960" y="125568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33160" y="214596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013560" y="214596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493960" y="214596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733572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A1C38-16CF-4DA1-B8F0-D5AA1CDD00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52483-115E-473E-BA29-F53D4EA390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8682C-6EEB-4307-8C15-B6D9CABE5E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95360" y="244080"/>
            <a:ext cx="6804000" cy="33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E0886-85E2-443D-8E50-51D65A59F8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214596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5B4F5-5CA0-45EF-9F30-A33E413F24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91920" y="214596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3AD96-078F-495A-ACC3-4B00FBC016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160" y="2145960"/>
            <a:ext cx="73357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B3904-6E91-4939-AD64-0AC50130B4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10480" y="6237360"/>
            <a:ext cx="1843200" cy="5889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51000" y="179280"/>
            <a:ext cx="9202680" cy="892440"/>
          </a:xfrm>
          <a:custGeom>
            <a:avLst/>
            <a:gdLst/>
            <a:ahLst/>
            <a:rect l="l" t="t" r="r" b="b"/>
            <a:pathLst>
              <a:path w="5351" h="719">
                <a:moveTo>
                  <a:pt x="5171" y="0"/>
                </a:moveTo>
                <a:lnTo>
                  <a:pt x="0" y="0"/>
                </a:lnTo>
                <a:lnTo>
                  <a:pt x="0" y="719"/>
                </a:lnTo>
                <a:lnTo>
                  <a:pt x="5351" y="719"/>
                </a:lnTo>
                <a:lnTo>
                  <a:pt x="5351" y="180"/>
                </a:lnTo>
                <a:lnTo>
                  <a:pt x="5171" y="0"/>
                </a:lnTo>
                <a:close/>
              </a:path>
            </a:pathLst>
          </a:cu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622920" y="6462720"/>
            <a:ext cx="725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ED73A8FC-2326-4085-9DF8-F5A4295AAEC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533160" y="1255680"/>
            <a:ext cx="733572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354240"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12640" indent="-15552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847800" indent="-155520"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157320"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184400" indent="-157320"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184400" indent="-157320"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McK Legend Boxes"/>
          <p:cNvGrpSpPr/>
          <p:nvPr/>
        </p:nvGrpSpPr>
        <p:grpSpPr>
          <a:xfrm>
            <a:off x="8443800" y="1547640"/>
            <a:ext cx="1081800" cy="984960"/>
            <a:chOff x="8443800" y="1547640"/>
            <a:chExt cx="1081800" cy="984960"/>
          </a:xfrm>
        </p:grpSpPr>
        <p:sp>
          <p:nvSpPr>
            <p:cNvPr id="6" name="" hidden="1"/>
            <p:cNvSpPr/>
            <p:nvPr/>
          </p:nvSpPr>
          <p:spPr>
            <a:xfrm>
              <a:off x="8443800" y="1562040"/>
              <a:ext cx="362880" cy="183960"/>
            </a:xfrm>
            <a:prstGeom prst="rect">
              <a:avLst/>
            </a:prstGeom>
            <a:solidFill>
              <a:srgbClr val="6ca4b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 hidden="1"/>
            <p:cNvSpPr/>
            <p:nvPr/>
          </p:nvSpPr>
          <p:spPr>
            <a:xfrm>
              <a:off x="8443800" y="1819080"/>
              <a:ext cx="362880" cy="184320"/>
            </a:xfrm>
            <a:prstGeom prst="rect">
              <a:avLst/>
            </a:prstGeom>
            <a:solidFill>
              <a:srgbClr val="a4d2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 hidden="1"/>
            <p:cNvSpPr/>
            <p:nvPr/>
          </p:nvSpPr>
          <p:spPr>
            <a:xfrm>
              <a:off x="8930520" y="154764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 hidden="1"/>
            <p:cNvSpPr/>
            <p:nvPr/>
          </p:nvSpPr>
          <p:spPr>
            <a:xfrm>
              <a:off x="8930520" y="180504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 hidden="1"/>
            <p:cNvSpPr/>
            <p:nvPr/>
          </p:nvSpPr>
          <p:spPr>
            <a:xfrm>
              <a:off x="8930520" y="206208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 hidden="1"/>
            <p:cNvSpPr/>
            <p:nvPr/>
          </p:nvSpPr>
          <p:spPr>
            <a:xfrm>
              <a:off x="8443800" y="2076480"/>
              <a:ext cx="362880" cy="183960"/>
            </a:xfrm>
            <a:prstGeom prst="rect">
              <a:avLst/>
            </a:prstGeom>
            <a:solidFill>
              <a:srgbClr val="d460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 hidden="1"/>
            <p:cNvSpPr/>
            <p:nvPr/>
          </p:nvSpPr>
          <p:spPr>
            <a:xfrm>
              <a:off x="8930520" y="231912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 hidden="1"/>
            <p:cNvSpPr/>
            <p:nvPr/>
          </p:nvSpPr>
          <p:spPr>
            <a:xfrm>
              <a:off x="8443800" y="2333520"/>
              <a:ext cx="362880" cy="184320"/>
            </a:xfrm>
            <a:prstGeom prst="rect">
              <a:avLst/>
            </a:prstGeom>
            <a:solidFill>
              <a:srgbClr val="9e1d3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" name="McK Slide Elements"/>
          <p:cNvGrpSpPr/>
          <p:nvPr/>
        </p:nvGrpSpPr>
        <p:grpSpPr>
          <a:xfrm>
            <a:off x="495360" y="1547640"/>
            <a:ext cx="9324720" cy="5175360"/>
            <a:chOff x="495360" y="1547640"/>
            <a:chExt cx="9324720" cy="5175360"/>
          </a:xfrm>
        </p:grpSpPr>
        <p:sp>
          <p:nvSpPr>
            <p:cNvPr id="15" name="McK Measure" hidden="1"/>
            <p:cNvSpPr/>
            <p:nvPr/>
          </p:nvSpPr>
          <p:spPr>
            <a:xfrm>
              <a:off x="495360" y="1547640"/>
              <a:ext cx="775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it of meas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McK Footnote" hidden="1"/>
            <p:cNvSpPr/>
            <p:nvPr/>
          </p:nvSpPr>
          <p:spPr>
            <a:xfrm>
              <a:off x="1439280" y="6570360"/>
              <a:ext cx="6001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112680" indent="-112680">
                <a:lnSpc>
                  <a:spcPct val="100000"/>
                </a:lnSpc>
                <a:tabLst>
                  <a:tab algn="l" pos="0"/>
                  <a:tab algn="r" pos="5724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ootno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McK Source" hidden="1"/>
            <p:cNvSpPr/>
            <p:nvPr/>
          </p:nvSpPr>
          <p:spPr>
            <a:xfrm rot="16200000">
              <a:off x="7874280" y="4530960"/>
              <a:ext cx="3738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585720" indent="-585720">
                <a:lnSpc>
                  <a:spcPct val="100000"/>
                </a:lnSpc>
                <a:tabLst>
                  <a:tab algn="l" pos="0"/>
                  <a:tab algn="r" pos="54468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urce: Sour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" name="Base" hidden="1"/>
          <p:cNvSpPr/>
          <p:nvPr/>
        </p:nvSpPr>
        <p:spPr>
          <a:xfrm>
            <a:off x="1650960" y="1397160"/>
            <a:ext cx="66042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4342320" y="6507000"/>
            <a:ext cx="11196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d3a07"/>
                </a:solidFill>
                <a:latin typeface="Arial"/>
              </a:rPr>
              <a:t>Confid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Reviewer0" hidden="1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 hidden="1"/>
          <p:cNvSpPr/>
          <p:nvPr/>
        </p:nvSpPr>
        <p:spPr>
          <a:xfrm>
            <a:off x="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440" y="2787480"/>
            <a:ext cx="7207200" cy="10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ftr" idx="2"/>
          </p:nvPr>
        </p:nvSpPr>
        <p:spPr>
          <a:xfrm>
            <a:off x="9170640" y="36360"/>
            <a:ext cx="39060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354240"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11360" indent="-3542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66680" indent="-374400"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422360" indent="-395280"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422360" indent="-39528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422360" indent="-39528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600" y="3009960"/>
            <a:ext cx="9202680" cy="1257120"/>
          </a:xfrm>
          <a:custGeom>
            <a:avLst/>
            <a:gdLst/>
            <a:ahLst/>
            <a:rect l="l" t="t" r="r" b="b"/>
            <a:pathLst>
              <a:path w="5351" h="1010">
                <a:moveTo>
                  <a:pt x="5351" y="0"/>
                </a:moveTo>
                <a:lnTo>
                  <a:pt x="0" y="0"/>
                </a:lnTo>
                <a:lnTo>
                  <a:pt x="0" y="1010"/>
                </a:lnTo>
                <a:lnTo>
                  <a:pt x="5351" y="1010"/>
                </a:lnTo>
                <a:lnTo>
                  <a:pt x="5351" y="0"/>
                </a:lnTo>
                <a:close/>
              </a:path>
            </a:pathLst>
          </a:cu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50440" y="3141360"/>
            <a:ext cx="700884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S64  (S65 w/o Camera)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Status Report at M1, 10.12.0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569520" y="4960800"/>
            <a:ext cx="5265720" cy="15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12.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lesto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istian Baumg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ns-Martin Mues-H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 P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atia Rizze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M B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lio Caril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59600" y="3102120"/>
            <a:ext cx="23828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3a07"/>
                </a:solidFill>
                <a:latin typeface="Arial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52440" y="282600"/>
            <a:ext cx="9213840" cy="2562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087960" y="5460840"/>
            <a:ext cx="3486240" cy="1114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959680" y="266760"/>
            <a:ext cx="61596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52440" y="139680"/>
            <a:ext cx="80074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64 – Penelope w/o Camera </a:t>
            </a:r>
            <a:br>
              <a:rPr sz="28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tus M1 Decl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2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2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5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6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6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7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7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8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8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9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9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0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0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1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1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2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2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3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3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4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4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5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5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-693034732800" y="-69218280"/>
            <a:ext cx="552600" cy="617400"/>
            <a:chOff x="-693034732800" y="-69218280"/>
            <a:chExt cx="552600" cy="617400"/>
          </a:xfrm>
        </p:grpSpPr>
        <p:sp>
          <p:nvSpPr>
            <p:cNvPr id="262" name=""/>
            <p:cNvSpPr/>
            <p:nvPr/>
          </p:nvSpPr>
          <p:spPr>
            <a:xfrm>
              <a:off x="-693034732800" y="-692182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-693034676640" y="-691988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-693034676640" y="-689986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-693034676640" y="-687898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-693034732800" y="-52977960"/>
            <a:ext cx="552600" cy="617400"/>
            <a:chOff x="-693034732800" y="-52977960"/>
            <a:chExt cx="552600" cy="617400"/>
          </a:xfrm>
        </p:grpSpPr>
        <p:sp>
          <p:nvSpPr>
            <p:cNvPr id="267" name=""/>
            <p:cNvSpPr/>
            <p:nvPr/>
          </p:nvSpPr>
          <p:spPr>
            <a:xfrm>
              <a:off x="-693034732800" y="-529779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-693034676640" y="-5295852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-693034676640" y="-5275836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-693034676640" y="-5254956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-693034732800" y="-33061320"/>
            <a:ext cx="552600" cy="550800"/>
            <a:chOff x="-693034732800" y="-33061320"/>
            <a:chExt cx="552600" cy="550800"/>
          </a:xfrm>
        </p:grpSpPr>
        <p:sp>
          <p:nvSpPr>
            <p:cNvPr id="272" name=""/>
            <p:cNvSpPr/>
            <p:nvPr/>
          </p:nvSpPr>
          <p:spPr>
            <a:xfrm>
              <a:off x="-693034732800" y="-33061320"/>
              <a:ext cx="552600" cy="550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-693034675920" y="-3304404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-693034675920" y="-32867280"/>
              <a:ext cx="41436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-693034675920" y="-3268116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-693034732800" y="-48039480"/>
            <a:ext cx="552600" cy="617400"/>
            <a:chOff x="-693034732800" y="-48039480"/>
            <a:chExt cx="552600" cy="617400"/>
          </a:xfrm>
        </p:grpSpPr>
        <p:sp>
          <p:nvSpPr>
            <p:cNvPr id="277" name=""/>
            <p:cNvSpPr/>
            <p:nvPr/>
          </p:nvSpPr>
          <p:spPr>
            <a:xfrm>
              <a:off x="-693034732800" y="-480394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-693034676640" y="-480200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-693034676640" y="-478198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-693034676640" y="-476110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-693034732800" y="24498360"/>
            <a:ext cx="552600" cy="617400"/>
            <a:chOff x="-693034732800" y="24498360"/>
            <a:chExt cx="552600" cy="617400"/>
          </a:xfrm>
        </p:grpSpPr>
        <p:sp>
          <p:nvSpPr>
            <p:cNvPr id="282" name=""/>
            <p:cNvSpPr/>
            <p:nvPr/>
          </p:nvSpPr>
          <p:spPr>
            <a:xfrm>
              <a:off x="-693034732800" y="244983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-693034676640" y="245174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-693034676640" y="2471760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-693034676640" y="2492640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-693034732800" y="16978320"/>
            <a:ext cx="552600" cy="560160"/>
            <a:chOff x="-693034732800" y="16978320"/>
            <a:chExt cx="552600" cy="560160"/>
          </a:xfrm>
        </p:grpSpPr>
        <p:sp>
          <p:nvSpPr>
            <p:cNvPr id="287" name=""/>
            <p:cNvSpPr/>
            <p:nvPr/>
          </p:nvSpPr>
          <p:spPr>
            <a:xfrm>
              <a:off x="-693034732800" y="16978320"/>
              <a:ext cx="552600" cy="560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-693034676640" y="169956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-693034676640" y="171774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-693034676640" y="17366760"/>
              <a:ext cx="409680" cy="128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-693034732800" y="38171520"/>
            <a:ext cx="552600" cy="617400"/>
            <a:chOff x="-693034732800" y="38171520"/>
            <a:chExt cx="552600" cy="617400"/>
          </a:xfrm>
        </p:grpSpPr>
        <p:sp>
          <p:nvSpPr>
            <p:cNvPr id="292" name=""/>
            <p:cNvSpPr/>
            <p:nvPr/>
          </p:nvSpPr>
          <p:spPr>
            <a:xfrm>
              <a:off x="-693034732800" y="3817152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-693034675920" y="381906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-693034675920" y="38388600"/>
              <a:ext cx="414360" cy="14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-693034675920" y="385974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-693042657480" y="-70027920"/>
            <a:ext cx="66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-69304265748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-69303219264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-69304209876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9305256360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-69303219264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-69304209876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9305256360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-69303219264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-69304209876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305256360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-693042657480" y="-70027920"/>
          <a:ext cx="10464840" cy="146913840"/>
        </p:xfrm>
        <a:graphic>
          <a:graphicData uri="http://schemas.openxmlformats.org/drawingml/2006/table">
            <a:tbl>
              <a:tblPr/>
              <a:tblGrid>
                <a:gridCol w="1974960"/>
                <a:gridCol w="1316880"/>
                <a:gridCol w="658440"/>
                <a:gridCol w="3949920"/>
                <a:gridCol w="658440"/>
                <a:gridCol w="216000"/>
                <a:gridCol w="932040"/>
                <a:gridCol w="758160"/>
              </a:tblGrid>
              <a:tr h="210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er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fication Status/Probl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on It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adl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ttery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 MMC L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itional fixation ribs will be implemented to secure that the lid not opens autonomou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r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7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mera l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     IT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ecides to use only the silver chromatic camera loop.  Color matching from Sunarrow has to be improved, samples from ITT show folding-lines on surface.  ITT requested an radius from 0,8mm instead off 0,2mm.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oes not want the bigger radius and accepts the folding-lines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T trys to improve the quality. An range has been forwarded to PM for acceptance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 release for 30k given to ITT. Decision for single source with ITT is in discussion.  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improves his samples to reach gloss level and color.New samples expected for 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br>
                        <a:rPr sz="1000"/>
                      </a:b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yp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has partly scratches on surface                                           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improves process to get rid of scratches.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br>
                        <a:rPr sz="1000"/>
                      </a:b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or matching is released                                                                   Tooltransfer to Beijing in cw17, FRT in cw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                                     Location for Ramp up will be Beijing instead of Shenzh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go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9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ystick kno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 Joystick knobs  the pull off test method is cancelled and changed to  lateral abrasion test.  The adhesion between soft touch material and knob has to improved by both suppliers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performed the lateral abrasion test on 50 parts. Results where ok. R&amp;D requested samples with 2 different surfaces for evaluation from Youeal.Samples expected middle of CW18. Clearify leadtime and feaseble impact to ramp up if change will be mad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7" name=""/>
          <p:cNvSpPr/>
          <p:nvPr/>
        </p:nvSpPr>
        <p:spPr>
          <a:xfrm>
            <a:off x="-69303219264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-69304209876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9305256360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-69303219264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-69304209876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305256360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-69303219264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-69304209876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305256360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-69304265748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-693034732800" y="-70018200"/>
          <a:ext cx="660240" cy="749160"/>
        </p:xfrm>
        <a:graphic>
          <a:graphicData uri="http://schemas.openxmlformats.org/drawingml/2006/table">
            <a:tbl>
              <a:tblPr/>
              <a:tblGrid>
                <a:gridCol w="660240"/>
              </a:tblGrid>
              <a:tr h="749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br>
                        <a:rPr sz="1100"/>
                      </a:b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331" name=""/>
          <p:cNvSpPr/>
          <p:nvPr/>
        </p:nvSpPr>
        <p:spPr>
          <a:xfrm>
            <a:off x="8551800" y="192240"/>
            <a:ext cx="993960" cy="866520"/>
          </a:xfrm>
          <a:prstGeom prst="rect">
            <a:avLst/>
          </a:prstGeom>
          <a:solidFill>
            <a:srgbClr val="6c83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105840" y="42840"/>
            <a:ext cx="615960" cy="5554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82960" y="1249200"/>
            <a:ext cx="936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64 M1 document is reviewed and agreed by the S64 PD and REA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PD and REA Team members have signed the S64 M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rcRect l="32633" t="18950" r="29274" b="60245"/>
          <a:stretch/>
        </p:blipFill>
        <p:spPr>
          <a:xfrm rot="21540000">
            <a:off x="4792320" y="2117880"/>
            <a:ext cx="4176720" cy="170964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30226" t="13846" r="26262" b="12556"/>
          <a:stretch/>
        </p:blipFill>
        <p:spPr>
          <a:xfrm>
            <a:off x="800280" y="1949400"/>
            <a:ext cx="3684240" cy="467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D397C-AB5B-46AE-AD79-700C51B5D7F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352440" y="139680"/>
            <a:ext cx="80074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lity Gate Rating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64 (I)</a:t>
            </a:r>
            <a:br>
              <a:rPr sz="28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tus M1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3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4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4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5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5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6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6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8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9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9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0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0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1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1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2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2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3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3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4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4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5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5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6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6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7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7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8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8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-693034732800" y="-69218280"/>
            <a:ext cx="552600" cy="617400"/>
            <a:chOff x="-693034732800" y="-69218280"/>
            <a:chExt cx="552600" cy="617400"/>
          </a:xfrm>
        </p:grpSpPr>
        <p:sp>
          <p:nvSpPr>
            <p:cNvPr id="490" name=""/>
            <p:cNvSpPr/>
            <p:nvPr/>
          </p:nvSpPr>
          <p:spPr>
            <a:xfrm>
              <a:off x="-693034732800" y="-692182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-693034676640" y="-691988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-693034676640" y="-689986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-693034676640" y="-687898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-693034732800" y="-52977960"/>
            <a:ext cx="552600" cy="617400"/>
            <a:chOff x="-693034732800" y="-52977960"/>
            <a:chExt cx="552600" cy="617400"/>
          </a:xfrm>
        </p:grpSpPr>
        <p:sp>
          <p:nvSpPr>
            <p:cNvPr id="495" name=""/>
            <p:cNvSpPr/>
            <p:nvPr/>
          </p:nvSpPr>
          <p:spPr>
            <a:xfrm>
              <a:off x="-693034732800" y="-529779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-693034676640" y="-5295852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-693034676640" y="-5275836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-693034676640" y="-5254956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-693034732800" y="-33061320"/>
            <a:ext cx="552600" cy="550800"/>
            <a:chOff x="-693034732800" y="-33061320"/>
            <a:chExt cx="552600" cy="550800"/>
          </a:xfrm>
        </p:grpSpPr>
        <p:sp>
          <p:nvSpPr>
            <p:cNvPr id="500" name=""/>
            <p:cNvSpPr/>
            <p:nvPr/>
          </p:nvSpPr>
          <p:spPr>
            <a:xfrm>
              <a:off x="-693034732800" y="-33061320"/>
              <a:ext cx="552600" cy="550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-693034675920" y="-3304404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-693034675920" y="-32867280"/>
              <a:ext cx="41436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-693034675920" y="-3268116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-693034732800" y="-48039480"/>
            <a:ext cx="552600" cy="617400"/>
            <a:chOff x="-693034732800" y="-48039480"/>
            <a:chExt cx="552600" cy="617400"/>
          </a:xfrm>
        </p:grpSpPr>
        <p:sp>
          <p:nvSpPr>
            <p:cNvPr id="505" name=""/>
            <p:cNvSpPr/>
            <p:nvPr/>
          </p:nvSpPr>
          <p:spPr>
            <a:xfrm>
              <a:off x="-693034732800" y="-480394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-693034676640" y="-480200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-693034676640" y="-478198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-693034676640" y="-476110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-693034732800" y="24498360"/>
            <a:ext cx="552600" cy="617400"/>
            <a:chOff x="-693034732800" y="24498360"/>
            <a:chExt cx="552600" cy="617400"/>
          </a:xfrm>
        </p:grpSpPr>
        <p:sp>
          <p:nvSpPr>
            <p:cNvPr id="510" name=""/>
            <p:cNvSpPr/>
            <p:nvPr/>
          </p:nvSpPr>
          <p:spPr>
            <a:xfrm>
              <a:off x="-693034732800" y="244983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-693034676640" y="245174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-693034676640" y="2471760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-693034676640" y="2492640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-693034732800" y="16978320"/>
            <a:ext cx="552600" cy="560160"/>
            <a:chOff x="-693034732800" y="16978320"/>
            <a:chExt cx="552600" cy="560160"/>
          </a:xfrm>
        </p:grpSpPr>
        <p:sp>
          <p:nvSpPr>
            <p:cNvPr id="515" name=""/>
            <p:cNvSpPr/>
            <p:nvPr/>
          </p:nvSpPr>
          <p:spPr>
            <a:xfrm>
              <a:off x="-693034732800" y="16978320"/>
              <a:ext cx="552600" cy="560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-693034676640" y="169956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-693034676640" y="171774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-693034676640" y="17366760"/>
              <a:ext cx="409680" cy="128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-693034732800" y="38171520"/>
            <a:ext cx="552600" cy="617400"/>
            <a:chOff x="-693034732800" y="38171520"/>
            <a:chExt cx="552600" cy="617400"/>
          </a:xfrm>
        </p:grpSpPr>
        <p:sp>
          <p:nvSpPr>
            <p:cNvPr id="520" name=""/>
            <p:cNvSpPr/>
            <p:nvPr/>
          </p:nvSpPr>
          <p:spPr>
            <a:xfrm>
              <a:off x="-693034732800" y="3817152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-693034675920" y="381906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-693034675920" y="38388600"/>
              <a:ext cx="414360" cy="14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-693034675920" y="385974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-693042657480" y="-70027920"/>
            <a:ext cx="66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-69304265748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-69303219264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-69304209876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9305256360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-69303219264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-69304209876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9305256360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-69303219264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-69304209876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9305256360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-693042657480" y="-70027920"/>
          <a:ext cx="10464840" cy="146913840"/>
        </p:xfrm>
        <a:graphic>
          <a:graphicData uri="http://schemas.openxmlformats.org/drawingml/2006/table">
            <a:tbl>
              <a:tblPr/>
              <a:tblGrid>
                <a:gridCol w="1974960"/>
                <a:gridCol w="1316880"/>
                <a:gridCol w="658440"/>
                <a:gridCol w="3949920"/>
                <a:gridCol w="658440"/>
                <a:gridCol w="216000"/>
                <a:gridCol w="932040"/>
                <a:gridCol w="758160"/>
              </a:tblGrid>
              <a:tr h="210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er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fication Status/Probl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on It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adl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ttery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 MMC L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itional fixation ribs will be implemented to secure that the lid not opens autonomou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r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7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mera l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     IT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ecides to use only the silver chromatic camera loop.  Color matching from Sunarrow has to be improved, samples from ITT show folding-lines on surface.  ITT requested an radius from 0,8mm instead off 0,2mm.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oes not want the bigger radius and accepts the folding-lines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T trys to improve the quality. An range has been forwarded to PM for acceptance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 release for 30k given to ITT. Decision for single source with ITT is in discussion.  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improves his samples to reach gloss level and color.New samples expected for 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br>
                        <a:rPr sz="1000"/>
                      </a:b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yp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has partly scratches on surface                                           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improves process to get rid of scratches.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br>
                        <a:rPr sz="1000"/>
                      </a:b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or matching is released                                                                   Tooltransfer to Beijing in cw17, FRT in cw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                                     Location for Ramp up will be Beijing instead of Shenzh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go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9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ystick kno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 Joystick knobs  the pull off test method is cancelled and changed to  lateral abrasion test.  The adhesion between soft touch material and knob has to improved by both suppliers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performed the lateral abrasion test on 50 parts. Results where ok. R&amp;D requested samples with 2 different surfaces for evaluation from Youeal.Samples expected middle of CW18. Clearify leadtime and feaseble impact to ramp up if change will be mad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5" name=""/>
          <p:cNvSpPr/>
          <p:nvPr/>
        </p:nvSpPr>
        <p:spPr>
          <a:xfrm>
            <a:off x="-69303219264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-69304209876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9305256360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-69303219264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-69304209876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9305256360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-69303219264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-69304209876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9305256360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-69304265748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-693034732800" y="-70018200"/>
          <a:ext cx="660240" cy="749160"/>
        </p:xfrm>
        <a:graphic>
          <a:graphicData uri="http://schemas.openxmlformats.org/drawingml/2006/table">
            <a:tbl>
              <a:tblPr/>
              <a:tblGrid>
                <a:gridCol w="660240"/>
              </a:tblGrid>
              <a:tr h="749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br>
                        <a:rPr sz="1100"/>
                      </a:b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559" name=""/>
          <p:cNvSpPr/>
          <p:nvPr/>
        </p:nvSpPr>
        <p:spPr>
          <a:xfrm>
            <a:off x="8551800" y="192240"/>
            <a:ext cx="993960" cy="866520"/>
          </a:xfrm>
          <a:prstGeom prst="rect">
            <a:avLst/>
          </a:prstGeom>
          <a:solidFill>
            <a:srgbClr val="6c83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9105840" y="42840"/>
            <a:ext cx="615960" cy="5554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868320" y="2932200"/>
            <a:ext cx="2233440" cy="2208240"/>
            <a:chOff x="868320" y="2932200"/>
            <a:chExt cx="2233440" cy="2208240"/>
          </a:xfrm>
        </p:grpSpPr>
        <p:sp>
          <p:nvSpPr>
            <p:cNvPr id="562" name=""/>
            <p:cNvSpPr/>
            <p:nvPr/>
          </p:nvSpPr>
          <p:spPr>
            <a:xfrm>
              <a:off x="868320" y="293724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177920" y="323244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511280" y="356724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1015920" y="349740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27080" y="347688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1987200" y="293220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489320" y="261468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905200" y="464832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853720" y="303516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24360" y="464832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06360" y="2957400"/>
            <a:ext cx="12096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351800" y="521964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35520" y="2711520"/>
            <a:ext cx="5241960" cy="137196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76040" indent="-176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ales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2€ ASP, 170€ launch price, 155€ E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ce risk: 5-10% due to naming issu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(S64 is realized by customer as of “lower value”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935520" y="4689360"/>
            <a:ext cx="5241960" cy="147996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Impact in FY05: T/O  24’6, GM 8’7, PROFIT 16% (= 3'9€) current vs. 20% (target) --&gt; deviation: 4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igh confidence of BA to realize B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935520" y="1471680"/>
            <a:ext cx="5241960" cy="66348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ategy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lanned as S65 w/o camera (targeting corporate market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149480" y="3403440"/>
            <a:ext cx="1393560" cy="1301760"/>
          </a:xfrm>
          <a:custGeom>
            <a:avLst/>
            <a:gdLst/>
            <a:ahLst/>
            <a:rect l="l" t="t" r="r" b="b"/>
            <a:pathLst>
              <a:path w="878" h="820">
                <a:moveTo>
                  <a:pt x="518" y="820"/>
                </a:moveTo>
                <a:lnTo>
                  <a:pt x="878" y="599"/>
                </a:lnTo>
                <a:lnTo>
                  <a:pt x="877" y="201"/>
                </a:lnTo>
                <a:lnTo>
                  <a:pt x="529" y="0"/>
                </a:lnTo>
                <a:lnTo>
                  <a:pt x="0" y="93"/>
                </a:lnTo>
                <a:lnTo>
                  <a:pt x="140" y="616"/>
                </a:lnTo>
                <a:lnTo>
                  <a:pt x="518" y="82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646280" y="376704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68080" y="6195960"/>
            <a:ext cx="1946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ating Meeting: December 9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SO support: G. Ble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EA9E7-2E43-4C6D-82E8-8614637DB4F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352440" y="139680"/>
            <a:ext cx="80074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lity Gate Rating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64 (II)</a:t>
            </a:r>
            <a:br>
              <a:rPr sz="28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tus M1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58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58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59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59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0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0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1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2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3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3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4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4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5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5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6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6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7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7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8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8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9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9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70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70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71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71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72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72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-693034732800" y="-69218280"/>
            <a:ext cx="552600" cy="617400"/>
            <a:chOff x="-693034732800" y="-69218280"/>
            <a:chExt cx="552600" cy="617400"/>
          </a:xfrm>
        </p:grpSpPr>
        <p:sp>
          <p:nvSpPr>
            <p:cNvPr id="734" name=""/>
            <p:cNvSpPr/>
            <p:nvPr/>
          </p:nvSpPr>
          <p:spPr>
            <a:xfrm>
              <a:off x="-693034732800" y="-692182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-693034676640" y="-691988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-693034676640" y="-689986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-693034676640" y="-687898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-693034732800" y="-52977960"/>
            <a:ext cx="552600" cy="617400"/>
            <a:chOff x="-693034732800" y="-52977960"/>
            <a:chExt cx="552600" cy="617400"/>
          </a:xfrm>
        </p:grpSpPr>
        <p:sp>
          <p:nvSpPr>
            <p:cNvPr id="739" name=""/>
            <p:cNvSpPr/>
            <p:nvPr/>
          </p:nvSpPr>
          <p:spPr>
            <a:xfrm>
              <a:off x="-693034732800" y="-529779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-693034676640" y="-5295852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-693034676640" y="-5275836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-693034676640" y="-5254956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-693034732800" y="-33061320"/>
            <a:ext cx="552600" cy="550800"/>
            <a:chOff x="-693034732800" y="-33061320"/>
            <a:chExt cx="552600" cy="550800"/>
          </a:xfrm>
        </p:grpSpPr>
        <p:sp>
          <p:nvSpPr>
            <p:cNvPr id="744" name=""/>
            <p:cNvSpPr/>
            <p:nvPr/>
          </p:nvSpPr>
          <p:spPr>
            <a:xfrm>
              <a:off x="-693034732800" y="-33061320"/>
              <a:ext cx="552600" cy="550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-693034675920" y="-3304404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-693034675920" y="-32867280"/>
              <a:ext cx="41436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-693034675920" y="-3268116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-693034732800" y="-48039480"/>
            <a:ext cx="552600" cy="617400"/>
            <a:chOff x="-693034732800" y="-48039480"/>
            <a:chExt cx="552600" cy="617400"/>
          </a:xfrm>
        </p:grpSpPr>
        <p:sp>
          <p:nvSpPr>
            <p:cNvPr id="749" name=""/>
            <p:cNvSpPr/>
            <p:nvPr/>
          </p:nvSpPr>
          <p:spPr>
            <a:xfrm>
              <a:off x="-693034732800" y="-480394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-693034676640" y="-480200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-693034676640" y="-478198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-693034676640" y="-476110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-693034732800" y="24498360"/>
            <a:ext cx="552600" cy="617400"/>
            <a:chOff x="-693034732800" y="24498360"/>
            <a:chExt cx="552600" cy="617400"/>
          </a:xfrm>
        </p:grpSpPr>
        <p:sp>
          <p:nvSpPr>
            <p:cNvPr id="754" name=""/>
            <p:cNvSpPr/>
            <p:nvPr/>
          </p:nvSpPr>
          <p:spPr>
            <a:xfrm>
              <a:off x="-693034732800" y="244983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-693034676640" y="245174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-693034676640" y="2471760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-693034676640" y="2492640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-693034732800" y="16978320"/>
            <a:ext cx="552600" cy="560160"/>
            <a:chOff x="-693034732800" y="16978320"/>
            <a:chExt cx="552600" cy="560160"/>
          </a:xfrm>
        </p:grpSpPr>
        <p:sp>
          <p:nvSpPr>
            <p:cNvPr id="759" name=""/>
            <p:cNvSpPr/>
            <p:nvPr/>
          </p:nvSpPr>
          <p:spPr>
            <a:xfrm>
              <a:off x="-693034732800" y="16978320"/>
              <a:ext cx="552600" cy="560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-693034676640" y="169956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-693034676640" y="171774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-693034676640" y="17366760"/>
              <a:ext cx="409680" cy="128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-693034732800" y="38171520"/>
            <a:ext cx="552600" cy="617400"/>
            <a:chOff x="-693034732800" y="38171520"/>
            <a:chExt cx="552600" cy="617400"/>
          </a:xfrm>
        </p:grpSpPr>
        <p:sp>
          <p:nvSpPr>
            <p:cNvPr id="764" name=""/>
            <p:cNvSpPr/>
            <p:nvPr/>
          </p:nvSpPr>
          <p:spPr>
            <a:xfrm>
              <a:off x="-693034732800" y="3817152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-693034675920" y="381906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-693034675920" y="38388600"/>
              <a:ext cx="414360" cy="14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-693034675920" y="385974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-693042657480" y="-70027920"/>
            <a:ext cx="66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-69304265748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-69303219264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-69304209876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9305256360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-69303219264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-69304209876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9305256360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-69303219264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-69304209876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9305256360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8" name=""/>
          <p:cNvGraphicFramePr/>
          <p:nvPr/>
        </p:nvGraphicFramePr>
        <p:xfrm>
          <a:off x="-693042657480" y="-70027920"/>
          <a:ext cx="10464840" cy="146913840"/>
        </p:xfrm>
        <a:graphic>
          <a:graphicData uri="http://schemas.openxmlformats.org/drawingml/2006/table">
            <a:tbl>
              <a:tblPr/>
              <a:tblGrid>
                <a:gridCol w="1974960"/>
                <a:gridCol w="1316880"/>
                <a:gridCol w="658440"/>
                <a:gridCol w="3949920"/>
                <a:gridCol w="658440"/>
                <a:gridCol w="216000"/>
                <a:gridCol w="932040"/>
                <a:gridCol w="758160"/>
              </a:tblGrid>
              <a:tr h="210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er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fication Status/Probl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on It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adl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ttery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 MMC L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itional fixation ribs will be implemented to secure that the lid not opens autonomou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r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7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mera l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     IT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ecides to use only the silver chromatic camera loop.  Color matching from Sunarrow has to be improved, samples from ITT show folding-lines on surface.  ITT requested an radius from 0,8mm instead off 0,2mm.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oes not want the bigger radius and accepts the folding-lines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T trys to improve the quality. An range has been forwarded to PM for acceptance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 release for 30k given to ITT. Decision for single source with ITT is in discussion.  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improves his samples to reach gloss level and color.New samples expected for 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br>
                        <a:rPr sz="1000"/>
                      </a:b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yp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has partly scratches on surface                                           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improves process to get rid of scratches.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br>
                        <a:rPr sz="1000"/>
                      </a:b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or matching is released                                                                   Tooltransfer to Beijing in cw17, FRT in cw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                                     Location for Ramp up will be Beijing instead of Shenzh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go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9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ystick kno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 Joystick knobs  the pull off test method is cancelled and changed to  lateral abrasion test.  The adhesion between soft touch material and knob has to improved by both suppliers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performed the lateral abrasion test on 50 parts. Results where ok. R&amp;D requested samples with 2 different surfaces for evaluation from Youeal.Samples expected middle of CW18. Clearify leadtime and feaseble impact to ramp up if change will be mad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9" name=""/>
          <p:cNvSpPr/>
          <p:nvPr/>
        </p:nvSpPr>
        <p:spPr>
          <a:xfrm>
            <a:off x="-69303219264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-69304209876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9305256360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-69303219264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-69304209876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9305256360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-69303219264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-69304209876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9305256360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-69304265748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2" name=""/>
          <p:cNvGraphicFramePr/>
          <p:nvPr/>
        </p:nvGraphicFramePr>
        <p:xfrm>
          <a:off x="-693034732800" y="-70018200"/>
          <a:ext cx="660240" cy="749160"/>
        </p:xfrm>
        <a:graphic>
          <a:graphicData uri="http://schemas.openxmlformats.org/drawingml/2006/table">
            <a:tbl>
              <a:tblPr/>
              <a:tblGrid>
                <a:gridCol w="660240"/>
              </a:tblGrid>
              <a:tr h="749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br>
                        <a:rPr sz="1100"/>
                      </a:b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803" name=""/>
          <p:cNvSpPr/>
          <p:nvPr/>
        </p:nvSpPr>
        <p:spPr>
          <a:xfrm>
            <a:off x="8551800" y="192240"/>
            <a:ext cx="993960" cy="866520"/>
          </a:xfrm>
          <a:prstGeom prst="rect">
            <a:avLst/>
          </a:prstGeom>
          <a:solidFill>
            <a:srgbClr val="6c83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9105840" y="42840"/>
            <a:ext cx="615960" cy="5554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309680" y="243540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725560" y="446868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674080" y="285588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44720" y="446868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27080" y="2778120"/>
            <a:ext cx="120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172520" y="504036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755880" y="2340000"/>
            <a:ext cx="5241960" cy="194940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e-to-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18, 2005 (10k in VKL CW15, challenge to reach target Marc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confidence by PL-T to reach April 18 (based on reuse of existing antenna / moderate confidence if antenna has to be adjusted, could result in 2wks del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755880" y="4471920"/>
            <a:ext cx="5241960" cy="9392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je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PLs in place and resources agre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rmal planning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755880" y="1292400"/>
            <a:ext cx="5241960" cy="89172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longing the lifecycle process into CY2006 would result in switch to lead free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689040" y="2752560"/>
            <a:ext cx="2233440" cy="2208240"/>
            <a:chOff x="689040" y="2752560"/>
            <a:chExt cx="2233440" cy="2208240"/>
          </a:xfrm>
        </p:grpSpPr>
        <p:sp>
          <p:nvSpPr>
            <p:cNvPr id="815" name=""/>
            <p:cNvSpPr/>
            <p:nvPr/>
          </p:nvSpPr>
          <p:spPr>
            <a:xfrm>
              <a:off x="689040" y="275760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998640" y="305280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332000" y="338760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836640" y="331776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47800" y="329724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1807920" y="275256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1467000" y="358776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88800" y="6016680"/>
            <a:ext cx="1946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ating Meeting: December 9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SO support: G. Ble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969840" y="3224160"/>
            <a:ext cx="1393920" cy="1301760"/>
          </a:xfrm>
          <a:custGeom>
            <a:avLst/>
            <a:gdLst/>
            <a:ahLst/>
            <a:rect l="l" t="t" r="r" b="b"/>
            <a:pathLst>
              <a:path w="878" h="820">
                <a:moveTo>
                  <a:pt x="518" y="820"/>
                </a:moveTo>
                <a:lnTo>
                  <a:pt x="878" y="599"/>
                </a:lnTo>
                <a:lnTo>
                  <a:pt x="877" y="201"/>
                </a:lnTo>
                <a:lnTo>
                  <a:pt x="529" y="0"/>
                </a:lnTo>
                <a:lnTo>
                  <a:pt x="0" y="93"/>
                </a:lnTo>
                <a:lnTo>
                  <a:pt x="140" y="616"/>
                </a:lnTo>
                <a:lnTo>
                  <a:pt x="518" y="82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CCCB3-2DE4-47EC-BF3B-4486536DED0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>
            <a:off x="352440" y="139680"/>
            <a:ext cx="80074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cision Proposals in case of yellow Q-G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26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31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36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41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46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51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56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0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7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7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8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8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9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9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0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0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1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1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2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2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3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3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4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4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5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5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6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6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7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7" name=""/>
          <p:cNvGrpSpPr/>
          <p:nvPr/>
        </p:nvGrpSpPr>
        <p:grpSpPr>
          <a:xfrm>
            <a:off x="-693034732800" y="-69218280"/>
            <a:ext cx="552600" cy="617400"/>
            <a:chOff x="-693034732800" y="-69218280"/>
            <a:chExt cx="552600" cy="617400"/>
          </a:xfrm>
        </p:grpSpPr>
        <p:sp>
          <p:nvSpPr>
            <p:cNvPr id="978" name=""/>
            <p:cNvSpPr/>
            <p:nvPr/>
          </p:nvSpPr>
          <p:spPr>
            <a:xfrm>
              <a:off x="-693034732800" y="-692182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-693034676640" y="-691988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-693034676640" y="-689986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-693034676640" y="-687898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-693034732800" y="-52977960"/>
            <a:ext cx="552600" cy="617400"/>
            <a:chOff x="-693034732800" y="-52977960"/>
            <a:chExt cx="552600" cy="617400"/>
          </a:xfrm>
        </p:grpSpPr>
        <p:sp>
          <p:nvSpPr>
            <p:cNvPr id="983" name=""/>
            <p:cNvSpPr/>
            <p:nvPr/>
          </p:nvSpPr>
          <p:spPr>
            <a:xfrm>
              <a:off x="-693034732800" y="-529779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-693034676640" y="-5295852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-693034676640" y="-5275836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-693034676640" y="-5254956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-693034732800" y="-33061320"/>
            <a:ext cx="552600" cy="550800"/>
            <a:chOff x="-693034732800" y="-33061320"/>
            <a:chExt cx="552600" cy="550800"/>
          </a:xfrm>
        </p:grpSpPr>
        <p:sp>
          <p:nvSpPr>
            <p:cNvPr id="988" name=""/>
            <p:cNvSpPr/>
            <p:nvPr/>
          </p:nvSpPr>
          <p:spPr>
            <a:xfrm>
              <a:off x="-693034732800" y="-33061320"/>
              <a:ext cx="552600" cy="550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-693034675920" y="-3304404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-693034675920" y="-32867280"/>
              <a:ext cx="41436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-693034675920" y="-3268116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2" name=""/>
          <p:cNvGrpSpPr/>
          <p:nvPr/>
        </p:nvGrpSpPr>
        <p:grpSpPr>
          <a:xfrm>
            <a:off x="-693034732800" y="-48039480"/>
            <a:ext cx="552600" cy="617400"/>
            <a:chOff x="-693034732800" y="-48039480"/>
            <a:chExt cx="552600" cy="617400"/>
          </a:xfrm>
        </p:grpSpPr>
        <p:sp>
          <p:nvSpPr>
            <p:cNvPr id="993" name=""/>
            <p:cNvSpPr/>
            <p:nvPr/>
          </p:nvSpPr>
          <p:spPr>
            <a:xfrm>
              <a:off x="-693034732800" y="-480394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-693034676640" y="-480200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-693034676640" y="-478198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-693034676640" y="-476110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7" name=""/>
          <p:cNvGrpSpPr/>
          <p:nvPr/>
        </p:nvGrpSpPr>
        <p:grpSpPr>
          <a:xfrm>
            <a:off x="-693034732800" y="24498360"/>
            <a:ext cx="552600" cy="617400"/>
            <a:chOff x="-693034732800" y="24498360"/>
            <a:chExt cx="552600" cy="617400"/>
          </a:xfrm>
        </p:grpSpPr>
        <p:sp>
          <p:nvSpPr>
            <p:cNvPr id="998" name=""/>
            <p:cNvSpPr/>
            <p:nvPr/>
          </p:nvSpPr>
          <p:spPr>
            <a:xfrm>
              <a:off x="-693034732800" y="244983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-693034676640" y="245174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-693034676640" y="2471760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-693034676640" y="2492640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2" name=""/>
          <p:cNvGrpSpPr/>
          <p:nvPr/>
        </p:nvGrpSpPr>
        <p:grpSpPr>
          <a:xfrm>
            <a:off x="-693034732800" y="16978320"/>
            <a:ext cx="552600" cy="560160"/>
            <a:chOff x="-693034732800" y="16978320"/>
            <a:chExt cx="552600" cy="560160"/>
          </a:xfrm>
        </p:grpSpPr>
        <p:sp>
          <p:nvSpPr>
            <p:cNvPr id="1003" name=""/>
            <p:cNvSpPr/>
            <p:nvPr/>
          </p:nvSpPr>
          <p:spPr>
            <a:xfrm>
              <a:off x="-693034732800" y="16978320"/>
              <a:ext cx="552600" cy="560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-693034676640" y="169956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-693034676640" y="171774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-693034676640" y="17366760"/>
              <a:ext cx="409680" cy="128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-693034732800" y="38171520"/>
            <a:ext cx="552600" cy="617400"/>
            <a:chOff x="-693034732800" y="38171520"/>
            <a:chExt cx="552600" cy="617400"/>
          </a:xfrm>
        </p:grpSpPr>
        <p:sp>
          <p:nvSpPr>
            <p:cNvPr id="1008" name=""/>
            <p:cNvSpPr/>
            <p:nvPr/>
          </p:nvSpPr>
          <p:spPr>
            <a:xfrm>
              <a:off x="-693034732800" y="3817152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-693034675920" y="381906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-693034675920" y="38388600"/>
              <a:ext cx="414360" cy="14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-693034675920" y="385974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2" name=""/>
          <p:cNvSpPr/>
          <p:nvPr/>
        </p:nvSpPr>
        <p:spPr>
          <a:xfrm>
            <a:off x="-693042657480" y="-70027920"/>
            <a:ext cx="66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-69304265748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-69303219264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-69304209876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9305256360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-69303219264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-69304209876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9305256360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-69303219264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-69304209876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9305256360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2" name=""/>
          <p:cNvGraphicFramePr/>
          <p:nvPr/>
        </p:nvGraphicFramePr>
        <p:xfrm>
          <a:off x="-693042657480" y="-70027920"/>
          <a:ext cx="10464840" cy="146913840"/>
        </p:xfrm>
        <a:graphic>
          <a:graphicData uri="http://schemas.openxmlformats.org/drawingml/2006/table">
            <a:tbl>
              <a:tblPr/>
              <a:tblGrid>
                <a:gridCol w="1974960"/>
                <a:gridCol w="1316880"/>
                <a:gridCol w="658440"/>
                <a:gridCol w="3949920"/>
                <a:gridCol w="658440"/>
                <a:gridCol w="216000"/>
                <a:gridCol w="932040"/>
                <a:gridCol w="758160"/>
              </a:tblGrid>
              <a:tr h="210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er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fication Status/Probl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on It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adl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ttery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 MMC L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itional fixation ribs will be implemented to secure that the lid not opens autonomou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r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7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mera l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     IT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ecides to use only the silver chromatic camera loop.  Color matching from Sunarrow has to be improved, samples from ITT show folding-lines on surface.  ITT requested an radius from 0,8mm instead off 0,2mm.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oes not want the bigger radius and accepts the folding-lines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T trys to improve the quality. An range has been forwarded to PM for acceptance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 release for 30k given to ITT. Decision for single source with ITT is in discussion.  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improves his samples to reach gloss level and color.New samples expected for 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br>
                        <a:rPr sz="1000"/>
                      </a:b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yp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has partly scratches on surface                                           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improves process to get rid of scratches.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br>
                        <a:rPr sz="1000"/>
                      </a:b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or matching is released                                                                   Tooltransfer to Beijing in cw17, FRT in cw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                                     Location for Ramp up will be Beijing instead of Shenzh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go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9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ystick kno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 Joystick knobs  the pull off test method is cancelled and changed to  lateral abrasion test.  The adhesion between soft touch material and knob has to improved by both suppliers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performed the lateral abrasion test on 50 parts. Results where ok. R&amp;D requested samples with 2 different surfaces for evaluation from Youeal.Samples expected middle of CW18. Clearify leadtime and feaseble impact to ramp up if change will be mad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3" name=""/>
          <p:cNvSpPr/>
          <p:nvPr/>
        </p:nvSpPr>
        <p:spPr>
          <a:xfrm>
            <a:off x="-69303219264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-69304209876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9305256360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-69303219264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-69304209876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9305256360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-69303219264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-69304209876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9305256360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-69304265748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6" name=""/>
          <p:cNvGraphicFramePr/>
          <p:nvPr/>
        </p:nvGraphicFramePr>
        <p:xfrm>
          <a:off x="-693034732800" y="-70018200"/>
          <a:ext cx="660240" cy="749160"/>
        </p:xfrm>
        <a:graphic>
          <a:graphicData uri="http://schemas.openxmlformats.org/drawingml/2006/table">
            <a:tbl>
              <a:tblPr/>
              <a:tblGrid>
                <a:gridCol w="660240"/>
              </a:tblGrid>
              <a:tr h="749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br>
                        <a:rPr sz="1100"/>
                      </a:b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047" name=""/>
          <p:cNvSpPr/>
          <p:nvPr/>
        </p:nvSpPr>
        <p:spPr>
          <a:xfrm>
            <a:off x="8551800" y="192240"/>
            <a:ext cx="993960" cy="866520"/>
          </a:xfrm>
          <a:prstGeom prst="rect">
            <a:avLst/>
          </a:prstGeom>
          <a:solidFill>
            <a:srgbClr val="6c83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9105840" y="42840"/>
            <a:ext cx="615960" cy="5554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18680" y="1405080"/>
            <a:ext cx="9074520" cy="21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A.) Go ahead with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Impacts on TTM, EBIT, Volumes, Quality is calculated and avail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(see backup, Impact on the overall MD portfolio in FY05 is: 160K units, T/O 24’6, GM 8’7, Profit 3’9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Approve 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87520" y="3686040"/>
            <a:ext cx="38088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63400" y="5180040"/>
            <a:ext cx="38124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435320" y="3740040"/>
            <a:ext cx="239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PSR decision: approve M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397880" y="5229360"/>
            <a:ext cx="1738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PSR decision: sto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DAB52-21C8-4A00-B4EB-87ADAE0F94C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"/>
          <p:cNvSpPr/>
          <p:nvPr/>
        </p:nvSpPr>
        <p:spPr>
          <a:xfrm>
            <a:off x="352440" y="139680"/>
            <a:ext cx="80074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64 – Penelope w/o Camera </a:t>
            </a:r>
            <a:br>
              <a:rPr sz="28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ackup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5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056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061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066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0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071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076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0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081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5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086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0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0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0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1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1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2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2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3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3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4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4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5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5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6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6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7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7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8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8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9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9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20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7" name=""/>
          <p:cNvGrpSpPr/>
          <p:nvPr/>
        </p:nvGrpSpPr>
        <p:grpSpPr>
          <a:xfrm>
            <a:off x="-693034732800" y="-69218280"/>
            <a:ext cx="552600" cy="617400"/>
            <a:chOff x="-693034732800" y="-69218280"/>
            <a:chExt cx="552600" cy="617400"/>
          </a:xfrm>
        </p:grpSpPr>
        <p:sp>
          <p:nvSpPr>
            <p:cNvPr id="1208" name=""/>
            <p:cNvSpPr/>
            <p:nvPr/>
          </p:nvSpPr>
          <p:spPr>
            <a:xfrm>
              <a:off x="-693034732800" y="-692182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-693034676640" y="-691988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-693034676640" y="-689986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-693034676640" y="-687898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2" name=""/>
          <p:cNvGrpSpPr/>
          <p:nvPr/>
        </p:nvGrpSpPr>
        <p:grpSpPr>
          <a:xfrm>
            <a:off x="-693034732800" y="-52977960"/>
            <a:ext cx="552600" cy="617400"/>
            <a:chOff x="-693034732800" y="-52977960"/>
            <a:chExt cx="552600" cy="617400"/>
          </a:xfrm>
        </p:grpSpPr>
        <p:sp>
          <p:nvSpPr>
            <p:cNvPr id="1213" name=""/>
            <p:cNvSpPr/>
            <p:nvPr/>
          </p:nvSpPr>
          <p:spPr>
            <a:xfrm>
              <a:off x="-693034732800" y="-529779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-693034676640" y="-5295852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-693034676640" y="-5275836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-693034676640" y="-5254956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-693034732800" y="-33061320"/>
            <a:ext cx="552600" cy="550800"/>
            <a:chOff x="-693034732800" y="-33061320"/>
            <a:chExt cx="552600" cy="550800"/>
          </a:xfrm>
        </p:grpSpPr>
        <p:sp>
          <p:nvSpPr>
            <p:cNvPr id="1218" name=""/>
            <p:cNvSpPr/>
            <p:nvPr/>
          </p:nvSpPr>
          <p:spPr>
            <a:xfrm>
              <a:off x="-693034732800" y="-33061320"/>
              <a:ext cx="552600" cy="550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-693034675920" y="-3304404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-693034675920" y="-32867280"/>
              <a:ext cx="41436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-693034675920" y="-3268116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2" name=""/>
          <p:cNvGrpSpPr/>
          <p:nvPr/>
        </p:nvGrpSpPr>
        <p:grpSpPr>
          <a:xfrm>
            <a:off x="-693034732800" y="-48039480"/>
            <a:ext cx="552600" cy="617400"/>
            <a:chOff x="-693034732800" y="-48039480"/>
            <a:chExt cx="552600" cy="617400"/>
          </a:xfrm>
        </p:grpSpPr>
        <p:sp>
          <p:nvSpPr>
            <p:cNvPr id="1223" name=""/>
            <p:cNvSpPr/>
            <p:nvPr/>
          </p:nvSpPr>
          <p:spPr>
            <a:xfrm>
              <a:off x="-693034732800" y="-480394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-693034676640" y="-480200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-693034676640" y="-478198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-693034676640" y="-476110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-693034732800" y="24498360"/>
            <a:ext cx="552600" cy="617400"/>
            <a:chOff x="-693034732800" y="24498360"/>
            <a:chExt cx="552600" cy="617400"/>
          </a:xfrm>
        </p:grpSpPr>
        <p:sp>
          <p:nvSpPr>
            <p:cNvPr id="1228" name=""/>
            <p:cNvSpPr/>
            <p:nvPr/>
          </p:nvSpPr>
          <p:spPr>
            <a:xfrm>
              <a:off x="-693034732800" y="244983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-693034676640" y="245174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-693034676640" y="2471760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-693034676640" y="2492640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-693034732800" y="16978320"/>
            <a:ext cx="552600" cy="560160"/>
            <a:chOff x="-693034732800" y="16978320"/>
            <a:chExt cx="552600" cy="560160"/>
          </a:xfrm>
        </p:grpSpPr>
        <p:sp>
          <p:nvSpPr>
            <p:cNvPr id="1233" name=""/>
            <p:cNvSpPr/>
            <p:nvPr/>
          </p:nvSpPr>
          <p:spPr>
            <a:xfrm>
              <a:off x="-693034732800" y="16978320"/>
              <a:ext cx="552600" cy="560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-693034676640" y="169956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-693034676640" y="171774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-693034676640" y="17366760"/>
              <a:ext cx="409680" cy="128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7" name=""/>
          <p:cNvGrpSpPr/>
          <p:nvPr/>
        </p:nvGrpSpPr>
        <p:grpSpPr>
          <a:xfrm>
            <a:off x="-693034732800" y="38171520"/>
            <a:ext cx="552600" cy="617400"/>
            <a:chOff x="-693034732800" y="38171520"/>
            <a:chExt cx="552600" cy="617400"/>
          </a:xfrm>
        </p:grpSpPr>
        <p:sp>
          <p:nvSpPr>
            <p:cNvPr id="1238" name=""/>
            <p:cNvSpPr/>
            <p:nvPr/>
          </p:nvSpPr>
          <p:spPr>
            <a:xfrm>
              <a:off x="-693034732800" y="3817152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-693034675920" y="381906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-693034675920" y="38388600"/>
              <a:ext cx="414360" cy="14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-693034675920" y="385974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2" name=""/>
          <p:cNvSpPr/>
          <p:nvPr/>
        </p:nvSpPr>
        <p:spPr>
          <a:xfrm>
            <a:off x="-693042657480" y="-70027920"/>
            <a:ext cx="66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-69304265748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-69303219264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-69304209876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69305256360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-69303219264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-69304209876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9305256360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-69303219264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-69304209876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9305256360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2" name=""/>
          <p:cNvGraphicFramePr/>
          <p:nvPr/>
        </p:nvGraphicFramePr>
        <p:xfrm>
          <a:off x="-693042657480" y="-70027920"/>
          <a:ext cx="10464840" cy="146913840"/>
        </p:xfrm>
        <a:graphic>
          <a:graphicData uri="http://schemas.openxmlformats.org/drawingml/2006/table">
            <a:tbl>
              <a:tblPr/>
              <a:tblGrid>
                <a:gridCol w="1974960"/>
                <a:gridCol w="1316880"/>
                <a:gridCol w="658440"/>
                <a:gridCol w="3949920"/>
                <a:gridCol w="658440"/>
                <a:gridCol w="216000"/>
                <a:gridCol w="932040"/>
                <a:gridCol w="758160"/>
              </a:tblGrid>
              <a:tr h="210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er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fication Status/Probl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on It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adl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ttery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 MMC L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itional fixation ribs will be implemented to secure that the lid not opens autonomou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r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7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mera l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     IT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ecides to use only the silver chromatic camera loop.  Color matching from Sunarrow has to be improved, samples from ITT show folding-lines on surface.  ITT requested an radius from 0,8mm instead off 0,2mm.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oes not want the bigger radius and accepts the folding-lines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T trys to improve the quality. An range has been forwarded to PM for acceptance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 release for 30k given to ITT. Decision for single source with ITT is in discussion.  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improves his samples to reach gloss level and color.New samples expected for 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br>
                        <a:rPr sz="1000"/>
                      </a:b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yp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has partly scratches on surface                                           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improves process to get rid of scratches.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br>
                        <a:rPr sz="1000"/>
                      </a:b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or matching is released                                                                   Tooltransfer to Beijing in cw17, FRT in cw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                                     Location for Ramp up will be Beijing instead of Shenzh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go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9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ystick kno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 Joystick knobs  the pull off test method is cancelled and changed to  lateral abrasion test.  The adhesion between soft touch material and knob has to improved by both suppliers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performed the lateral abrasion test on 50 parts. Results where ok. R&amp;D requested samples with 2 different surfaces for evaluation from Youeal.Samples expected middle of CW18. Clearify leadtime and feaseble impact to ramp up if change will be mad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3" name=""/>
          <p:cNvSpPr/>
          <p:nvPr/>
        </p:nvSpPr>
        <p:spPr>
          <a:xfrm>
            <a:off x="-69303219264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-69304209876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9305256360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-69303219264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-69304209876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69305256360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-69303219264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-69304209876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9305256360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-69304265748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6" name=""/>
          <p:cNvGraphicFramePr/>
          <p:nvPr/>
        </p:nvGraphicFramePr>
        <p:xfrm>
          <a:off x="-693034732800" y="-70018200"/>
          <a:ext cx="660240" cy="749160"/>
        </p:xfrm>
        <a:graphic>
          <a:graphicData uri="http://schemas.openxmlformats.org/drawingml/2006/table">
            <a:tbl>
              <a:tblPr/>
              <a:tblGrid>
                <a:gridCol w="660240"/>
              </a:tblGrid>
              <a:tr h="749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br>
                        <a:rPr sz="1100"/>
                      </a:b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277" name=""/>
          <p:cNvSpPr/>
          <p:nvPr/>
        </p:nvSpPr>
        <p:spPr>
          <a:xfrm>
            <a:off x="8551800" y="192240"/>
            <a:ext cx="993960" cy="866520"/>
          </a:xfrm>
          <a:prstGeom prst="rect">
            <a:avLst/>
          </a:prstGeom>
          <a:solidFill>
            <a:srgbClr val="6c83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9105840" y="42840"/>
            <a:ext cx="615960" cy="5554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2651400" y="2666880"/>
            <a:ext cx="458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6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38B5B-0DCA-4E58-A839-F53D4979239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/>
          <p:nvPr/>
        </p:nvSpPr>
        <p:spPr>
          <a:xfrm>
            <a:off x="4873680" y="1657440"/>
            <a:ext cx="2482920" cy="407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spcBef>
                <a:spcPts val="12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pside with LC 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12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ice difference to S65 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- EUR 10 during 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12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ice risk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5% over LC in BC consider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K 88,9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irect R&amp;D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effort Mio. 1‘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3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orts of  Mio.1’0 considered (4% of Turnover) or 6 EUR per uni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902120" y="1084320"/>
            <a:ext cx="2549520" cy="554040"/>
          </a:xfrm>
          <a:prstGeom prst="rect">
            <a:avLst/>
          </a:prstGeom>
          <a:solidFill>
            <a:srgbClr val="a4d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2" name=""/>
          <p:cNvGraphicFramePr/>
          <p:nvPr/>
        </p:nvGraphicFramePr>
        <p:xfrm>
          <a:off x="1346040" y="1092240"/>
          <a:ext cx="2934000" cy="532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6040" y="1092240"/>
                    <a:ext cx="2934000" cy="53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4" name=""/>
          <p:cNvSpPr/>
          <p:nvPr/>
        </p:nvSpPr>
        <p:spPr>
          <a:xfrm flipV="1">
            <a:off x="2170080" y="6211800"/>
            <a:ext cx="487440" cy="185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087800" y="6211800"/>
            <a:ext cx="723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V="1">
            <a:off x="2468520" y="6211800"/>
            <a:ext cx="503280" cy="185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6278400" y="5221440"/>
            <a:ext cx="8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6100920" y="2936880"/>
            <a:ext cx="8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8910720" y="388800"/>
            <a:ext cx="141120" cy="123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8910720" y="593640"/>
            <a:ext cx="141120" cy="1224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8910720" y="797040"/>
            <a:ext cx="141120" cy="123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8861400" y="241200"/>
            <a:ext cx="330120" cy="785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8902800" y="270000"/>
            <a:ext cx="23328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8907480" y="522360"/>
            <a:ext cx="23328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8907480" y="770040"/>
            <a:ext cx="23328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44600" y="342720"/>
            <a:ext cx="912168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64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servativ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usiness case indicates 8’7 Gross Margin &amp;  3’9 Profit in FY0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113520" y="3645000"/>
            <a:ext cx="8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6045120" y="4722840"/>
            <a:ext cx="8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8907480" y="515880"/>
            <a:ext cx="23328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15668-8856-4F6F-AE0D-4F661A6E4C6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"/>
          <p:cNvSpPr/>
          <p:nvPr/>
        </p:nvSpPr>
        <p:spPr>
          <a:xfrm>
            <a:off x="352440" y="139680"/>
            <a:ext cx="80074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64 – Penelope w/o Camera </a:t>
            </a:r>
            <a:br>
              <a:rPr sz="28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duct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12920" y="5880240"/>
            <a:ext cx="1895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12920" y="1473120"/>
            <a:ext cx="1888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ing/Market  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12920" y="2859120"/>
            <a:ext cx="189540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anc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412920" y="3863880"/>
            <a:ext cx="1895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12920" y="5010120"/>
            <a:ext cx="1895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830680" y="4829040"/>
            <a:ext cx="52830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H="1" flipV="1" rot="16200000">
            <a:off x="1959480" y="1620360"/>
            <a:ext cx="65268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flipH="1" flipV="1" rot="16200000">
            <a:off x="2223360" y="1467360"/>
            <a:ext cx="128520" cy="135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H="1" flipV="1" rot="16200000">
            <a:off x="2223360" y="1680120"/>
            <a:ext cx="128520" cy="135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flipH="1" flipV="1" rot="16200000">
            <a:off x="2223360" y="1864080"/>
            <a:ext cx="128520" cy="135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H="1" flipV="1" rot="16200000">
            <a:off x="1934280" y="2967840"/>
            <a:ext cx="65232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 flipH="1" flipV="1" rot="16200000">
            <a:off x="2197080" y="2812680"/>
            <a:ext cx="128520" cy="136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H="1" flipV="1" rot="16200000">
            <a:off x="2197080" y="3025440"/>
            <a:ext cx="128520" cy="1364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H="1" flipV="1" rot="16200000">
            <a:off x="2197080" y="3225600"/>
            <a:ext cx="128520" cy="136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H="1" flipV="1" rot="16200000">
            <a:off x="1934280" y="4006080"/>
            <a:ext cx="65232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H="1" flipV="1" rot="16200000">
            <a:off x="2197080" y="3850920"/>
            <a:ext cx="128520" cy="136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H="1" flipV="1" rot="16200000">
            <a:off x="2197080" y="4063680"/>
            <a:ext cx="128520" cy="136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flipH="1" flipV="1" rot="16200000">
            <a:off x="2197080" y="4276440"/>
            <a:ext cx="128520" cy="136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H="1" flipV="1" rot="16200000">
            <a:off x="1934280" y="5091840"/>
            <a:ext cx="65232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H="1" flipV="1" rot="16200000">
            <a:off x="2196720" y="4937760"/>
            <a:ext cx="128880" cy="136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 flipH="1" flipV="1" rot="16200000">
            <a:off x="2196720" y="5150520"/>
            <a:ext cx="128880" cy="136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H="1" flipV="1" rot="16200000">
            <a:off x="2197080" y="5159160"/>
            <a:ext cx="128520" cy="136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flipH="1" flipV="1" rot="16200000">
            <a:off x="1934280" y="5904720"/>
            <a:ext cx="65232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 flipH="1" flipV="1" rot="16200000">
            <a:off x="2197080" y="5749560"/>
            <a:ext cx="128520" cy="136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 flipH="1" flipV="1" rot="16200000">
            <a:off x="2197080" y="5962320"/>
            <a:ext cx="128520" cy="136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 flipH="1" flipV="1" rot="16200000">
            <a:off x="2197080" y="6175080"/>
            <a:ext cx="128520" cy="136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705040" y="1305000"/>
            <a:ext cx="6829560" cy="1150920"/>
          </a:xfrm>
          <a:prstGeom prst="rect">
            <a:avLst/>
          </a:prstGeom>
          <a:noFill/>
          <a:ln w="9360">
            <a:solidFill>
              <a:srgbClr val="6ca4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25 15.02.05,  S3 11.03.05, S4 11.04.05, M3 20.05.0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S 04/05  18.04.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MEA international variant planned (No operator variant e.g. Vodafone plann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ife cycle until end 09/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olume 160 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lta M1 (10.12.2004)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701800" y="3686040"/>
            <a:ext cx="6829560" cy="1017720"/>
          </a:xfrm>
          <a:prstGeom prst="rect">
            <a:avLst/>
          </a:prstGeom>
          <a:noFill/>
          <a:ln w="9360">
            <a:solidFill>
              <a:srgbClr val="6ca4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t modification Basis S6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“No Camera” =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ar cover modific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modification (Exclude camera support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tenna modif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701800" y="4791240"/>
            <a:ext cx="6829560" cy="839520"/>
          </a:xfrm>
          <a:prstGeom prst="rect">
            <a:avLst/>
          </a:prstGeom>
          <a:noFill/>
          <a:ln w="9360">
            <a:solidFill>
              <a:srgbClr val="6ca4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ame as S65 excep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o flash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701800" y="5692680"/>
            <a:ext cx="6829560" cy="801720"/>
          </a:xfrm>
          <a:prstGeom prst="rect">
            <a:avLst/>
          </a:prstGeom>
          <a:noFill/>
          <a:ln w="9360">
            <a:solidFill>
              <a:srgbClr val="6ca4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ame as S65 excep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o java “Photo editor” / No java “Worms”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stead java “Chess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H="1" flipV="1" rot="16200000">
            <a:off x="2197080" y="5368680"/>
            <a:ext cx="128520" cy="136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3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3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4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4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5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5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6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7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8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8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9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9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0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0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1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1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2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2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3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3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4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4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5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5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6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6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7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7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8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4" name=""/>
          <p:cNvGrpSpPr/>
          <p:nvPr/>
        </p:nvGrpSpPr>
        <p:grpSpPr>
          <a:xfrm>
            <a:off x="-693034732800" y="-69218280"/>
            <a:ext cx="552600" cy="617400"/>
            <a:chOff x="-693034732800" y="-69218280"/>
            <a:chExt cx="552600" cy="617400"/>
          </a:xfrm>
        </p:grpSpPr>
        <p:sp>
          <p:nvSpPr>
            <p:cNvPr id="1485" name=""/>
            <p:cNvSpPr/>
            <p:nvPr/>
          </p:nvSpPr>
          <p:spPr>
            <a:xfrm>
              <a:off x="-693034732800" y="-692182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-693034676640" y="-691988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-693034676640" y="-689986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-693034676640" y="-687898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9" name=""/>
          <p:cNvGrpSpPr/>
          <p:nvPr/>
        </p:nvGrpSpPr>
        <p:grpSpPr>
          <a:xfrm>
            <a:off x="-693034732800" y="-52977960"/>
            <a:ext cx="552600" cy="617400"/>
            <a:chOff x="-693034732800" y="-52977960"/>
            <a:chExt cx="552600" cy="617400"/>
          </a:xfrm>
        </p:grpSpPr>
        <p:sp>
          <p:nvSpPr>
            <p:cNvPr id="1490" name=""/>
            <p:cNvSpPr/>
            <p:nvPr/>
          </p:nvSpPr>
          <p:spPr>
            <a:xfrm>
              <a:off x="-693034732800" y="-529779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-693034676640" y="-5295852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-693034676640" y="-5275836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-693034676640" y="-5254956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4" name=""/>
          <p:cNvGrpSpPr/>
          <p:nvPr/>
        </p:nvGrpSpPr>
        <p:grpSpPr>
          <a:xfrm>
            <a:off x="-693034732800" y="-33061320"/>
            <a:ext cx="552600" cy="550800"/>
            <a:chOff x="-693034732800" y="-33061320"/>
            <a:chExt cx="552600" cy="550800"/>
          </a:xfrm>
        </p:grpSpPr>
        <p:sp>
          <p:nvSpPr>
            <p:cNvPr id="1495" name=""/>
            <p:cNvSpPr/>
            <p:nvPr/>
          </p:nvSpPr>
          <p:spPr>
            <a:xfrm>
              <a:off x="-693034732800" y="-33061320"/>
              <a:ext cx="552600" cy="550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-693034675920" y="-3304404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-693034675920" y="-32867280"/>
              <a:ext cx="41436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-693034675920" y="-3268116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9" name=""/>
          <p:cNvGrpSpPr/>
          <p:nvPr/>
        </p:nvGrpSpPr>
        <p:grpSpPr>
          <a:xfrm>
            <a:off x="-693034732800" y="-48039480"/>
            <a:ext cx="552600" cy="617400"/>
            <a:chOff x="-693034732800" y="-48039480"/>
            <a:chExt cx="552600" cy="617400"/>
          </a:xfrm>
        </p:grpSpPr>
        <p:sp>
          <p:nvSpPr>
            <p:cNvPr id="1500" name=""/>
            <p:cNvSpPr/>
            <p:nvPr/>
          </p:nvSpPr>
          <p:spPr>
            <a:xfrm>
              <a:off x="-693034732800" y="-480394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-693034676640" y="-480200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-693034676640" y="-478198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-693034676640" y="-476110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4" name=""/>
          <p:cNvGrpSpPr/>
          <p:nvPr/>
        </p:nvGrpSpPr>
        <p:grpSpPr>
          <a:xfrm>
            <a:off x="-693034732800" y="24498360"/>
            <a:ext cx="552600" cy="617400"/>
            <a:chOff x="-693034732800" y="24498360"/>
            <a:chExt cx="552600" cy="617400"/>
          </a:xfrm>
        </p:grpSpPr>
        <p:sp>
          <p:nvSpPr>
            <p:cNvPr id="1505" name=""/>
            <p:cNvSpPr/>
            <p:nvPr/>
          </p:nvSpPr>
          <p:spPr>
            <a:xfrm>
              <a:off x="-693034732800" y="244983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-693034676640" y="245174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-693034676640" y="2471760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-693034676640" y="2492640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9" name=""/>
          <p:cNvGrpSpPr/>
          <p:nvPr/>
        </p:nvGrpSpPr>
        <p:grpSpPr>
          <a:xfrm>
            <a:off x="-693034732800" y="16978320"/>
            <a:ext cx="552600" cy="560160"/>
            <a:chOff x="-693034732800" y="16978320"/>
            <a:chExt cx="552600" cy="560160"/>
          </a:xfrm>
        </p:grpSpPr>
        <p:sp>
          <p:nvSpPr>
            <p:cNvPr id="1510" name=""/>
            <p:cNvSpPr/>
            <p:nvPr/>
          </p:nvSpPr>
          <p:spPr>
            <a:xfrm>
              <a:off x="-693034732800" y="16978320"/>
              <a:ext cx="552600" cy="560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-693034676640" y="169956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-693034676640" y="171774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-693034676640" y="17366760"/>
              <a:ext cx="409680" cy="128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4" name=""/>
          <p:cNvGrpSpPr/>
          <p:nvPr/>
        </p:nvGrpSpPr>
        <p:grpSpPr>
          <a:xfrm>
            <a:off x="-693034732800" y="38171520"/>
            <a:ext cx="552600" cy="617400"/>
            <a:chOff x="-693034732800" y="38171520"/>
            <a:chExt cx="552600" cy="617400"/>
          </a:xfrm>
        </p:grpSpPr>
        <p:sp>
          <p:nvSpPr>
            <p:cNvPr id="1515" name=""/>
            <p:cNvSpPr/>
            <p:nvPr/>
          </p:nvSpPr>
          <p:spPr>
            <a:xfrm>
              <a:off x="-693034732800" y="3817152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-693034675920" y="381906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-693034675920" y="38388600"/>
              <a:ext cx="414360" cy="14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-693034675920" y="385974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9" name=""/>
          <p:cNvSpPr/>
          <p:nvPr/>
        </p:nvSpPr>
        <p:spPr>
          <a:xfrm>
            <a:off x="-693042657480" y="-70027920"/>
            <a:ext cx="66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-69304265748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-69303219264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-69304209876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9305256360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-69303219264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-69304209876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69305256360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-69303219264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-69304209876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69305256360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9" name=""/>
          <p:cNvGraphicFramePr/>
          <p:nvPr/>
        </p:nvGraphicFramePr>
        <p:xfrm>
          <a:off x="-693042657480" y="-70027920"/>
          <a:ext cx="10464840" cy="146913840"/>
        </p:xfrm>
        <a:graphic>
          <a:graphicData uri="http://schemas.openxmlformats.org/drawingml/2006/table">
            <a:tbl>
              <a:tblPr/>
              <a:tblGrid>
                <a:gridCol w="1974960"/>
                <a:gridCol w="1316880"/>
                <a:gridCol w="658440"/>
                <a:gridCol w="3949920"/>
                <a:gridCol w="658440"/>
                <a:gridCol w="216000"/>
                <a:gridCol w="932040"/>
                <a:gridCol w="758160"/>
              </a:tblGrid>
              <a:tr h="210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er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fication Status/Probl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on It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adl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ttery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 MMC L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itional fixation ribs will be implemented to secure that the lid not opens autonomou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r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7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mera l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     IT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ecides to use only the silver chromatic camera loop.  Color matching from Sunarrow has to be improved, samples from ITT show folding-lines on surface.  ITT requested an radius from 0,8mm instead off 0,2mm.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oes not want the bigger radius and accepts the folding-lines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T trys to improve the quality. An range has been forwarded to PM for acceptance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 release for 30k given to ITT. Decision for single source with ITT is in discussion.  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improves his samples to reach gloss level and color.New samples expected for 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br>
                        <a:rPr sz="1000"/>
                      </a:b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yp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has partly scratches on surface                                           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improves process to get rid of scratches.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br>
                        <a:rPr sz="1000"/>
                      </a:b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or matching is released                                                                   Tooltransfer to Beijing in cw17, FRT in cw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                                     Location for Ramp up will be Beijing instead of Shenzh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go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9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ystick kno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 Joystick knobs  the pull off test method is cancelled and changed to  lateral abrasion test.  The adhesion between soft touch material and knob has to improved by both suppliers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performed the lateral abrasion test on 50 parts. Results where ok. R&amp;D requested samples with 2 different surfaces for evaluation from Youeal.Samples expected middle of CW18. Clearify leadtime and feaseble impact to ramp up if change will be mad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0" name=""/>
          <p:cNvSpPr/>
          <p:nvPr/>
        </p:nvSpPr>
        <p:spPr>
          <a:xfrm>
            <a:off x="-69303219264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-69304209876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9305256360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-69303219264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-69304209876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69305256360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-69303219264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-69304209876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69305256360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-69304265748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3" name=""/>
          <p:cNvGraphicFramePr/>
          <p:nvPr/>
        </p:nvGraphicFramePr>
        <p:xfrm>
          <a:off x="-693034732800" y="-70018200"/>
          <a:ext cx="660240" cy="749160"/>
        </p:xfrm>
        <a:graphic>
          <a:graphicData uri="http://schemas.openxmlformats.org/drawingml/2006/table">
            <a:tbl>
              <a:tblPr/>
              <a:tblGrid>
                <a:gridCol w="660240"/>
              </a:tblGrid>
              <a:tr h="749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br>
                        <a:rPr sz="1100"/>
                      </a:b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554" name=""/>
          <p:cNvSpPr/>
          <p:nvPr/>
        </p:nvSpPr>
        <p:spPr>
          <a:xfrm>
            <a:off x="8551800" y="192240"/>
            <a:ext cx="993960" cy="866520"/>
          </a:xfrm>
          <a:prstGeom prst="rect">
            <a:avLst/>
          </a:prstGeom>
          <a:solidFill>
            <a:srgbClr val="6c83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9105840" y="42840"/>
            <a:ext cx="615960" cy="5554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2705040" y="2616120"/>
            <a:ext cx="6861240" cy="979560"/>
          </a:xfrm>
          <a:prstGeom prst="rect">
            <a:avLst/>
          </a:prstGeom>
          <a:noFill/>
          <a:ln w="9360">
            <a:solidFill>
              <a:srgbClr val="6ca4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nservative BC: LC 0405-0905; 160k units;  ASP 153,75 ( Offer to market € 10 under  S65 Price , in BC additional price risk 5% consider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/O 24‘6;  HK 88,9 per unit,  GM 8’7, PROFIT 3‘9 (16% of turnov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rcom 6€ per Box; direct R&amp;D 1’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F5B05-6C56-4BE0-A244-E56F917C9F5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"/>
          <p:cNvSpPr/>
          <p:nvPr/>
        </p:nvSpPr>
        <p:spPr>
          <a:xfrm>
            <a:off x="9290160" y="0"/>
            <a:ext cx="61596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95000" y="243360"/>
            <a:ext cx="840420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64:  Conservat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case shows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10’4 SM  &amp;  3’9 Prof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9290160" y="0"/>
            <a:ext cx="61596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0" name=""/>
          <p:cNvGraphicFramePr/>
          <p:nvPr/>
        </p:nvGraphicFramePr>
        <p:xfrm>
          <a:off x="351000" y="1116000"/>
          <a:ext cx="9161280" cy="513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000" y="1116000"/>
                    <a:ext cx="916128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02B4C-A2B3-464D-8754-F91E3130E9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8T09:37:00Z</dcterms:created>
  <dc:creator>McKinsey User</dc:creator>
  <dc:description/>
  <dc:language>en-US</dc:language>
  <cp:lastModifiedBy>Mues-Hane Hans Martin</cp:lastModifiedBy>
  <cp:lastPrinted>2004-01-09T14:05:35Z</cp:lastPrinted>
  <dcterms:modified xsi:type="dcterms:W3CDTF">2004-12-10T09:09:39Z</dcterms:modified>
  <cp:revision>1030</cp:revision>
  <dc:subject/>
  <dc:title>TITL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ID">
    <vt:lpwstr/>
  </property>
  <property fmtid="{D5CDD505-2E9C-101B-9397-08002B2CF9AE}" pid="3" name="DocIDPosition">
    <vt:r8>0</vt:r8>
  </property>
  <property fmtid="{D5CDD505-2E9C-101B-9397-08002B2CF9AE}" pid="4" name="DocIDinSlide">
    <vt:bool>0</vt:bool>
  </property>
  <property fmtid="{D5CDD505-2E9C-101B-9397-08002B2CF9AE}" pid="5" name="DocIDinTitle">
    <vt:bool>0</vt:bool>
  </property>
  <property fmtid="{D5CDD505-2E9C-101B-9397-08002B2CF9AE}" pid="6" name="NotesPageLayout">
    <vt:lpwstr>Message</vt:lpwstr>
  </property>
  <property fmtid="{D5CDD505-2E9C-101B-9397-08002B2CF9AE}" pid="7" name="_AdHocReviewCycleID">
    <vt:r8>1398051792</vt:r8>
  </property>
  <property fmtid="{D5CDD505-2E9C-101B-9397-08002B2CF9AE}" pid="8" name="_AuthorEmail">
    <vt:lpwstr>hans-martin.mues-hane@siemens.com</vt:lpwstr>
  </property>
  <property fmtid="{D5CDD505-2E9C-101B-9397-08002B2CF9AE}" pid="9" name="_AuthorEmailDisplayName">
    <vt:lpwstr>Mues-Hane Hans-Martin Com MD PBM PG65</vt:lpwstr>
  </property>
  <property fmtid="{D5CDD505-2E9C-101B-9397-08002B2CF9AE}" pid="10" name="_EmailSubject">
    <vt:lpwstr>S64 Final Presentation PSR</vt:lpwstr>
  </property>
</Properties>
</file>