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8D1A-E4EA-4D21-B0D5-838B7DFD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1C41D-F60F-4F5B-8CB4-A557ACB9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66A5-CB82-438C-B496-0F8C8681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2712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056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368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2712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056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14A0-42E3-4B43-8CC1-878D69D6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54040" y="766080"/>
            <a:ext cx="53690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397D4-D249-416A-B5FD-1975F1B8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2712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0056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5368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2712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0056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3FA2-5478-4F37-BFD9-4306D31B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F475-3900-41E4-A675-6FBC1B16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A813-C749-4D59-86D5-8FB980D7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54040" y="766080"/>
            <a:ext cx="53690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F91C-AC95-441F-A913-1BD34164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83DB-E1CD-4422-AF7E-4AD83EFA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C371-91AE-4996-8A58-CD0FCE44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34ED-681E-4FFF-9471-20F906DF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221400">
              <a:spcBef>
                <a:spcPts val="62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22840">
              <a:spcBef>
                <a:spcPts val="624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1040" indent="-221400">
              <a:spcBef>
                <a:spcPts val="624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680" indent="-223200">
              <a:spcBef>
                <a:spcPts val="624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598920" y="6579360"/>
            <a:ext cx="334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54040" y="6396840"/>
            <a:ext cx="582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Page </a:t>
            </a:r>
            <a:fld id="{11913320-F66D-4B05-BA2B-1BEA61F25F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888920" y="6577920"/>
            <a:ext cx="726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6477120" y="179280"/>
            <a:ext cx="2412360" cy="277560"/>
            <a:chOff x="6477120" y="179280"/>
            <a:chExt cx="2412360" cy="27756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6477120" y="179280"/>
              <a:ext cx="9572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4"/>
            <a:srcRect l="4008" t="11580" r="3770" b="17710"/>
            <a:stretch/>
          </p:blipFill>
          <p:spPr>
            <a:xfrm>
              <a:off x="7532640" y="182160"/>
              <a:ext cx="1356840" cy="2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7431120" y="271080"/>
              <a:ext cx="74160" cy="7488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26640" cy="673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4040" y="1447560"/>
            <a:ext cx="7012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21240" y="6192720"/>
            <a:ext cx="3319560" cy="382680"/>
            <a:chOff x="5421240" y="6192720"/>
            <a:chExt cx="3319560" cy="38268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5421240" y="6192720"/>
              <a:ext cx="131760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rcRect l="4008" t="15978" r="3770" b="17710"/>
            <a:stretch/>
          </p:blipFill>
          <p:spPr>
            <a:xfrm>
              <a:off x="6873840" y="6216480"/>
              <a:ext cx="18669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34160" y="6319800"/>
              <a:ext cx="101520" cy="10152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spcBef>
                <a:spcPts val="624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2120" algn="ctr">
              <a:spcBef>
                <a:spcPts val="624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43000" algn="ctr">
              <a:spcBef>
                <a:spcPts val="624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58560"/>
            <a:ext cx="75996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新細明體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rocesse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ool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新細明體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ethodology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Organizational Setup (Draft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Headcount Germany Pla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3957120"/>
            <a:ext cx="71978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rch 2006 – Confid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4497480"/>
            <a:ext cx="35989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rio To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8920" y="179280"/>
            <a:ext cx="6118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(2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 P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rocesse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ool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M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ethodologies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rganizational 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88920" y="1798560"/>
            <a:ext cx="71978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88920" y="1798560"/>
            <a:ext cx="0" cy="179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78200" y="988920"/>
            <a:ext cx="2203560" cy="55080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Tools Method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umei 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8200" y="719280"/>
            <a:ext cx="2203560" cy="55080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Tools Methodologies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ario Topel / Sumei Lin (depu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7840" y="125892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8560" y="2249640"/>
            <a:ext cx="1258920" cy="53964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&amp; Planning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1979640"/>
            <a:ext cx="1258920" cy="53964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&amp; Planning Tools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 PPT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900" spc="-1" strike="noStrike">
                <a:solidFill>
                  <a:srgbClr val="002b5d"/>
                </a:solidFill>
                <a:latin typeface="Arial"/>
                <a:ea typeface="新細明體"/>
              </a:rPr>
              <a:t>Mario Topel (ac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8560" y="5398920"/>
            <a:ext cx="8456760" cy="9072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5130720"/>
            <a:ext cx="8447040" cy="26820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ntranet &amp;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8560" y="6116760"/>
            <a:ext cx="8456760" cy="9036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8280" y="5859360"/>
            <a:ext cx="8447040" cy="26856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elpdesk – Training -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8480" y="5130720"/>
            <a:ext cx="1257480" cy="26820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 IC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8200" y="5859360"/>
            <a:ext cx="1257120" cy="26856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 HTS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2789280"/>
            <a:ext cx="1258920" cy="224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18000" bIns="0" anchor="t">
            <a:normAutofit/>
          </a:bodyPr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a0e66"/>
                </a:solidFill>
                <a:latin typeface="Arial"/>
                <a:ea typeface="新細明體"/>
              </a:rPr>
              <a:t>Tools &amp; Tas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49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rocesses</a:t>
            </a:r>
            <a:br>
              <a:rPr sz="10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MEP</a:t>
            </a:r>
            <a:br>
              <a:rPr sz="8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Crossfunction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op Down Budget Planning</a:t>
            </a:r>
            <a:br>
              <a:rPr sz="8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PMC /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Workpackage</a:t>
            </a:r>
            <a:br>
              <a:rPr sz="1000"/>
            </a:b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source</a:t>
            </a:r>
            <a:br>
              <a:rPr sz="1000"/>
            </a:b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lanning:</a:t>
            </a:r>
            <a:br>
              <a:rPr sz="10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PRIMAVERA / MS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957480" y="1798560"/>
            <a:ext cx="1528920" cy="3240000"/>
            <a:chOff x="3957480" y="1798560"/>
            <a:chExt cx="1528920" cy="3240000"/>
          </a:xfrm>
        </p:grpSpPr>
        <p:sp>
          <p:nvSpPr>
            <p:cNvPr id="108" name=""/>
            <p:cNvSpPr/>
            <p:nvPr/>
          </p:nvSpPr>
          <p:spPr>
            <a:xfrm>
              <a:off x="458784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27480" y="2249640"/>
              <a:ext cx="1258920" cy="539640"/>
            </a:xfrm>
            <a:prstGeom prst="rect">
              <a:avLst/>
            </a:prstGeom>
            <a:solidFill>
              <a:srgbClr val="ff99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98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SW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5748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Software Tool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SWT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Wolfgang Hetti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748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ools &amp; 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Description Language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elelogic TAU /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Configuration Management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elelogic SYNERGY / Rational Clearcase / Sere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Defect Management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Rational CLEARQUEST / SERE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(Automated Test:)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(tbd) Mercury TESTDIREC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757840" y="1798560"/>
            <a:ext cx="1528920" cy="3240000"/>
            <a:chOff x="5757840" y="1798560"/>
            <a:chExt cx="1528920" cy="3240000"/>
          </a:xfrm>
        </p:grpSpPr>
        <p:sp>
          <p:nvSpPr>
            <p:cNvPr id="113" name=""/>
            <p:cNvSpPr/>
            <p:nvPr/>
          </p:nvSpPr>
          <p:spPr>
            <a:xfrm>
              <a:off x="638820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27840" y="2249640"/>
              <a:ext cx="1258920" cy="539640"/>
            </a:xfrm>
            <a:prstGeom prst="rect">
              <a:avLst/>
            </a:prstGeom>
            <a:solidFill>
              <a:srgbClr val="ff99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98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Engineering 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784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Engineering Tool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ET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Edwin Schmid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5784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ools &amp; 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3D CAD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ndustrial Design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CATIA / Pro Engine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CB-Design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Mentor Graphics / 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rCAD / PA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roduction Interfac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tem number management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SAP PLM /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B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556400" y="1798560"/>
            <a:ext cx="1260720" cy="3240000"/>
            <a:chOff x="7556400" y="1798560"/>
            <a:chExt cx="1260720" cy="3240000"/>
          </a:xfrm>
        </p:grpSpPr>
        <p:sp>
          <p:nvSpPr>
            <p:cNvPr id="118" name=""/>
            <p:cNvSpPr/>
            <p:nvPr/>
          </p:nvSpPr>
          <p:spPr>
            <a:xfrm>
              <a:off x="818676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5820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R&amp;D Service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RD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Mario Topel (actin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640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&amp;D Infrastructur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unich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peration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&amp;D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nfrastructur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Kamp-Lintfort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per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&amp;D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nfrastructur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Wroclav (tbc)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perations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58920" y="5489640"/>
            <a:ext cx="8456400" cy="26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18000" bIns="0" anchor="t">
            <a:normAutofit/>
          </a:bodyPr>
          <a:p>
            <a:pPr lvl="1" marL="225360" indent="-223920">
              <a:lnSpc>
                <a:spcPct val="75000"/>
              </a:lnSpc>
              <a:spcBef>
                <a:spcPts val="249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lobal Intranet Communication – Centralized Data, Process document and Information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6207120"/>
            <a:ext cx="8456400" cy="27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18000" bIns="0" anchor="t">
            <a:normAutofit/>
          </a:bodyPr>
          <a:p>
            <a:pPr lvl="1" marL="225360" indent="-223920">
              <a:lnSpc>
                <a:spcPct val="75000"/>
              </a:lnSpc>
              <a:spcBef>
                <a:spcPts val="249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lobal Helpdesk – Training – Suppor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7120" y="988920"/>
            <a:ext cx="1170000" cy="54000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eer Organization planned in A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158920" y="1798560"/>
            <a:ext cx="1528920" cy="3240000"/>
            <a:chOff x="2158920" y="1798560"/>
            <a:chExt cx="1528920" cy="3240000"/>
          </a:xfrm>
        </p:grpSpPr>
        <p:sp>
          <p:nvSpPr>
            <p:cNvPr id="125" name=""/>
            <p:cNvSpPr/>
            <p:nvPr/>
          </p:nvSpPr>
          <p:spPr>
            <a:xfrm>
              <a:off x="278928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28920" y="2249640"/>
              <a:ext cx="1258920" cy="539640"/>
            </a:xfrm>
            <a:prstGeom prst="rect">
              <a:avLst/>
            </a:prstGeom>
            <a:solidFill>
              <a:srgbClr val="ff99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98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Software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5892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Requirements Engineering Tool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RET</a:t>
              </a:r>
              <a:br>
                <a:rPr sz="1000"/>
              </a:br>
              <a:r>
                <a:rPr b="1" lang="en-US" sz="9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Hans Veit Bac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5892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ools &amp; 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equirements Engineering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elelogic DOORS /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CR Ligh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Tool and Process Interface to Categ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558200" y="4011480"/>
            <a:ext cx="1258920" cy="48600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87E42-A028-4485-A282-19F735C7AAD1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58920" y="179280"/>
            <a:ext cx="6118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(2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 P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rocesse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ool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M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ethodologies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rganizational 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8920" y="809640"/>
            <a:ext cx="8997840" cy="57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2C1A-2195-41CC-817E-CFE2C2BFCBC4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rio Topel</cp:lastModifiedBy>
  <cp:lastPrinted>2006-01-10T22:20:18Z</cp:lastPrinted>
  <dcterms:modified xsi:type="dcterms:W3CDTF">2006-05-15T09:44:40Z</dcterms:modified>
  <cp:revision>809</cp:revision>
  <dc:subject/>
  <dc:title>PowerPoint Presentation</dc:title>
</cp:coreProperties>
</file>