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143-9333-48F3-B3AC-43BEEC26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896-872B-44AC-900E-188EE2BB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360-07DF-4949-82E0-99937259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A06-E8E9-41D0-AD3B-31ACE063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E423D-5362-45F0-9C26-6D500A6F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96CB5-9F3D-455A-9925-6FB9AF5C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56C59-A6C4-4B82-A87E-6B98AE26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E742A-9CF9-468A-9569-F0F2496E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3BE9F-EB18-451A-BEAB-6A350F1A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61F33-691F-4E30-8811-33900B01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C3824-8E1F-4B55-8BAD-2AEE4ACB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9A1-D373-4695-8DC5-618DA979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DFD51-15FB-42DA-A014-F3E2877A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82D97-4467-4EE5-B3EB-AE03491C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01482-880B-481F-B175-5DE4D9B8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68DFF-CB75-4153-889C-EA68F3E6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B874A-4B3B-45BC-9073-2B964671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7AB-9AF4-48C9-A033-55012528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1ED-7EEA-424B-A16C-66A1DE49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9425-509C-48CC-9B2F-46DC9356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DA4-2329-49A8-852E-1314FA39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873D-4150-4BE3-B4FB-71DDA678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D03-CE03-4152-814B-4B0B6B52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646-723E-4711-AD08-8511D122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F4B9-F5FC-4F7F-A824-262201F5B5A4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221400">
              <a:spcBef>
                <a:spcPts val="62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22840">
              <a:spcBef>
                <a:spcPts val="624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1040" indent="-221400">
              <a:spcBef>
                <a:spcPts val="624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680" indent="-223200">
              <a:spcBef>
                <a:spcPts val="624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680" indent="-2232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680" indent="-2232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598920" y="6579360"/>
            <a:ext cx="334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554040" y="6396840"/>
            <a:ext cx="582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7B1FCB-01A3-4581-83ED-DF3D205844D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1888920" y="6577920"/>
            <a:ext cx="726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477120" y="179280"/>
            <a:ext cx="2412360" cy="277560"/>
            <a:chOff x="6477120" y="179280"/>
            <a:chExt cx="2412360" cy="27756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6477120" y="179280"/>
              <a:ext cx="9572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rcRect l="4008" t="11580" r="3770" b="17710"/>
            <a:stretch/>
          </p:blipFill>
          <p:spPr>
            <a:xfrm>
              <a:off x="7532640" y="182160"/>
              <a:ext cx="1356840" cy="2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431120" y="271080"/>
              <a:ext cx="74160" cy="7488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26640" cy="6734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4040" y="1447560"/>
            <a:ext cx="7012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421240" y="6192720"/>
            <a:ext cx="3319560" cy="382680"/>
            <a:chOff x="5421240" y="6192720"/>
            <a:chExt cx="3319560" cy="382680"/>
          </a:xfrm>
        </p:grpSpPr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5421240" y="6192720"/>
              <a:ext cx="131760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"/>
            <a:srcRect l="4008" t="15978" r="3770" b="17710"/>
            <a:stretch/>
          </p:blipFill>
          <p:spPr>
            <a:xfrm>
              <a:off x="6873840" y="6216480"/>
              <a:ext cx="1866960" cy="2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734160" y="6319800"/>
              <a:ext cx="101520" cy="10152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7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8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9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0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3059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Minion"/>
              </a:rPr>
              <a:t>PLM Excellence Program 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7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Dr. S. Bocio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 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, May 08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High-Performing Culture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Establish commitment-driven behavio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Goal orient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ealistic but aggressive plan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r action sett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eliable delivery schedul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Accountability culture across team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rvice orientation towards internal customer satisfac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Skill optimization of mgmt &amp; staff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75% of all KPI‘s reached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Work satisfaction &gt; 66%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 Bocionek/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Mgmt coaching: Bocionek / 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erformance Controlling: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Wingen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KPI‘s complete, and mgmt objectives finalized: en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kick-off workshop &amp; first training: mi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1st task for all mgrs: work out PLM excellence projects: end Jan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erformance monitoring: starts March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LQA / SMR: 1Q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Satisfaction questionnaire: Sept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8" name=""/>
          <p:cNvSpPr/>
          <p:nvPr/>
        </p:nvSpPr>
        <p:spPr>
          <a:xfrm>
            <a:off x="380880" y="4724280"/>
            <a:ext cx="8525160" cy="18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08-May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KPIs defined and signed in Feb 06; KPI scoreboard set up by K. Win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commitment culture implemented in U2, Fit4Apoxi Workshop, etc. Mgmt team accepts this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at PHE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evaluation to be discussed with mgmt; follow ups needed (May, Ju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Opinion Poll offered earlier than 3Q06 (tbd in 2Q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measure now true quantitative improvements (start May 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8399520" y="467316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8664480" y="491616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981080" y="1905120"/>
            <a:ext cx="5029200" cy="259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Processes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522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M - Excel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975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“Real V-Model: </a:t>
            </a:r>
            <a:r>
              <a:rPr b="1" lang="it-IT" sz="2400" spc="-1" strike="noStrike">
                <a:solidFill>
                  <a:srgbClr val="3a0e66"/>
                </a:solidFill>
                <a:latin typeface="Arial Unicode MS"/>
              </a:rPr>
              <a:t>Introduce process culture and discipline</a:t>
            </a: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stablish true V-Model for PLM, across whole organization, and for all parts, e.g. HW, SW, MD, …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Set up „complete“ horizontal layers of responsibility in the „V“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Define and agree on clear roles and responsibilities across all Org‘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Establish measurable process disciplin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Foster culture of internal customer satisfac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mprove TTM, Quality and cost posi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maturity: &g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QA deviations: &l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 &gt; 66%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Manager: Assa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onitoring and measuring: Schwab/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summary: monthly by SB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Name project lead (Feb.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don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Plan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upda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formation Kick-off (Mar 06)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mov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ducation starts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star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isfaction metrics set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May 05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nt. Improvement Process targets set (Apr.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May 05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adaptations completed 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(Jun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MMI baseline available (Sep 06)</a:t>
            </a: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Work packages moved due to launch of Processes N’Sync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Role definitions will be handled within Processes N’Sync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7570800" y="655560"/>
            <a:ext cx="785520" cy="334800"/>
            <a:chOff x="7570800" y="655560"/>
            <a:chExt cx="785520" cy="334800"/>
          </a:xfrm>
        </p:grpSpPr>
        <p:sp>
          <p:nvSpPr>
            <p:cNvPr id="398" name=""/>
            <p:cNvSpPr/>
            <p:nvPr/>
          </p:nvSpPr>
          <p:spPr>
            <a:xfrm rot="16200000">
              <a:off x="7796160" y="430200"/>
              <a:ext cx="334800" cy="785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6200000">
              <a:off x="7879320" y="725760"/>
              <a:ext cx="194760" cy="192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 rot="16200000">
            <a:off x="8207280" y="3853800"/>
            <a:ext cx="161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Requirement Engineering Excellence“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Define and establish formal requirements engineering practice in BMG („Best-in-Class“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op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Product requirement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Platform requirement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All projects globally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Improve on all levels of operation within CM and P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Process: Role and workflow clarity (incl. deliverables), trigger organizational adaptions where needed, speed through re-use,, support of Agile with Scrum, ensure formal review practices, increase transparency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People: Skills, Training, Mentoring and Staffing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Tools: Improve usability of Doors, increase  also RE efficiency by adequate tool support (i.e. Doors, CR-Light)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Communication: Improve, align and communicate activities  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(TBD) Projects: higher quality documents / requirements, „small but beautiful“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Measures of Success </a:t>
            </a:r>
            <a:r>
              <a:rPr b="1" lang="en-US" sz="1000" spc="-1" strike="noStrike">
                <a:solidFill>
                  <a:srgbClr val="3a0e66"/>
                </a:solidFill>
                <a:latin typeface="Arial Unicode MS"/>
              </a:rPr>
              <a:t>(to be finalised and agreed upon)</a:t>
            </a: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Internal Customer satisfaction; positive Doors user feedback by opinion surve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n-time delivery (OTD) of requirements docs at Mx milestones &gt; 90% of plan (TBD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100% product requirements handled in Doors at end of CY 2006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ach: Bocionek / Syd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Manager:  Jörg Sarzio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bi-weekly jourfix with coache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monthly management report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191880" indent="-1918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tart: Apr 06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Analyze situation and identify improvement areas (04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Accompany pilot projects Ruby, Koala and Gemstone platform (start 04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Define project setup, targets and first rollout plan (05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Align and initiate “low hanging fruits” improvements within Doors, agree on Rollout Plan for “Phase 1”(05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Fix RE workstream / processes (in alignment with CM Implementation and PD setup / Agile ) (06/06 - tbd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Ensure adequate people skills and staffing (07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Based on agreed upon processes modify as required Doors,</a:t>
            </a:r>
            <a:br>
              <a:rPr sz="900"/>
            </a:b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agree rollout plan for Phase 2 (start 07/06, duration tbd)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Target  Project End: Dec 06; continue from there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4" name=""/>
          <p:cNvSpPr/>
          <p:nvPr/>
        </p:nvSpPr>
        <p:spPr>
          <a:xfrm>
            <a:off x="4457880" y="3514680"/>
            <a:ext cx="4485960" cy="299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 (Status 26.4.06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&gt;30 interviews with stakeholders of RE in CM and PD condu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more than 100 points with improvement potential identified an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 first clustering / prioritization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rafting of first work packages / measures for Process and Tool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(Doors) improvemen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:  widely varying understanding; limited availability of 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  Kickoff with Coaches, fix project go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x cross functional project setup, fix and rollout meeting an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reporting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x and align first work packages within the areas of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PROCESS, TOOLs and COMMUN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8427960" y="3846240"/>
            <a:ext cx="15696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8377200" y="360216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8632800" y="384624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09520" y="5877000"/>
            <a:ext cx="2900520" cy="5810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9320" y="-76680"/>
            <a:ext cx="5802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Best in Test“: Wack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520" y="342720"/>
            <a:ext cx="4077000" cy="65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reate 5 significant metrics for performance measurement of ST , e.g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Test coverage, pass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ode coverag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Defect injection analysi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ug handling cycle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Unicode MS"/>
              </a:rPr>
              <a:t>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inimize number of new bugs detected after S4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test cases for </a:t>
            </a:r>
            <a:r>
              <a:rPr b="0" i="1" lang="en-US" sz="1200" spc="-1" strike="noStrike">
                <a:solidFill>
                  <a:srgbClr val="000000"/>
                </a:solidFill>
                <a:latin typeface="Arial Unicode MS"/>
              </a:rPr>
              <a:t>TDD for acceptance test on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changed lines of code after S25 milestone for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project specific S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1st pass yield (pass rate during first test run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 ST performance based on metrics abov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Unicode MS"/>
              </a:rPr>
              <a:t>Rollout of Testdirector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22720" indent="-5227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) First metric setup 1.2.06,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done 27.1.06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) Complete metric setup 1.5.06:              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80% done, 20% planned 1.6.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1.5.06 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done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 incl. first roll out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(partly done, to be completed 15.6.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vailability of required test cases for TDD in pilot scrum team in time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(done in time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. incl. first roll out,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good progress, but delayed due to resources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done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. incl. first roll out (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no project S25 yet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ment targets for ST based on metrics above defined  by 15.05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Buy decision shifted 20.5.05 due to merge PH, pilot run 30.8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 Wack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2" name=""/>
          <p:cNvSpPr/>
          <p:nvPr/>
        </p:nvSpPr>
        <p:spPr>
          <a:xfrm>
            <a:off x="4610160" y="2962440"/>
            <a:ext cx="4448160" cy="323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ll teams are named, and tasks are in progress as plan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ongoing data collection for all metr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crum teams with TDD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l teams are in operation and report regul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– budget for Test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urther alignment with 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eper alignment with RS SW for C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8364240" y="297468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8629560" y="321768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7513560" y="809640"/>
            <a:ext cx="1136880" cy="900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58560" y="809280"/>
            <a:ext cx="395892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0" tIns="36000" bIns="0" anchor="t">
            <a:normAutofit/>
          </a:bodyPr>
          <a:p>
            <a:pPr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Go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223920">
              <a:lnSpc>
                <a:spcPct val="80000"/>
              </a:lnSpc>
              <a:spcBef>
                <a:spcPts val="37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Establish integrated SW-Tool Chain to support SW-development, agile programming methods, iterative, time- boxed and test driven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223920">
              <a:lnSpc>
                <a:spcPct val="80000"/>
              </a:lnSpc>
              <a:spcBef>
                <a:spcPts val="37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Harmonization of SW-Tool landscape for BenQ 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223920">
              <a:lnSpc>
                <a:spcPct val="80000"/>
              </a:lnSpc>
              <a:spcBef>
                <a:spcPts val="37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Perform Best Practice Sharing and Benchm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8920" y="4227480"/>
            <a:ext cx="4138560" cy="23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9036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1st (draft) concep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w team setup available, Kick-Off planned in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cw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9036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only 2+1 team members instead of needed 8 (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till no official communication to Taiwan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826400" y="4317480"/>
            <a:ext cx="719280" cy="360360"/>
            <a:chOff x="7826400" y="4317480"/>
            <a:chExt cx="719280" cy="360360"/>
          </a:xfrm>
        </p:grpSpPr>
        <p:sp>
          <p:nvSpPr>
            <p:cNvPr id="419" name=""/>
            <p:cNvSpPr/>
            <p:nvPr/>
          </p:nvSpPr>
          <p:spPr>
            <a:xfrm rot="16200000">
              <a:off x="8005680" y="4137840"/>
              <a:ext cx="360360" cy="719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6200000">
              <a:off x="8096040" y="4407840"/>
              <a:ext cx="179640" cy="17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6200000">
              <a:off x="8312040" y="4407840"/>
              <a:ext cx="179640" cy="17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6200000">
              <a:off x="7878600" y="4407840"/>
              <a:ext cx="179640" cy="179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58920" y="179280"/>
            <a:ext cx="6118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Project       </a:t>
            </a:r>
            <a:r>
              <a:rPr b="1" i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Best in SW-Tools for BenQ Mobi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Mario Topel (Status 26.04.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920" y="1978200"/>
            <a:ext cx="39589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Measures of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Established SW-Tool Chain including workflow documentation per product line till Q4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Harmonization level 1 (number of different SW-Tool used for same task) per product line in Q3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1 Best Practice Sharing/Benchmarking per half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Infrastructure costs reduced by 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Positive user feedback &gt;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920" y="3508200"/>
            <a:ext cx="3958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Coach: Dr. S. Bocion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Program Manager/Project Lead: M. Topel / W. Hett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78200" y="809640"/>
            <a:ext cx="39592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Tools &amp; Tas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Requirements Engineering: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Telelogic DOORS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Description Language: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Telelogic TAU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Configuration Management: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Telelogic SYNERGY / Rational Clearquest / Se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Defect Management: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Rational CLEARQUEST / SE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(Automated Test:)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 To be decided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Mercury TEST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78200" y="2787480"/>
            <a:ext cx="39592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Reporting &amp;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Team Meeting: Weekly (re-start cw1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Steering Board: Monthly (re-start cw2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78200" y="3508200"/>
            <a:ext cx="39592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Restart: cw18  / Tool assessment 05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Final project plan: cw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98920" y="4227480"/>
            <a:ext cx="4138560" cy="23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9036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esource clarification/budget release by R&amp;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establishment of new setup incl. global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communication needed by R&amp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9036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Project plan to be worked out in detail (May 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Best practice sharing /w SIE MED (17./18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Tool / workflow assessment Beijing/Taipei till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June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rot="16200000">
            <a:off x="8086680" y="2077920"/>
            <a:ext cx="1620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Arial Unicode MS"/>
              </a:rPr>
              <a:t>Project „From Proto-Agile to Full Agile“: U. Schmitz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Establish „Agile with Scrum“ as standard software development pro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Product backlog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crum team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print-based release plan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TDD (test-driven development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totype Agile in Ruby and Gemstone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Adjust organization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Adjust QMS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Kick-off for selected projects (01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Ruby project on Agile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rganization prepared for full agile transition (1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anager:  U. Schmitz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lead: Rudolph,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lead QA/QMS: Fillers/Grei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10160" y="800280"/>
            <a:ext cx="4076640" cy="12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Pilot-Agile within regular project reviews in the OPC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Pilots/Full transition: monthly mgmt report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tart: Jan 06   End: Dec 06; continue from there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4" name=""/>
          <p:cNvSpPr/>
          <p:nvPr/>
        </p:nvSpPr>
        <p:spPr>
          <a:xfrm>
            <a:off x="4559400" y="1978200"/>
            <a:ext cx="4262400" cy="457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rainings done in MCH, KLF, WRO (Scrum Master, Agile C development). High trainee satisfa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Various definitions done (Product owner team, Req to use cases, Acceptance tests,..)=&gt;several work products avail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mmunication into projects and R&amp;D improved (bi-weekly newsletter, presentation of agile definition results in prj-meeting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tarted prototype for automated simulation and in-target te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Gemstone project started on Ag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&gt;20 scrum teams runn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uration of Qualcomm-SW build to long for T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ignificant improvement of Q-simulation needed in Qualco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requirements-&gt;use cases-&gt;architecture support for proj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Broad training coverage for acceptance testing, agile C, C++, test-driven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mprove information to teams about agile transition 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16200000">
            <a:off x="8307360" y="206964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8246880" y="182700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16200000">
            <a:off x="8511840" y="206964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proto-Agile Gemstone/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totype Agile with SCRUM in the Swan/Apoxi projec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epare organization for Agi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TM reached with less than 2 weeks deviation from pla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Create prioritized transition backlog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gr: Dr.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Every 2nd month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launch Feb. 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643280" y="2448000"/>
            <a:ext cx="4272120" cy="299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Broad Introduction of Methodology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tart Gemstone project on Agile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etup transition team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Mentoring by OM starts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Scrum teams and sprint planning of pilots to be established at PSE and BenQ Po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U2“: Rudolph, Fässl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875880"/>
            <a:ext cx="4077000" cy="33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cure TTM of Polaris, Swift, Swan, Kestrel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ork packages as key metric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mmitment drive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pen status communic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Fast reaction on issu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o compromise on qualit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EAMWOR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Establish weekly reporting of commitment and fulfillment (01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Utilize reporting charts as project/PL control methods (02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Enable team spirit and competition from reported results (03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Establish U2 as practice in all relevant projects (04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ork packackage table: PD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allcharts: TPM (Asmussen, Topel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est Trends: PD (Wacker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anager U2: 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10160" y="876240"/>
            <a:ext cx="407664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all chart review: 60min every Wed (all involved PL SW and SW/ST managers)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HE board: JE + SB/WK + TPM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: Jan 06   End: Mar 06; continue from the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0" name=""/>
          <p:cNvSpPr/>
          <p:nvPr/>
        </p:nvSpPr>
        <p:spPr>
          <a:xfrm>
            <a:off x="4643280" y="2460600"/>
            <a:ext cx="4178520" cy="37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meetings regularly h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dditional metrics ad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Wall chart quality improved by additional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eam competition fostered by presenting U2 wall charts and Shopping lists in team floors in WRO and MCH and KL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dditional projects added: Philippe, Hawk &amp; Obsidian, Ony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urther projects to be added ( Ruby, Falc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with prac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Establish comparable ranking between teams of different platforms (Bundesligatabel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 rot="16200000">
            <a:off x="8086680" y="2462040"/>
            <a:ext cx="1620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Proto-Agile Ruby/QCT“: K. Rudolph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Develop and test „Agile with Scrum“ as software development process within BenQ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-2160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duct backlo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-2160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rum team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-2160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print-based release plan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-2160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DD (test-driven development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totype Agile with SCRUM in Ruby and QCT platform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epare organization for Agile process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Kick-off for Ruby (01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tart Ruby project on Agile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Create prioritized transition backlog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rum teams and sprint planning of Ruby pilot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uby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proposal in 07/06 defined for Rub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TM of Ruby reached with less than 2 weeks deviation from pla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ach: S. Bocione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anager full transition:  U. Schmitz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lead Ruby transition: K. Rudolph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ithin regular project reviews in the OPC and every months in PLM excellence report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: Jan 06   End: Dec 06; continue from the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0" y="2286000"/>
            <a:ext cx="4262400" cy="41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rchitecture preparation completed, Requirements structure definition ongo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rst 4 Scrum teams in WRO finished their first sprint with excellent results (high motivation, good achievements, positive experience and first results with TD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urther 17 Scrum teams in WRO and MCH started for next 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crum Master training for WRO and MCH completed, TDD   trainings started and ongo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nish prioritization of requirements structure, complete backlog and Sprint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compose fully the architecture of Ruby, complete further sprint planning and setup of all remaining Scrum t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nish TDD and Agile trainings for all involved teams (SW+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mprove Build process and testing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16200000">
            <a:off x="8307360" y="245376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8246880" y="221112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8511840" y="245376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981080" y="1905120"/>
            <a:ext cx="5029200" cy="259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Status</a:t>
            </a:r>
            <a:br>
              <a:rPr sz="6600"/>
            </a:b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Summary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522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M - Excel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981080" y="1905120"/>
            <a:ext cx="5029200" cy="259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Products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1522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M - Excel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Platform &amp; Portfolio“: Bocionek/Eickholt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stablish BenQ Mobile Portfolio, Roadmap Platform as unifying planning tools for whole organiz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ross-organizational workgroup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QA‘ed documentation with approval and change request process of all stakeholders involve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Derive concise strategies for re-use, make-or buy decisions, partner selection and sales program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Start with CM &amp; PHE in 1H06; then involve PHA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Formal documentation and change mgmt in place: Feb 06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not befor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„</a:t>
            </a: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Re-use factor“ increased by 33%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R&amp;D costs reduced by: tb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oach: Eickholt / Lepol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 Bocionek - Mulholland</a:t>
            </a: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Mgmt report in OPC counc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Quarterly presentation of updated roadmap and portfoli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Alignment with CM, PHE: Eickholt &amp; Lepold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1st portfolio ready for approval: Sydon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Uddated roadmap: Feb. 06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became Mar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Re-use strategy doc: Feb 06 will b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Planning for 2008 portfolio: 3Q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8" name=""/>
          <p:cNvSpPr/>
          <p:nvPr/>
        </p:nvSpPr>
        <p:spPr>
          <a:xfrm>
            <a:off x="380880" y="4648320"/>
            <a:ext cx="8525160" cy="197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08-May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rst „real“ portfolio/roammap and R&amp;D budget alignment discussion on March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eplanning based on prioritized roadmap (by CM) on March 20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roject back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change process esta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netune portfolio along whole new product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working on re-use strategy and improved platform conce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nsider colocation of Mulholland and Bocion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8399160" y="450828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8664480" y="475092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Invent the Futur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6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rengthen IP portfolio of BenQ Mobile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Make invention disclosures part of routine PLM work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imulate fun to invent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gree on invention disclosure targets (Feb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vestigate status and potential measures (Feb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invention initiative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incentive proposal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organizational changes (Apr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90 invention disclosures filed (Jul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180 invention disclosures filed (Dec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 &amp; Dr. Schneider-Hufschmid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, Hartman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4" name=""/>
          <p:cNvSpPr/>
          <p:nvPr/>
        </p:nvSpPr>
        <p:spPr>
          <a:xfrm>
            <a:off x="4610160" y="2962440"/>
            <a:ext cx="4448160" cy="268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ignment with ISR for invention initi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Inventor Training presentation prepared by IS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Organizational change do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Inventor training to be started top down in RD boar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8177040" y="3060720"/>
            <a:ext cx="644760" cy="270000"/>
            <a:chOff x="8177040" y="3060720"/>
            <a:chExt cx="644760" cy="270000"/>
          </a:xfrm>
        </p:grpSpPr>
        <p:sp>
          <p:nvSpPr>
            <p:cNvPr id="476" name=""/>
            <p:cNvSpPr/>
            <p:nvPr/>
          </p:nvSpPr>
          <p:spPr>
            <a:xfrm rot="16200000">
              <a:off x="8364240" y="287316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6200000">
              <a:off x="8426520" y="3116520"/>
              <a:ext cx="15696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Thin Client Phon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Realization of a WLAN VoIP Phone Prototyp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Design like Apple’s iPOD Nano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iority thin packag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kype client must be used.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802.11b/g implementatio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 and 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Feature definitions (Jan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Interdisciplinary team starts (Feb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raft Predevelopment Project Plan (Feb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Final Predevelopment Project Plan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Supplier selection HW and SW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deliverables agreed with supplier (Apr.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Component definition done (e.g. Display, etc.)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PCB and Mechanical Design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totype running (Jul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ocumentation (Aug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 decision (Aug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ject Leader:        V. Ott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10160" y="837720"/>
            <a:ext cx="407664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1" name=""/>
          <p:cNvSpPr/>
          <p:nvPr/>
        </p:nvSpPr>
        <p:spPr>
          <a:xfrm>
            <a:off x="4276800" y="838080"/>
            <a:ext cx="4781520" cy="546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ccount opening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tailed feature definition with CTM star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inal project plan fixed (prototyp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ystem supplier selected (Marvel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sign proposal for prototype and product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kype support for SW realization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roject can only be continued as product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kype requests BenQ presentation (incl. BenQ Mobile company presentation, product story, business c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cision for product development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gree system deliverables with supplier (Apri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Complete component definition (Apri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tart PCB and Mechanical Design (Apri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resentation at  Skype (ASAP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cision for product (ASAP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8177040" y="939600"/>
            <a:ext cx="644760" cy="269640"/>
            <a:chOff x="8177040" y="939600"/>
            <a:chExt cx="644760" cy="269640"/>
          </a:xfrm>
        </p:grpSpPr>
        <p:sp>
          <p:nvSpPr>
            <p:cNvPr id="483" name=""/>
            <p:cNvSpPr/>
            <p:nvPr/>
          </p:nvSpPr>
          <p:spPr>
            <a:xfrm rot="16200000">
              <a:off x="8364600" y="752040"/>
              <a:ext cx="26964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6200000">
              <a:off x="8426520" y="1001520"/>
              <a:ext cx="15696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clean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Establish clear platform concept, includ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n defini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n architectu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n release strateg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n toolkit usage concep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Definitions in place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ub workgroup formed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Kick-off working groups (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e-use of platform 7/07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APOXI cost below Native cos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gr: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Reporting and review every 2nd mont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8" name=""/>
          <p:cNvSpPr/>
          <p:nvPr/>
        </p:nvSpPr>
        <p:spPr>
          <a:xfrm rot="16200000">
            <a:off x="8285040" y="23432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6200000">
            <a:off x="8550000" y="257292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43280" y="2460600"/>
            <a:ext cx="4178520" cy="263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- significant part of the work done during the FIT 4 APOXI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eview of the documentation outlining the results of the FIT 4 APOXI worksho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80880" y="152280"/>
            <a:ext cx="815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„ Fit 4 Apoxi“: Fässler </a:t>
            </a: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(step 1: Analysis Proje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5280" y="765000"/>
            <a:ext cx="4464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Charter for the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Re-define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„platform“ in its totality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dressing people, process and product needs. Derive an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timal supplier co-operation model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sed on a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as R&amp;D productivity tool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, and having in mind a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ximized re-use factor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of all invested efforts (specs, designs, code/features, base product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Future-safety and R&amp;D productivity will come from key informatics principles like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bstraction, componentization, 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nd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ckward-compatible desig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The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rade-offs between „good platform“ and „market pressure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“ will be analyzed for a concrete product, e.g. Diamond, and described in at least two scenari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Potential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hite spots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in the functionality of Apoxi to allow for a first product will be identified (incl. an estimate of the time to comple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A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cision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 possible at the end of the analysis phase what the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irst product on Apoxi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, and when we can deliv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Objectives for the „platform“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architecture (incl. 3rd party compone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lease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quirements &amp; CR proc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project management process (incl. 3rd part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development process (ag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training and education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Measures of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Abstraction layer requirements in place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Agreed upon rationale for APOXI cost lower native cost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White spots in Apoxi known; IFX commitment to close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Apoxi product decisions possible for Q1-Q3 2007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Project plan for next 6 – 12 months ready and agreed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16360" y="990720"/>
            <a:ext cx="4427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sponsi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gram mgr: Georg Fässler / Uli Gei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: Patric Houben - Chief architect : Norbert Haidu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Team members: nomin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Steering board: SB, Sydon, Mucke, Bjö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9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&amp; Review (until end of M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and review every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rchitecture 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66ff33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Group members identified; committed &lt;0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Workshop abstraction layer : 6.03.06 &lt; 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lnSpc>
                <a:spcPct val="80000"/>
              </a:lnSpc>
              <a:spcBef>
                <a:spcPts val="201"/>
              </a:spcBef>
              <a:buClr>
                <a:srgbClr val="00ff00"/>
              </a:buClr>
              <a:buFont typeface="Arial Unicode MS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including all development parties :IFX-Comneon, Aplix, PSE, Tele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Management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Release strategy &lt; 10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Requirement platform managemen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Process rollou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16200000">
            <a:off x="8265960" y="41450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16200000">
            <a:off x="8530920" y="4374720"/>
            <a:ext cx="157320" cy="1569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081760" y="4138560"/>
            <a:ext cx="3767040" cy="22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Summary</a:t>
            </a: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ff33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FIT 4 APOXI workshop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eview of the documentation outlining the results of the FIT 4 APOXI workshop</a:t>
            </a:r>
            <a:r>
              <a:rPr b="0" lang="en-US" sz="2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5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</a:t>
            </a:r>
            <a:r>
              <a:rPr b="1" lang="de-DE" sz="3200" spc="-1" strike="noStrike">
                <a:solidFill>
                  <a:srgbClr val="3a0e66"/>
                </a:solidFill>
                <a:latin typeface="Arial Unicode MS"/>
              </a:rPr>
              <a:t> MD Q-Improvement </a:t>
            </a:r>
            <a:r>
              <a:rPr b="1" lang="de-DE" sz="1800" spc="-1" strike="noStrike">
                <a:solidFill>
                  <a:srgbClr val="3a0e66"/>
                </a:solidFill>
                <a:latin typeface="Arial Unicode MS"/>
              </a:rPr>
              <a:t>( status 26.04.06 )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event defects and high return rat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Detect and correct potential problems as early as possib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Focus on PLM – SCM collabor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Part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Tool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upplier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&lt; 2% 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Thonhaus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Monthly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ject start: Feb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root cause/ levers : March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-      Start implementation : April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3753000"/>
            <a:ext cx="852516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3 sub project teams installed  ( MD performance, Integrator supplier, MD / SQA interfac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disciplinary teams nominated ( MD, SCM and SP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oot cause and levers defined  ( aligned between all partie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lead products : Onyx and Obsi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&amp;D MD restructuring done  ( negative: 5 from 6  Ulm people left after 3 month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face to SCM SQA fixed and agreed between R&amp;D and SCM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: detailed project plan for improved integrator supplier concept  ( May 06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rot="16200000">
            <a:off x="8399160" y="361296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6200000">
            <a:off x="8459640" y="3855600"/>
            <a:ext cx="157320" cy="157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8664480" y="385560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16200000">
            <a:off x="8238960" y="3863880"/>
            <a:ext cx="1620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981080" y="1905120"/>
            <a:ext cx="5029200" cy="259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People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1522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M - Excel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 rot="16200000">
            <a:off x="6381000" y="2381760"/>
            <a:ext cx="18252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6614280" y="2570400"/>
            <a:ext cx="10620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73280" y="1981080"/>
            <a:ext cx="529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3520" y="1066680"/>
          <a:ext cx="8305560" cy="1924200"/>
        </p:xfrm>
        <a:graphic>
          <a:graphicData uri="http://schemas.openxmlformats.org/drawingml/2006/table">
            <a:tbl>
              <a:tblPr/>
              <a:tblGrid>
                <a:gridCol w="1892160"/>
                <a:gridCol w="3593880"/>
                <a:gridCol w="793800"/>
                <a:gridCol w="20257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form Communication in R&amp;D; 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Bocion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Establish regular all hands communication (Ja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Engage in breakfast meetings and other activities (start 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Include PHA R&amp;D in those activities after the PHE/PHA merge (start 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2nd all hands R&amp;D meeting on 31. March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breakfast club in Apr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next all hands R&amp;D meeting (world wide) May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ake off from PLM exc. Ju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33520" y="3124080"/>
          <a:ext cx="8366040" cy="1605240"/>
        </p:xfrm>
        <a:graphic>
          <a:graphicData uri="http://schemas.openxmlformats.org/drawingml/2006/table">
            <a:tbl>
              <a:tblPr/>
              <a:tblGrid>
                <a:gridCol w="1952640"/>
                <a:gridCol w="3601800"/>
                <a:gridCol w="785880"/>
                <a:gridCol w="2025720"/>
              </a:tblGrid>
              <a:tr h="16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High-performing culture &amp; commitment-driven behavior;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Bocion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Dec 06; repeat every y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KPI metrics (Ja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Mgmt Objectives aligned and signed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Balanced Score cards (Feb. 06; moved to Apri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LQA analysis (R&amp;D only: May 06; moved to Marc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b. opinion poll possible in 2Q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Peer Rating in Mgmt (R&amp;D only; Sept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10 Basic Aspects (Oct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7. Feedback rounds, EFA (Nov/Dec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LQA March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valuation discussion in mgmt team mid M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0" name=""/>
          <p:cNvGrpSpPr/>
          <p:nvPr/>
        </p:nvGrpSpPr>
        <p:grpSpPr>
          <a:xfrm>
            <a:off x="6248520" y="4541400"/>
            <a:ext cx="600120" cy="182520"/>
            <a:chOff x="6248520" y="4541400"/>
            <a:chExt cx="600120" cy="182520"/>
          </a:xfrm>
        </p:grpSpPr>
        <p:sp>
          <p:nvSpPr>
            <p:cNvPr id="311" name=""/>
            <p:cNvSpPr/>
            <p:nvPr/>
          </p:nvSpPr>
          <p:spPr>
            <a:xfrm rot="16200000">
              <a:off x="6457320" y="433260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6200000">
              <a:off x="6493680" y="4610880"/>
              <a:ext cx="12600" cy="17640"/>
            </a:xfrm>
            <a:prstGeom prst="ellipse">
              <a:avLst/>
            </a:pr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6504120" y="4602960"/>
              <a:ext cx="9360" cy="13320"/>
            </a:xfrm>
            <a:prstGeom prst="ellipse">
              <a:avLst/>
            </a:pr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6689880" y="4558680"/>
              <a:ext cx="106200" cy="1465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5" name=""/>
          <p:cNvGraphicFramePr/>
          <p:nvPr/>
        </p:nvGraphicFramePr>
        <p:xfrm>
          <a:off x="533520" y="4962600"/>
          <a:ext cx="8366040" cy="1438200"/>
        </p:xfrm>
        <a:graphic>
          <a:graphicData uri="http://schemas.openxmlformats.org/drawingml/2006/table">
            <a:tbl>
              <a:tblPr/>
              <a:tblGrid>
                <a:gridCol w="1952640"/>
                <a:gridCol w="3601800"/>
                <a:gridCol w="785880"/>
                <a:gridCol w="2025720"/>
              </a:tblGrid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al Model-V: Introduce process culture and discipline;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Ass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Sep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Name project lead (Feb. 06) – M. Ass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Project Plan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Education starts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Internal customer satisfaction metrics set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CIP targets set (Apr.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Process adaptations completed (Ju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CMMI baseline available (Sep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ork packages moved due to launch of Processes N’Syn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ole definitions will be handled within Processes N’Syn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6" name=""/>
          <p:cNvGrpSpPr/>
          <p:nvPr/>
        </p:nvGrpSpPr>
        <p:grpSpPr>
          <a:xfrm>
            <a:off x="6257880" y="6141600"/>
            <a:ext cx="600120" cy="182520"/>
            <a:chOff x="6257880" y="6141600"/>
            <a:chExt cx="600120" cy="182520"/>
          </a:xfrm>
        </p:grpSpPr>
        <p:sp>
          <p:nvSpPr>
            <p:cNvPr id="317" name=""/>
            <p:cNvSpPr/>
            <p:nvPr/>
          </p:nvSpPr>
          <p:spPr>
            <a:xfrm rot="16200000">
              <a:off x="6466680" y="593280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6562800" y="6159240"/>
              <a:ext cx="106200" cy="147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94504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838080"/>
          <a:ext cx="8366040" cy="7286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6096960" y="1889280"/>
            <a:ext cx="529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105600" y="2331720"/>
            <a:ext cx="600120" cy="182520"/>
            <a:chOff x="6105600" y="2331720"/>
            <a:chExt cx="600120" cy="182520"/>
          </a:xfrm>
        </p:grpSpPr>
        <p:sp>
          <p:nvSpPr>
            <p:cNvPr id="323" name=""/>
            <p:cNvSpPr/>
            <p:nvPr/>
          </p:nvSpPr>
          <p:spPr>
            <a:xfrm rot="16200000">
              <a:off x="6314400" y="212292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6410520" y="2349360"/>
              <a:ext cx="106200" cy="14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457200" y="1828800"/>
          <a:ext cx="8367840" cy="765000"/>
        </p:xfrm>
        <a:graphic>
          <a:graphicData uri="http://schemas.openxmlformats.org/drawingml/2006/table">
            <a:tbl>
              <a:tblPr/>
              <a:tblGrid>
                <a:gridCol w="1938240"/>
                <a:gridCol w="3567240"/>
                <a:gridCol w="849240"/>
                <a:gridCol w="2013120"/>
              </a:tblGrid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st in Requirement Engineering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arz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May 06   End: Sep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Name project lead (Apr. 06) – J. Sarz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Project Plan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ccept work plan: May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"/>
          <p:cNvSpPr/>
          <p:nvPr/>
        </p:nvSpPr>
        <p:spPr>
          <a:xfrm>
            <a:off x="6096960" y="3013200"/>
            <a:ext cx="529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095880" y="5684400"/>
            <a:ext cx="600120" cy="182520"/>
            <a:chOff x="6095880" y="5684400"/>
            <a:chExt cx="600120" cy="182520"/>
          </a:xfrm>
        </p:grpSpPr>
        <p:sp>
          <p:nvSpPr>
            <p:cNvPr id="328" name=""/>
            <p:cNvSpPr/>
            <p:nvPr/>
          </p:nvSpPr>
          <p:spPr>
            <a:xfrm rot="16200000">
              <a:off x="6304680" y="547560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6200000">
              <a:off x="6537600" y="570204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0" name=""/>
          <p:cNvGraphicFramePr/>
          <p:nvPr/>
        </p:nvGraphicFramePr>
        <p:xfrm>
          <a:off x="473040" y="2824200"/>
          <a:ext cx="8366040" cy="311940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oing Agile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U. Schmitz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, Faessler, Rudol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Dec 06; continue from th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Kick-off for selected projects (01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Broad Introduction of Methodology (02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Start Ruby project on Agile (02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Setup transition team (02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Mentoring by OM starts (03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Create prioritized transition backlog and transition   plan (03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Start Gemstone project on Agile (03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8. Scrum teams and sprint planning of pilots established (05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9. Pilot teams trained for TDD and agile principles (06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0. New R&amp;D process for Agile development released (09/06)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proposal in 07/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1. Start full transition program (09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2. Organization prepared for full agile transition (12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 to implement Scrum based team structure and  requirements handl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 requirements-&gt;use cases-&gt;architecture support for proj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oad training coverage for acceptance testing, agile C, C++, test-driven develo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rove information to teams about agile transition achiev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3520" y="685800"/>
          <a:ext cx="8366040" cy="7286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6173280" y="1828800"/>
            <a:ext cx="529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181560" y="3093840"/>
            <a:ext cx="600120" cy="182520"/>
            <a:chOff x="6181560" y="3093840"/>
            <a:chExt cx="600120" cy="182520"/>
          </a:xfrm>
        </p:grpSpPr>
        <p:sp>
          <p:nvSpPr>
            <p:cNvPr id="335" name=""/>
            <p:cNvSpPr/>
            <p:nvPr/>
          </p:nvSpPr>
          <p:spPr>
            <a:xfrm rot="16200000">
              <a:off x="6390360" y="288504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6200000">
              <a:off x="6623280" y="311148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7" name=""/>
          <p:cNvGraphicFramePr/>
          <p:nvPr/>
        </p:nvGraphicFramePr>
        <p:xfrm>
          <a:off x="533520" y="1600200"/>
          <a:ext cx="8305560" cy="1773360"/>
        </p:xfrm>
        <a:graphic>
          <a:graphicData uri="http://schemas.openxmlformats.org/drawingml/2006/table">
            <a:tbl>
              <a:tblPr/>
              <a:tblGrid>
                <a:gridCol w="1892160"/>
                <a:gridCol w="3601800"/>
                <a:gridCol w="785880"/>
                <a:gridCol w="2025720"/>
              </a:tblGrid>
              <a:tr h="17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est-in-Test: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Wa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Jun 06; continue measur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teams named, tasks are in progres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 First metric setup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 – 1.5 complete metrics set up (e.g. defect injection analysis) (May 06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Roll out “new bugs after S4” metric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Test cases for TDD in scrum team in time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Roll out “changed LOC” metric after C3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Roll out “first pass yield” metric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KPI targets ST based on metrics data (Ju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Ongoing data coll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crum teams with TDD (start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lignment with ST A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eeper alignment with RD SW for CLO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388800" y="2795760"/>
            <a:ext cx="78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181560" y="3779640"/>
            <a:ext cx="600120" cy="182520"/>
            <a:chOff x="6181560" y="3779640"/>
            <a:chExt cx="600120" cy="182520"/>
          </a:xfrm>
        </p:grpSpPr>
        <p:sp>
          <p:nvSpPr>
            <p:cNvPr id="340" name=""/>
            <p:cNvSpPr/>
            <p:nvPr/>
          </p:nvSpPr>
          <p:spPr>
            <a:xfrm rot="16200000">
              <a:off x="6390360" y="357084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6251400" y="3797280"/>
              <a:ext cx="106200" cy="147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2" name=""/>
          <p:cNvGraphicFramePr/>
          <p:nvPr/>
        </p:nvGraphicFramePr>
        <p:xfrm>
          <a:off x="473040" y="3621240"/>
          <a:ext cx="8366040" cy="1941480"/>
        </p:xfrm>
        <a:graphic>
          <a:graphicData uri="http://schemas.openxmlformats.org/drawingml/2006/table">
            <a:tbl>
              <a:tblPr/>
              <a:tblGrid>
                <a:gridCol w="1952280"/>
                <a:gridCol w="3602160"/>
                <a:gridCol w="785880"/>
                <a:gridCol w="2025720"/>
              </a:tblGrid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est-in-SW Tools</a:t>
                      </a:r>
                      <a:br>
                        <a:rPr sz="1200"/>
                      </a:b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Mario Topel</a:t>
                      </a:r>
                      <a:br>
                        <a:rPr sz="1200"/>
                      </a:b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olfgang Hetti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May 06   End: Jun 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Project Plan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Tool / Workflow assessment (Ju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Consolidate all teams for PLM (Jul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Start centralizing support infra-structure (Jul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Increase automation of tool chain (Sep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 re-sta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 plan to be worked out in detail (May 2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est practice sharing /w SIE MED (17./18.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ool / workflow assessment Beijing/Taipei till June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3520" y="685800"/>
          <a:ext cx="8366040" cy="7286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6173280" y="1828800"/>
            <a:ext cx="529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172200" y="2437920"/>
            <a:ext cx="600120" cy="182520"/>
            <a:chOff x="6172200" y="2437920"/>
            <a:chExt cx="600120" cy="182520"/>
          </a:xfrm>
        </p:grpSpPr>
        <p:sp>
          <p:nvSpPr>
            <p:cNvPr id="347" name=""/>
            <p:cNvSpPr/>
            <p:nvPr/>
          </p:nvSpPr>
          <p:spPr>
            <a:xfrm rot="16200000">
              <a:off x="6381000" y="222912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6613920" y="245556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88800" y="2795760"/>
            <a:ext cx="78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49360" y="1600200"/>
          <a:ext cx="8366040" cy="110016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latform &amp; Portfolio;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SB + 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Jun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Define alignment &amp; change mgmt process (Feb 06), 2. clarify platform responsibilities/activities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b. portfolio – budget alignment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define re-use strategy (Mar 06) is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PH wide portfolio and plan (June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ortfolio / Roadmap vs R&amp;D budget alignment underway in March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cess well establish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H wide plan next (June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6249240" y="3092400"/>
            <a:ext cx="529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181560" y="3733560"/>
            <a:ext cx="600120" cy="182520"/>
            <a:chOff x="6181560" y="3733560"/>
            <a:chExt cx="600120" cy="182520"/>
          </a:xfrm>
        </p:grpSpPr>
        <p:sp>
          <p:nvSpPr>
            <p:cNvPr id="353" name=""/>
            <p:cNvSpPr/>
            <p:nvPr/>
          </p:nvSpPr>
          <p:spPr>
            <a:xfrm rot="16200000">
              <a:off x="6390360" y="352476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6200000">
              <a:off x="6623280" y="375120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55" name=""/>
          <p:cNvGraphicFramePr/>
          <p:nvPr/>
        </p:nvGraphicFramePr>
        <p:xfrm>
          <a:off x="549360" y="2895480"/>
          <a:ext cx="8366040" cy="1436760"/>
        </p:xfrm>
        <a:graphic>
          <a:graphicData uri="http://schemas.openxmlformats.org/drawingml/2006/table">
            <a:tbl>
              <a:tblPr/>
              <a:tblGrid>
                <a:gridCol w="1952640"/>
                <a:gridCol w="3601800"/>
                <a:gridCol w="785880"/>
                <a:gridCol w="2025720"/>
              </a:tblGrid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Invent the future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Bauregger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, Hartman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Jun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Agree on invention disclosure targets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Investigate status and potential measures (Feb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Start invention initiative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Implement incentive proposal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Implement organizational changes (Ap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90 invention disclosures filed (Jul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180 invention disclosures filed (Dec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lignment with ISR for invention initiativ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xecute organizational chang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6249240" y="4632480"/>
            <a:ext cx="529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181560" y="5074920"/>
            <a:ext cx="600120" cy="182520"/>
            <a:chOff x="6181560" y="5074920"/>
            <a:chExt cx="600120" cy="182520"/>
          </a:xfrm>
        </p:grpSpPr>
        <p:sp>
          <p:nvSpPr>
            <p:cNvPr id="358" name=""/>
            <p:cNvSpPr/>
            <p:nvPr/>
          </p:nvSpPr>
          <p:spPr>
            <a:xfrm rot="16200000">
              <a:off x="6390360" y="486612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6623280" y="509256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0" name=""/>
          <p:cNvGraphicFramePr/>
          <p:nvPr/>
        </p:nvGraphicFramePr>
        <p:xfrm>
          <a:off x="549360" y="4495680"/>
          <a:ext cx="8366040" cy="160668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16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leanApoxi platform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Faess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Dec 06 (perhaps earli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Align all parties incl. IFX, Teleca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Analysis workshop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Diamond decision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Publish formal platform concept, incl. techn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pecification and usage model (Ap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Start skills enhancement program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Close gaps in Apoxi (tb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8. First Apoxi product (tbd; hopefully Apr 0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orkshop (start 05-Mar-06), Diamond decision (latest EO Marc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685800"/>
          <a:ext cx="8366040" cy="7286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388800" y="2795760"/>
            <a:ext cx="78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51040" y="1676520"/>
            <a:ext cx="5295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105600" y="2711160"/>
            <a:ext cx="600120" cy="182520"/>
            <a:chOff x="6105600" y="2711160"/>
            <a:chExt cx="600120" cy="182520"/>
          </a:xfrm>
        </p:grpSpPr>
        <p:sp>
          <p:nvSpPr>
            <p:cNvPr id="366" name=""/>
            <p:cNvSpPr/>
            <p:nvPr/>
          </p:nvSpPr>
          <p:spPr>
            <a:xfrm rot="16200000">
              <a:off x="6314400" y="250236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6200000">
              <a:off x="6547320" y="272880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8" name=""/>
          <p:cNvGraphicFramePr/>
          <p:nvPr/>
        </p:nvGraphicFramePr>
        <p:xfrm>
          <a:off x="473040" y="1523880"/>
          <a:ext cx="8366040" cy="1436760"/>
        </p:xfrm>
        <a:graphic>
          <a:graphicData uri="http://schemas.openxmlformats.org/drawingml/2006/table">
            <a:tbl>
              <a:tblPr/>
              <a:tblGrid>
                <a:gridCol w="1952280"/>
                <a:gridCol w="3602160"/>
                <a:gridCol w="785880"/>
                <a:gridCol w="2025720"/>
              </a:tblGrid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U2 projects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Faessler, Rudol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Mar 06; continue from th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Establish weekly reporting of commitment and fulfillment (01/2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Utilize reporting charts as project/PL control methods (02/2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Enable team spirit and competition from reported results (03/2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Establish U2 as practice in all projects (04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 projects to be added ( Ruby, Falc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 with pract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blish comparable ranking between teams of different platforms (Bundesligatabel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6173280" y="3305160"/>
            <a:ext cx="529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105600" y="3931920"/>
            <a:ext cx="600120" cy="182520"/>
            <a:chOff x="6105600" y="3931920"/>
            <a:chExt cx="600120" cy="182520"/>
          </a:xfrm>
        </p:grpSpPr>
        <p:sp>
          <p:nvSpPr>
            <p:cNvPr id="371" name=""/>
            <p:cNvSpPr/>
            <p:nvPr/>
          </p:nvSpPr>
          <p:spPr>
            <a:xfrm rot="16200000">
              <a:off x="6314400" y="372312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6200000">
              <a:off x="6547320" y="394956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73" name=""/>
          <p:cNvGraphicFramePr/>
          <p:nvPr/>
        </p:nvGraphicFramePr>
        <p:xfrm>
          <a:off x="473040" y="3182760"/>
          <a:ext cx="8366040" cy="9320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880"/>
                <a:gridCol w="2025360"/>
              </a:tblGrid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Quality Up of  MD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Thonha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Jun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PLM MD excellence program and KPI‘s (Jan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Interdisciplinary Project teams instal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MD SQA interface fixed and agr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Visible results (Jul 06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rack monthly KPI‘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"/>
          <p:cNvSpPr/>
          <p:nvPr/>
        </p:nvSpPr>
        <p:spPr>
          <a:xfrm>
            <a:off x="6249240" y="4371840"/>
            <a:ext cx="529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105600" y="5105160"/>
            <a:ext cx="600120" cy="182520"/>
            <a:chOff x="6105600" y="5105160"/>
            <a:chExt cx="600120" cy="182520"/>
          </a:xfrm>
        </p:grpSpPr>
        <p:sp>
          <p:nvSpPr>
            <p:cNvPr id="376" name=""/>
            <p:cNvSpPr/>
            <p:nvPr/>
          </p:nvSpPr>
          <p:spPr>
            <a:xfrm rot="16200000">
              <a:off x="6314400" y="489636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200000">
              <a:off x="6547320" y="512280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78" name=""/>
          <p:cNvGraphicFramePr/>
          <p:nvPr/>
        </p:nvGraphicFramePr>
        <p:xfrm>
          <a:off x="473040" y="4199040"/>
          <a:ext cx="8366040" cy="2278080"/>
        </p:xfrm>
        <a:graphic>
          <a:graphicData uri="http://schemas.openxmlformats.org/drawingml/2006/table">
            <a:tbl>
              <a:tblPr/>
              <a:tblGrid>
                <a:gridCol w="1952280"/>
                <a:gridCol w="3602160"/>
                <a:gridCol w="785880"/>
                <a:gridCol w="2025720"/>
              </a:tblGrid>
              <a:tr h="22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in client phone; </a:t>
                      </a:r>
                      <a:r>
                        <a:rPr b="1" lang="de-DE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Baureg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Aug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Start Feature definitions (Ja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Interdisciplinary team starts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Draft Predevelopment Project Plan (Feb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Final Predevelopment Project Plan (Ma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System Supplier selection HW and SW (Ma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System deliverables agreed with supplier (Apr.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Component definition done (e.g. Display, etc.) (Ap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Start PCB and Mechanical Design (Ap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 Prototype running (Jul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 Documentation (Aug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 Product decision (Aug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estigation of potential platform suppliers (HW/SW) ongoin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ailed feature alignment with CT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 Stack up concep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 final project plan (March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t system supplier (March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Quo Vadis PHE PD ?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890280"/>
            <a:ext cx="4077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mmunication Campaign in P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crease confidence in mgm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crease knowledge &amp; skil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Facilitate cross-dept interac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crease enjoymen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mployee opinion survey after 6 months (and annually after tha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itial target: „66% </a:t>
            </a: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ositive</a:t>
            </a: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gram Manager: 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ntributions: mgmt team, 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10160" y="890280"/>
            <a:ext cx="4076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Bi-monthly all hands R&amp;D meeting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mployee opinion survey in summer 20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kick-off workshop: mi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1st all hands R&amp;D meeting: 27. Jan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Breakfast Club 5-Apr-06 (topic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 Orientation and Process Discipline: Harmony or Contradiction?)</a:t>
            </a:r>
            <a:r>
              <a:rPr b="1" i="1" lang="en-US" sz="1400" spc="-1" strike="noStrike">
                <a:solidFill>
                  <a:srgbClr val="ff33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 Unicode MS"/>
              </a:rPr>
              <a:t>Concept established; Quo Vadis R&amp;D will be ongoing activity; can be taken off the PLM-excellence program after May 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2" name=""/>
          <p:cNvSpPr/>
          <p:nvPr/>
        </p:nvSpPr>
        <p:spPr>
          <a:xfrm>
            <a:off x="380880" y="4397400"/>
            <a:ext cx="8525160" cy="213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08-May-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ncept „Quo Vadis R&amp;D“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cepted by mgmt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ccessful 1st all hands meeting on 31.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ccessful breakfast club on 5.Apr. In M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‘l subsequent all hands meetings in KLF, BEJ, HSI, TAI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All hands R&amp;D meeting in May 06 (world-wide, new RD organiz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8399520" y="472716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8664480" y="497016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Christa Drescher</cp:lastModifiedBy>
  <dcterms:modified xsi:type="dcterms:W3CDTF">2006-05-11T09:51:45Z</dcterms:modified>
  <cp:revision>157</cp:revision>
  <dc:subject/>
  <dc:title>PowerPoint 簡報</dc:title>
</cp:coreProperties>
</file>