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DE11-D6B7-4464-B8BB-F20BC1B72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0E2D-FD2C-43BE-9943-35110BB25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F7EC-7B0E-4A97-8C68-D2D7C7F77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BDE9-44E8-4EEF-8957-94012E13D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0336-4F68-4BA1-85B2-17A786961D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0459-6B0B-490B-907A-06ABD02FD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6853-67E0-46E3-AAE8-E35CCD7AF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37C4-2089-494C-A28E-BB4CF84CF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6241-6C47-4B58-8B1C-95D29FB7D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B30F-C9C0-4BE2-94D2-5E76A551E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FC0B-00BD-4D26-A481-C4F6C1C9A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771D-E064-4ECF-9BF7-CD60C4BBB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627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84BC-3485-46BF-AA7F-441EC34D83B2}" type="slidenum"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6381720"/>
            <a:ext cx="31687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10.05.2006)  RD B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360" y="2637000"/>
            <a:ext cx="787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RD KPI - April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4440" y="3933720"/>
            <a:ext cx="7010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aus Wingens</a:t>
            </a:r>
            <a:br>
              <a:rPr sz="2400"/>
            </a:b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MG PH RD BA</a:t>
            </a:r>
            <a:br>
              <a:rPr sz="2400"/>
            </a:b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10.05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FB4E-2B34-49ED-B1AB-C3E78AE340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440" y="115560"/>
            <a:ext cx="87631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ommitment defined as PHE RD KPIs: Targets 2006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(signed 6.2.20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933480"/>
            <a:ext cx="180000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1120" y="1308240"/>
            <a:ext cx="1081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6880" y="933480"/>
            <a:ext cx="68421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76560" y="936720"/>
            <a:ext cx="2539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95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costs (incl VAS, w/o Restru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st  produ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f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DTC (def. at M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NCC  (cost after M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Infrastructure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buClr>
                <a:srgbClr val="3a0e66"/>
              </a:buClr>
              <a:buFont typeface="Minion"/>
              <a:buChar char="•"/>
              <a:tabLst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TM cost overrun reduction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2098800"/>
            <a:ext cx="1800000" cy="12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520" y="3500280"/>
            <a:ext cx="1800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653000"/>
            <a:ext cx="1800000" cy="81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5479920"/>
            <a:ext cx="180000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2000" y="2492280"/>
            <a:ext cx="96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7880" y="3805200"/>
            <a:ext cx="13525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eople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15080"/>
            <a:ext cx="1192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0560" y="5829480"/>
            <a:ext cx="49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4667400"/>
            <a:ext cx="6842160" cy="80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81240" y="4843440"/>
            <a:ext cx="2606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ternal satisfaction / result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xternal satisfaction 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8320" y="3500280"/>
            <a:ext cx="684216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65400" y="3546360"/>
            <a:ext cx="2622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ternal / external 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igh – low cost country 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ead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ork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vention disclo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2103480"/>
            <a:ext cx="6842160" cy="127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400" y="2076480"/>
            <a:ext cx="2622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ilestones 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fect Rate in Sy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fect fix cycl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 Volatility (starts April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 TTM (M1 – 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maturity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222200"/>
            <a:ext cx="432000" cy="43200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421000"/>
            <a:ext cx="432000" cy="4316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67040"/>
            <a:ext cx="432000" cy="43200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876920"/>
            <a:ext cx="432000" cy="4316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8080" y="5740560"/>
            <a:ext cx="431640" cy="4316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520" y="12222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000" y="2435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440" y="3780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5360" y="4876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7546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4668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5160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7724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92376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62064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96080" y="62064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 12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69240" y="620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arget 12/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77080" y="620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arget 12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4208400"/>
            <a:ext cx="10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070000"/>
            <a:ext cx="10810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MMI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48560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Rating 1 .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50734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ng 1 .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6527880"/>
            <a:ext cx="61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</a:rPr>
              <a:t>DTC = Design to Cost     TTM = Time to Market   </a:t>
            </a: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FPY = First pass yield  NCC = Non Conformance Costs </a:t>
            </a:r>
            <a:r>
              <a:rPr b="1" lang="de-DE" sz="800" spc="-1" strike="noStrike">
                <a:solidFill>
                  <a:srgbClr val="3a0e66"/>
                </a:solidFill>
                <a:latin typeface="Minion"/>
              </a:rPr>
              <a:t>OTD = On Time Deli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6760" y="3514680"/>
            <a:ext cx="920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t/temp+c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ng 1 .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goal 0.25/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60960" y="2070000"/>
            <a:ext cx="890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0 days / 4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ext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ase 07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48440" y="2076480"/>
            <a:ext cx="890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gt; 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2.5/cK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1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ase 7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35920" y="2092320"/>
            <a:ext cx="890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gt; 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2/cK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5% / 2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60960" y="4886280"/>
            <a:ext cx="816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4873680"/>
            <a:ext cx="81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40720" y="4861080"/>
            <a:ext cx="815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83120" y="942840"/>
            <a:ext cx="957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udget in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arget in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u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/ perc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/ perc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absol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/ percent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99040" y="939960"/>
            <a:ext cx="95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49‘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245‘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2‘1 / 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4‘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1‘4</a:t>
            </a:r>
            <a:br>
              <a:rPr sz="1000"/>
            </a:b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23‘ / 18%/0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5320" y="936720"/>
            <a:ext cx="95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50‘ (FC345‘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43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26‘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5‘3/4%/-6‘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3‘5/-1‘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8‘2/-3‘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8‘/14%/-5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31240" y="933480"/>
            <a:ext cx="957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00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76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26‘8 - 20‘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0/0%/-12‘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‘6/-0‘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6‘4/-1‘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3‘/10%/-10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4840" y="3511440"/>
            <a:ext cx="920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3% / 5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3% /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05/626+4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0/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61040" y="3508200"/>
            <a:ext cx="9208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2% / 3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2% / 3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52 / 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39160" y="3505320"/>
            <a:ext cx="920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0% /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0% /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400 / 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5516640"/>
            <a:ext cx="6842160" cy="80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uccessful in 3 projects:    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uby, Jerry, Gemstone start Q1/06; Jerry del. Sept.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ganization prepared for full Agile: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ganization prepared for 80% Agile in Dec.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Strategy with CM  +  TPM: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greed in Q1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Process with CM  + TPM: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greed in Q1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EF62-B41B-4D93-B079-9F0A9F6C7BFF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1592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Europe RD KPI‘s: Financial Targets 2006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35640" y="12682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8120" y="2108160"/>
            <a:ext cx="1055520" cy="432000"/>
          </a:xfrm>
          <a:prstGeom prst="wedgeRoundRectCallout">
            <a:avLst>
              <a:gd name="adj1" fmla="val -16768"/>
              <a:gd name="adj2" fmla="val 69851"/>
              <a:gd name="adj3" fmla="val 16667"/>
            </a:avLst>
          </a:prstGeom>
          <a:solidFill>
            <a:srgbClr val="cc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文鼎中黑"/>
              </a:rPr>
              <a:t>Missing C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文鼎中黑"/>
              </a:rPr>
              <a:t>(IT Cost  Ger. 3‘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4392720" cy="2810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35636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68840" y="620640"/>
            <a:ext cx="4297320" cy="280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79280" y="620640"/>
            <a:ext cx="439272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225D-D1C1-401D-BCB8-CC276ED28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7316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Europe KPI‘s: Financial Targets 2006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094440"/>
            <a:ext cx="38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文鼎中黑"/>
              </a:rPr>
              <a:t>Jan: Condor, Comorant  Istkoste&lt;Plan 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464000" cy="2879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633920" y="620640"/>
            <a:ext cx="4330800" cy="287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446400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643280" y="3573360"/>
            <a:ext cx="432144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EE2B-6A9A-48E3-8CFA-E493243AAA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7316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Europe KPI‘s: Target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094440"/>
            <a:ext cx="38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文鼎中黑"/>
              </a:rPr>
              <a:t>Jan: Condor, Comorant  Istkoste&lt;Plan 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4653000"/>
            <a:ext cx="38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ext update based on ISR reporting figures per May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836640"/>
          <a:ext cx="5400360" cy="330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836640"/>
                    <a:ext cx="5400360" cy="33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BD11-B49B-4CE9-BF22-8F0461B919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7316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 Asia KPI‘s: Target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6094440"/>
            <a:ext cx="38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文鼎中黑"/>
              </a:rPr>
              <a:t>Jan: Condor, Comorant  Istkoste&lt;Plan 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981000"/>
          <a:ext cx="3529080" cy="23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981000"/>
                    <a:ext cx="35290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rot="20647800">
            <a:off x="900000" y="1483920"/>
            <a:ext cx="244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sia  to be provided nex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155736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sia KPI’s to be provided next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A935-BB28-463D-8EA3-DAB62440C0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360" y="11592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Europe Capacity and Hourly Rate (YT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0600" y="620640"/>
            <a:ext cx="4110120" cy="2737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1054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4319280" cy="2893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500720" y="631800"/>
            <a:ext cx="4319280" cy="27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49F9-72A6-4BD2-B0F5-DA4419922D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 Definitions (acc. to signed BTA 6.2.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Definition: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TC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viation of target cost per class to cost (M3) agreed at M1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all products having a M1 in 2006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cost M 3 per class (target lifecycle cost – 5%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lass                             1            2            3         4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st/product             2’9        6’2        16’8      38’           (in mill. €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CC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st after M3 for all products having a M3 in 2006. Target -25%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TM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viation of actual cost at M3 to cost (M3) agreed at M1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all products having a M3 in 20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0E47-9597-4D1B-83DA-256C9735D1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Klaus Wingens</cp:lastModifiedBy>
  <dcterms:modified xsi:type="dcterms:W3CDTF">2006-05-17T11:11:40Z</dcterms:modified>
  <cp:revision>390</cp:revision>
  <dc:subject/>
  <dc:title>PowerPoint 簡報</dc:title>
</cp:coreProperties>
</file>