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E467-73F7-496C-B834-CD3FD5F59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FF7C-C1C8-4E9C-9D95-E25895E75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69BD-BB56-4F06-8BCC-0CA7DE811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7574-24F5-4854-88E7-0526B2C96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8E2F-B304-414F-BF3F-FE578F00F7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0A0A-7CEC-4A3C-B3E8-BA0DD49069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A804-6ABF-48B9-A8FD-44F842713F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6976-E0F5-4496-8F1E-E52781BBA7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9DE8-C26F-49D4-AEAF-B728B96B34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C6C4-B071-4DBD-B0B3-FE3AFD9F8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FE97-D6B2-41FA-9464-A88864268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71B5-75F4-438C-8E12-797A08412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FA26-47F6-4120-9BA6-666E10F088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9FF7-93C9-4B82-ADC2-B8E7B38844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F3B6-A7E0-49EC-9D72-D6C717E254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6D18-DB98-4308-BC12-05F5FAA03A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F598-1C56-4027-9DE6-E908D1B8B8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E27-7FEA-4F5C-8B11-B31E017F8B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44C-8081-40D5-9EEE-590F630539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D7A-F2B3-4405-BD6E-08475B70E9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A91-A0CD-4D4E-B9CB-855C016E00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B82-231F-4C3E-883E-EFB597238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7D4F-382C-4D3F-A1B4-E523BF13DF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E8F-527B-462E-9B63-E78AE9136C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180-347C-44A2-BB1C-E63D047E8C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794-9938-42AF-B83D-0E68590839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B28-B06F-4CCA-9BF2-E6F9FA7387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364-EF51-4930-A7C9-450B0EC912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BA7-4031-4108-9090-7114406B84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B52-2B58-4EE7-A3BE-76182EF722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B2737-DA8A-44F5-B7CC-11006E1EAB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ADF3-04D4-4C56-949A-E8799E8E94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07A32-B6CE-45B1-89BD-46698D0B0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F8F4-534E-4C28-8A20-7F660EDD6F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4C42-4233-4854-A18A-E4952D66FC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D6D8-E387-43B3-A319-659626C4B1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3CF4A-BF8C-44F7-8E27-1E63C13702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24FA-E0F1-432A-B121-A52D47BD7C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F694A-D245-417F-834F-4B50ACD947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7C2BF-9AD0-4750-BBF3-58D617AC69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DDBF8-3707-42BE-ABC3-C118467187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B2F5-DAD6-49AC-B2AE-8F33DD6DB4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31D8D-03AA-48ED-93EA-649354C8A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69EF-1542-4184-9AF2-E8D863071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296B-1712-4FED-A310-DA614F80E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D74F-9228-461A-9466-F7E0D30B3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81E6-77C4-44FA-978A-059E6E7F7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3184-02B3-41FE-9FCA-3DBE2E2DA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EBCC-D707-4754-8941-16208D52EE18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.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0FA4-2242-4CBF-B890-7004D517F468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50000" y="5589720"/>
            <a:ext cx="1601640" cy="792000"/>
            <a:chOff x="5850000" y="5589720"/>
            <a:chExt cx="1601640" cy="792000"/>
          </a:xfrm>
        </p:grpSpPr>
        <p:sp>
          <p:nvSpPr>
            <p:cNvPr id="50" name=""/>
            <p:cNvSpPr/>
            <p:nvPr/>
          </p:nvSpPr>
          <p:spPr>
            <a:xfrm>
              <a:off x="5850000" y="5589720"/>
              <a:ext cx="288720" cy="216000"/>
            </a:xfrm>
            <a:prstGeom prst="rect">
              <a:avLst/>
            </a:prstGeom>
            <a:solidFill>
              <a:srgbClr val="d1c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34760" y="5589720"/>
              <a:ext cx="114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&amp;D Board M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50000" y="5878800"/>
              <a:ext cx="288720" cy="215640"/>
            </a:xfrm>
            <a:prstGeom prst="rect">
              <a:avLst/>
            </a:prstGeom>
            <a:solidFill>
              <a:srgbClr val="e9e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92720" y="588024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par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0000" y="6166080"/>
              <a:ext cx="288720" cy="215640"/>
            </a:xfrm>
            <a:prstGeom prst="rect">
              <a:avLst/>
            </a:prstGeom>
            <a:solidFill>
              <a:srgbClr val="e5f5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10360" y="616608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ork To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8A9-015A-4E4B-97CD-E5ABE78A63C6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2May06, V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EC6E-F1DC-4791-BC33-BEFAFBC15987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223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HE Research &amp; Developm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4573440"/>
            <a:ext cx="5601960" cy="27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, YC Lee, K. Win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Product House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Organizational Overview V.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May, 2nd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7E8B-CFF2-4C70-9C12-443E93CDD6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esearch &amp; Development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2. May 2006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esearc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     Dr. YC Lee (deputy)      K. Wingens (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PC Special Projec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hange Mg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R. Schol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191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dustri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 Thonha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WT Liu (liaison A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Taipe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sinchu, Suzh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YC L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M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Mun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394080"/>
            <a:ext cx="10810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Suzhou (Ch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W S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Kamp-Lintf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G. Fäss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44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5600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2764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604360" y="2276280"/>
            <a:ext cx="1440" cy="31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27664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Riesme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1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P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,Tools,Met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. Top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. Lefe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ndy T Hu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Bej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D. Didascal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38836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64000" y="2276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00220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4328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19640" y="227664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40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K. W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03280" y="458136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s. Oper.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339408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Manaus (BR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. Mariano L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504972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Aalborg (D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F. Erik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4221000"/>
            <a:ext cx="1079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Hsin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(Taiw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&amp; YJ 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38836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51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7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79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98108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763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6544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422100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Wroclaw (P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O. Di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8836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50497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man Ji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2997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503-8845-44F0-87BB-947381619BAB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873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&amp;D Center Kamp-Lintfort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4. May 2006                               DRAFT            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Kamp-Lint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Georg Fä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Günter Sei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180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nfred Diet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M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egration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lf We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iddleware &amp;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Luxenbu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227664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ject L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lrich Gei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27664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bert Haid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519444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eif Sil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70640" y="51595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rkhard Düm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6" idx="2"/>
            <a:endCxn id="231" idx="3"/>
          </p:cNvCxnSpPr>
          <p:nvPr/>
        </p:nvCxnSpPr>
        <p:spPr>
          <a:xfrm rot="5400000">
            <a:off x="3680640" y="2014560"/>
            <a:ext cx="738720" cy="54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6" idx="2"/>
            <a:endCxn id="232" idx="1"/>
          </p:cNvCxnSpPr>
          <p:nvPr/>
        </p:nvCxnSpPr>
        <p:spPr>
          <a:xfrm flipH="1" rot="16200000">
            <a:off x="4220280" y="2016000"/>
            <a:ext cx="73872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7" idx="0"/>
            <a:endCxn id="230" idx="0"/>
          </p:cNvCxnSpPr>
          <p:nvPr/>
        </p:nvCxnSpPr>
        <p:spPr>
          <a:xfrm flipH="1" rot="16200000">
            <a:off x="586908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2"/>
            <a:endCxn id="229" idx="0"/>
          </p:cNvCxnSpPr>
          <p:nvPr/>
        </p:nvCxnSpPr>
        <p:spPr>
          <a:xfrm rot="5400000">
            <a:off x="3022920" y="2599560"/>
            <a:ext cx="1981800" cy="614880"/>
          </a:xfrm>
          <a:prstGeom prst="bentConnector3">
            <a:avLst>
              <a:gd name="adj1" fmla="val 762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0" idx="0"/>
            <a:endCxn id="228" idx="0"/>
          </p:cNvCxnSpPr>
          <p:nvPr/>
        </p:nvCxnSpPr>
        <p:spPr>
          <a:xfrm flipH="1" rot="16200000">
            <a:off x="730872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3" idx="0"/>
            <a:endCxn id="234" idx="0"/>
          </p:cNvCxnSpPr>
          <p:nvPr/>
        </p:nvCxnSpPr>
        <p:spPr>
          <a:xfrm flipH="1" flipV="1" rot="5400000">
            <a:off x="6565320" y="3741480"/>
            <a:ext cx="35640" cy="2870640"/>
          </a:xfrm>
          <a:prstGeom prst="bentConnector3">
            <a:avLst>
              <a:gd name="adj1" fmla="val 754081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1" name=""/>
          <p:cNvSpPr/>
          <p:nvPr/>
        </p:nvSpPr>
        <p:spPr>
          <a:xfrm>
            <a:off x="17928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B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Alb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dio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homas Herman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endCxn id="227" idx="0"/>
          </p:cNvCxnSpPr>
          <p:nvPr/>
        </p:nvCxnSpPr>
        <p:spPr>
          <a:xfrm flipH="1" rot="16200000">
            <a:off x="3707280" y="2453760"/>
            <a:ext cx="2520" cy="2883600"/>
          </a:xfrm>
          <a:prstGeom prst="bentConnector3">
            <a:avLst>
              <a:gd name="adj1" fmla="val -29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 flipH="1" rot="16200000">
            <a:off x="7596720" y="3500640"/>
            <a:ext cx="1369080" cy="122472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5" name=""/>
          <p:cNvCxnSpPr/>
          <p:nvPr/>
        </p:nvCxnSpPr>
        <p:spPr>
          <a:xfrm>
            <a:off x="7689960" y="49287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" name=""/>
          <p:cNvCxnSpPr>
            <a:stCxn id="241" idx="0"/>
            <a:endCxn id="242" idx="0"/>
          </p:cNvCxnSpPr>
          <p:nvPr/>
        </p:nvCxnSpPr>
        <p:spPr>
          <a:xfrm flipH="1" rot="16200000">
            <a:off x="154620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878-8294-4FA4-9129-A0FC530F620F}" type="slidenum">
              <a:t>3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6622-3337-45C6-9BAF-9FB17E013AF9}" type="slidenum">
              <a:t>4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faessler</cp:lastModifiedBy>
  <dcterms:modified xsi:type="dcterms:W3CDTF">2006-05-17T09:14:13Z</dcterms:modified>
  <cp:revision>328</cp:revision>
  <dc:subject/>
  <dc:title>PHE R&amp;D Organization Ch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