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23D2-914A-4AA3-834F-FA5E91EA6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23640" y="1519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68B2-2D6B-43C1-8B74-8DB62A459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3640" y="1519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32DA-DD1C-4766-9A52-C0774001A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23640" y="1519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27C4-043F-465F-BE3C-CD346C987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3640" y="1519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59C4-6919-4C4A-ADBE-1F5F6B03F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3640" y="1519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3D42-393C-4684-9392-211259728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3640" y="1519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7057-7267-4174-925A-B8CD6AB41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3640" y="1519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B710-9509-42CA-8C96-8BB10D234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23640" y="151920"/>
            <a:ext cx="70102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57D8-D3FF-4C5D-882C-AE4C9EA57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3640" y="1519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4ED6-0B5E-4CF6-B693-B83809F2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23640" y="1519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95B7-85C4-4610-B35E-B6AA539D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23640" y="1519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2689-43D3-4077-AA6F-CF61E5BEE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23640" y="1519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E8C91-1F37-4305-BF4E-E8BC8E7D7A6B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6, BenQ mobi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QM PSO, 20 March 2006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24000" y="1004760"/>
            <a:ext cx="4535280" cy="58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Roadmap Definition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roduct Definition and Industrial Design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Make Market/Customer Relationship Management/Sale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W-Development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ff0000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ff0000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ff0000"/>
                </a:solidFill>
                <a:latin typeface="Minion"/>
                <a:ea typeface="文鼎中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5.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HW Development (incl. RF &amp; Antenna)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6.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Mechanical Design 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7.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ystem Test 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8.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roject Management, incl. CPM, TPM, BO, VM, GP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9.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CM (material availability, production technology)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10.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Customer Care, Quality Management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11.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rocurement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404640"/>
            <a:ext cx="66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Process Alignment &amp; Optimization: Staffing of Expert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0" y="789120"/>
            <a:ext cx="2448000" cy="60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Europe</a:t>
            </a:r>
            <a:r>
              <a:rPr b="1" lang="en-US" sz="16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	</a:t>
            </a:r>
            <a:r>
              <a:rPr b="1" lang="en-US" sz="16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	</a:t>
            </a:r>
            <a:r>
              <a:rPr b="1" lang="en-US" sz="16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(K. Ratsimbazafy, R. Mayr, </a:t>
            </a:r>
            <a:br>
              <a:rPr sz="1200"/>
            </a:b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M. Mildenberger, </a:t>
            </a:r>
            <a:r>
              <a:rPr b="1" lang="en-US" sz="1200" spc="-1" strike="noStrike">
                <a:solidFill>
                  <a:srgbClr val="ff3300"/>
                </a:solidFill>
                <a:latin typeface="Minion"/>
                <a:ea typeface="文鼎中黑"/>
              </a:rPr>
              <a:t>H. Höckenreiner?,</a:t>
            </a:r>
            <a:br>
              <a:rPr sz="1200"/>
            </a:br>
            <a:r>
              <a:rPr b="1" lang="en-US" sz="1200" spc="-1" strike="noStrike">
                <a:solidFill>
                  <a:srgbClr val="ff3300"/>
                </a:solidFill>
                <a:latin typeface="Minion"/>
                <a:ea typeface="文鼎中黑"/>
              </a:rPr>
              <a:t>PH representative?</a:t>
            </a:r>
            <a:r>
              <a:rPr b="1" sz="1200" spc="-1" strike="noStrike">
                <a:solidFill>
                  <a:srgbClr val="ff3300"/>
                </a:solidFill>
                <a:latin typeface="Minion"/>
                <a:ea typeface="文鼎中黑"/>
              </a:rPr>
              <a:t>,</a:t>
            </a: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</a:t>
            </a: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M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 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(M. Mildenberger, </a:t>
            </a:r>
            <a:br>
              <a:rPr sz="1200"/>
            </a:b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. Haas, R. Voig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(??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Minion"/>
                <a:ea typeface="文鼎中黑"/>
              </a:rPr>
              <a:t>(M. Weigang?, T. Hagemann?, </a:t>
            </a:r>
            <a:br>
              <a:rPr sz="1200"/>
            </a:br>
            <a:r>
              <a:rPr b="1" lang="en-US" sz="1200" spc="-1" strike="noStrike">
                <a:solidFill>
                  <a:srgbClr val="ff3300"/>
                </a:solidFill>
                <a:latin typeface="Minion"/>
                <a:ea typeface="文鼎中黑"/>
              </a:rPr>
              <a:t>M. Topel?)</a:t>
            </a:r>
            <a:br>
              <a:rPr sz="1200"/>
            </a:br>
            <a:r>
              <a:rPr b="1" lang="en-US" sz="1200" spc="-1" strike="noStrike">
                <a:solidFill>
                  <a:srgbClr val="ff3300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ff3300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ff3300"/>
                </a:solidFill>
                <a:latin typeface="Minion"/>
                <a:ea typeface="文鼎中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Minion"/>
                <a:ea typeface="文鼎中黑"/>
              </a:rPr>
              <a:t>(H. Höckenreiner?, J. Bauregger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Minion"/>
                <a:ea typeface="文鼎中黑"/>
              </a:rPr>
              <a:t>(K. Kroesen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Minion"/>
                <a:ea typeface="文鼎中黑"/>
              </a:rPr>
              <a:t>(G. Evangelista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(M. Mildenberger?, A. Betting?, </a:t>
            </a:r>
            <a:br>
              <a:rPr sz="1200"/>
            </a:b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B. Flierl?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(A. Vaeckenstedt) 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(Z. Kirin)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(E. Kutzner 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48360" y="789120"/>
            <a:ext cx="2195640" cy="55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Asia</a:t>
            </a:r>
            <a:r>
              <a:rPr b="1" lang="en-US" sz="16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	</a:t>
            </a:r>
            <a:r>
              <a:rPr b="1" lang="en-US" sz="16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	</a:t>
            </a:r>
            <a:r>
              <a:rPr b="1" lang="en-US" sz="16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Wentai Hsu, Barry Da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rthur Wang, Barry Lia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rthur Wang, Barry Lia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umei Lin, Fred Hsieh, 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Rich Liu</a:t>
            </a:r>
            <a:r>
              <a:rPr b="1" lang="en-US" sz="1200" spc="-1" strike="noStrike">
                <a:solidFill>
                  <a:srgbClr val="ff0000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ff0000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ff0000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ff0000"/>
                </a:solidFill>
                <a:latin typeface="Minion"/>
                <a:ea typeface="文鼎中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Fuji Yang, Wenchin Shou, 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Hook C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Ryan M Chen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Norman Jiang, Robert Lo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bbie Tseng, Rick Lin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Li Zhou, Jerry Y Hsu, 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llen Yau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Justin Ko,  JR Chang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Eric Kao, Thisbe T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8000" y="2805120"/>
            <a:ext cx="8928000" cy="1873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8000" y="1197000"/>
            <a:ext cx="8928000" cy="64764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Dr. Assan</cp:lastModifiedBy>
  <dcterms:modified xsi:type="dcterms:W3CDTF">2006-03-20T12:38:29Z</dcterms:modified>
  <cp:revision>225</cp:revision>
  <dc:subject/>
  <dc:title>PowerPoint 簡報</dc:title>
</cp:coreProperties>
</file>