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BEE-181D-4CFF-9A24-EDBCB96B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3EB-AE59-4A0B-944A-1A880F8B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C12-4622-454B-9F75-45C93EEB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7D8-1BC5-48EE-86DB-70BE63A6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1CA-FDD8-4DDA-A1D7-E97845A8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EDA9-BAA4-4C72-8E16-AF89EBF6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186-0E09-41DB-874F-1E669C93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EDE-5EE6-46F6-A36D-4A568652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3640" y="1519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199-1B74-4262-83C0-3B2E952F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0A1-5CDC-4CA2-A3A5-4A12FBF3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223-04AA-4C30-9E64-42491EB4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C0E-537A-4701-A341-4A9CA3B8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3F99-E71B-4140-B7C2-F3E8DC0A3F56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M PSO, 20 March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004760"/>
            <a:ext cx="453528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oadmap Definition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Definition and Industrial Design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ake Market/Customer Relationship Management/Sal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W-Development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W Development (incl. RF &amp; Antenna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al Design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Management, incl. CPM, TPM, BO, VM, GP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CM (material availability, production technology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Care, Quality Manag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cur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04640"/>
            <a:ext cx="66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lignment &amp; Optimization: Staffing of Expert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789120"/>
            <a:ext cx="244800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Europe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K. Ratsimbazafy, R. May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. Mildenberger, 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H. Höckenreiner?,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PH representative?</a:t>
            </a:r>
            <a:r>
              <a:rPr b="1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,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M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. Haas, R. Voig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?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M. Weigang?, T. Hagemann?,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M. Topel?)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H. Höckenreiner?, J. Bauregger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K. Kroesen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G. Evangelista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?, A. Betting?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. Flierl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A. Vaeckenstedt)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Z. Kirin)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E. Kutzner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789120"/>
            <a:ext cx="219564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Asia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ntai Hsu, Barry Da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umei Lin, Fred Hsieh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ich Liu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uji Yang, Wenchin Sho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ook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yan M Che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rman Jiang, Robert Lo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bbie Tseng, Rick Lin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 Zhou, Jerry Y Hs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en Yau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Justin Ko,  JR Chang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ric Kao, Thisbe 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2805120"/>
            <a:ext cx="8928000" cy="187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197000"/>
            <a:ext cx="8928000" cy="647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Dr. Assan</cp:lastModifiedBy>
  <dcterms:modified xsi:type="dcterms:W3CDTF">2006-03-20T12:38:29Z</dcterms:modified>
  <cp:revision>225</cp:revision>
  <dc:subject/>
  <dc:title>PowerPoint 簡報</dc:title>
</cp:coreProperties>
</file>