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2BF-EDE0-4381-B852-6A37D1F8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7B4-45E3-428D-BAE4-F2B25F2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71C-DBD8-4434-A2EC-82DFE210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71A-752D-4449-A4C4-2B1EFFDB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81F-E093-44A0-B39D-A05D6CAF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B91-3443-478B-BE6B-17E2B33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24C-0032-4ADE-BE2C-33205A55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C4E-E9F7-46F4-9226-16A1375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55B-8852-4BC7-A99F-1D1A3077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C58-5218-4229-BB0E-54F5BBED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E74-E2EA-41F4-AB1D-5D583F7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AB2-BC14-41E5-88C2-8AE235A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5F7-2BB6-4A30-9B38-4A5EBF10CA8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DF22DC77-2DDB-4FD5-AF79-C9955D94BBBE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11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9.wmf"/><Relationship Id="rId26" Type="http://schemas.openxmlformats.org/officeDocument/2006/relationships/image" Target="../media/image11.wmf"/><Relationship Id="rId27" Type="http://schemas.openxmlformats.org/officeDocument/2006/relationships/image" Target="../media/image9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06. 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Further support incl. April 06 agreed with Qual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Onyx: M1-HW declared on Feb 24th / M1-SW planned on March 17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Antenna performance increased by 1.5dBm to 15.5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Ruby M0 declared on March 3rd by Project Team / 6280-SLA signed by BenQ/Q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- Koala project re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Mallow project 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9280" y="2878200"/>
            <a:ext cx="8277120" cy="1439640"/>
            <a:chOff x="449280" y="2878200"/>
            <a:chExt cx="8277120" cy="1439640"/>
          </a:xfrm>
        </p:grpSpPr>
        <p:sp>
          <p:nvSpPr>
            <p:cNvPr id="53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280" y="2878200"/>
              <a:ext cx="8277120" cy="14396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360" y="3238560"/>
              <a:ext cx="269640" cy="26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nio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9640" y="2914560"/>
              <a:ext cx="75578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XG75: volumes still only 56k over LC. Scrap risk 6’7€. SFR deal cancelled!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EF81: Still increasing overall number of defects (esp. from operator tests). Netto bug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fix rate of 100 per week not reached </a:t>
              </a:r>
              <a:r>
                <a:rPr b="1" lang="en-U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DS delayed to March 29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till significantly component shortage (e.g. KHVatec) / additional quality problems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with mechanics and earpie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49280" y="449748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General Tas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94172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530208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8720" y="497844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Koa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Mal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Comparison Kestrel vs. Macross C1 in terms of project setup / costs etc. as best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practice sh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67400" cy="386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561636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817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96920"/>
            <a:ext cx="8817120" cy="3052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69120" y="220500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78200" y="2247840"/>
            <a:ext cx="151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915840"/>
            <a:ext cx="881712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126720"/>
            <a:ext cx="82771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Current defects vs. commitments               </a:t>
            </a: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7712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86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113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3-06T15:03:29Z</dcterms:modified>
  <cp:revision>157</cp:revision>
  <dc:subject/>
  <dc:title>PHE</dc:title>
</cp:coreProperties>
</file>