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30B-D00A-4351-AE59-3682C579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5E1-F8BD-47EF-A5E0-E414569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867-4A7C-467B-98C8-BF00EA4A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5BF-6CEF-4028-A7D2-1590F88C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49B-F221-4E1A-9ABA-EFCBAF26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34B-9DAA-4273-AC13-A1C47A4F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BCE-579D-48FD-9273-37BD6BD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D83-C398-4B01-AE14-A888118B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859-EC24-4660-A970-EF87A5B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DC5-2893-46CF-A8C2-03BB49BE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2EF-94F5-426B-A5F1-E20EE4DE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F08-BCD5-4AF9-9A24-D442724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8DF0-1C8F-4B30-B1B2-F24C70F5357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576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PV-Plan responsibility, incl. PLT suppor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product classes 1-4 incl. TTM target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343160"/>
            <a:ext cx="5924520" cy="13665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2280" y="127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286080"/>
            <a:ext cx="605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control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925720"/>
            <a:ext cx="5924520" cy="1727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120" y="2852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836640"/>
            <a:ext cx="2881080" cy="439416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42592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80" y="5084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FF0-BD0A-48B9-9BDF-804B9F64A3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Christof Schwab</cp:lastModifiedBy>
  <dcterms:modified xsi:type="dcterms:W3CDTF">2006-01-27T16:39:25Z</dcterms:modified>
  <cp:revision>129</cp:revision>
  <dc:subject/>
  <dc:title>PowerPoint 簡報</dc:title>
</cp:coreProperties>
</file>