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63244-F7C7-4169-BE69-BADCAE4F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820260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3680" y="3640320"/>
            <a:ext cx="820260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F160D-5446-4CF5-AF75-EE0C46A3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7040" y="227664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3680" y="364032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57040" y="364032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7CE46-99DA-47CB-8EA5-1E67B1EDD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26409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27120" y="2276640"/>
            <a:ext cx="26409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00560" y="2276640"/>
            <a:ext cx="26409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53680" y="3640320"/>
            <a:ext cx="26409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27120" y="3640320"/>
            <a:ext cx="26409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00560" y="3640320"/>
            <a:ext cx="26409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69F9B-DC55-42EB-AF38-8D137E7C2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53680" y="2276640"/>
            <a:ext cx="820260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820260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40028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7040" y="2276640"/>
            <a:ext cx="40028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54040" y="766080"/>
            <a:ext cx="5369040" cy="14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7040" y="2276640"/>
            <a:ext cx="40028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53680" y="364032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53680" y="2276640"/>
            <a:ext cx="820260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F8A7F-A5F7-41D5-B6F6-2A4DFC6B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40028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7040" y="227664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7040" y="364032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7040" y="227664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53680" y="3640320"/>
            <a:ext cx="820260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820260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3680" y="3640320"/>
            <a:ext cx="820260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7040" y="227664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3680" y="364032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7040" y="364032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26409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27120" y="2276640"/>
            <a:ext cx="26409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00560" y="2276640"/>
            <a:ext cx="26409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53680" y="3640320"/>
            <a:ext cx="26409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27120" y="3640320"/>
            <a:ext cx="26409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00560" y="3640320"/>
            <a:ext cx="26409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820260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B7831-B6C7-4C80-85D3-61E7A789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40028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7040" y="2276640"/>
            <a:ext cx="40028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F1B44-DCC7-421E-8AA1-5D5AB818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AC208-4171-4402-84DB-F53D47A2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54040" y="766080"/>
            <a:ext cx="5369040" cy="14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DA78F-858A-4FD3-AD81-8C711E7A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7040" y="2276640"/>
            <a:ext cx="40028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3680" y="364032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0A026-B6BD-4A9B-8565-38E82E86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40028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7040" y="227664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57040" y="364032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8F593-FD7E-4F52-9F9C-B7627FF2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7040" y="227664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3680" y="3640320"/>
            <a:ext cx="820260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58A69-DB31-4690-8BFF-89BD1384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53680" y="2276640"/>
            <a:ext cx="820260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2840" indent="-221400">
              <a:spcBef>
                <a:spcPts val="624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22840">
              <a:spcBef>
                <a:spcPts val="624"/>
              </a:spcBef>
              <a:buClr>
                <a:srgbClr val="3a0e6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71040" indent="-221400">
              <a:spcBef>
                <a:spcPts val="624"/>
              </a:spcBef>
              <a:buClr>
                <a:srgbClr val="3a0e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680" indent="-223200">
              <a:spcBef>
                <a:spcPts val="624"/>
              </a:spcBef>
              <a:buClr>
                <a:srgbClr val="3a0e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680" indent="-2232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680" indent="-2232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598920" y="6579360"/>
            <a:ext cx="334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54040" y="6396840"/>
            <a:ext cx="5824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Page </a:t>
            </a:r>
            <a:fld id="{92628B56-5FE7-4651-B0D9-F1D99F108E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1888920" y="6577920"/>
            <a:ext cx="7268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6477120" y="179280"/>
            <a:ext cx="2412360" cy="277560"/>
            <a:chOff x="6477120" y="179280"/>
            <a:chExt cx="2412360" cy="277560"/>
          </a:xfrm>
        </p:grpSpPr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6477120" y="179280"/>
              <a:ext cx="95724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4"/>
            <a:srcRect l="4008" t="11580" r="3770" b="17710"/>
            <a:stretch/>
          </p:blipFill>
          <p:spPr>
            <a:xfrm>
              <a:off x="7532640" y="182160"/>
              <a:ext cx="1356840" cy="2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7431120" y="271080"/>
              <a:ext cx="74160" cy="74880"/>
            </a:xfrm>
            <a:custGeom>
              <a:avLst/>
              <a:gdLst/>
              <a:ahLst/>
              <a:rect l="l" t="t" r="r" b="b"/>
              <a:pathLst>
                <a:path w="1008" h="1006">
                  <a:moveTo>
                    <a:pt x="504" y="0"/>
                  </a:moveTo>
                  <a:cubicBezTo>
                    <a:pt x="641" y="0"/>
                    <a:pt x="910" y="47"/>
                    <a:pt x="935" y="72"/>
                  </a:cubicBezTo>
                  <a:cubicBezTo>
                    <a:pt x="960" y="97"/>
                    <a:pt x="1008" y="369"/>
                    <a:pt x="1008" y="504"/>
                  </a:cubicBezTo>
                  <a:cubicBezTo>
                    <a:pt x="1008" y="639"/>
                    <a:pt x="963" y="909"/>
                    <a:pt x="938" y="934"/>
                  </a:cubicBezTo>
                  <a:cubicBezTo>
                    <a:pt x="913" y="959"/>
                    <a:pt x="639" y="1006"/>
                    <a:pt x="504" y="1006"/>
                  </a:cubicBezTo>
                  <a:cubicBezTo>
                    <a:pt x="369" y="1006"/>
                    <a:pt x="100" y="961"/>
                    <a:pt x="75" y="936"/>
                  </a:cubicBezTo>
                  <a:cubicBezTo>
                    <a:pt x="50" y="911"/>
                    <a:pt x="0" y="638"/>
                    <a:pt x="0" y="504"/>
                  </a:cubicBezTo>
                  <a:cubicBezTo>
                    <a:pt x="0" y="370"/>
                    <a:pt x="49" y="98"/>
                    <a:pt x="74" y="72"/>
                  </a:cubicBezTo>
                  <a:cubicBezTo>
                    <a:pt x="99" y="46"/>
                    <a:pt x="367" y="0"/>
                    <a:pt x="504" y="0"/>
                  </a:cubicBezTo>
                  <a:close/>
                </a:path>
              </a:pathLst>
            </a:custGeom>
            <a:solidFill>
              <a:srgbClr val="3a0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26640" cy="6734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54040" y="1447560"/>
            <a:ext cx="7012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21240" y="6192720"/>
            <a:ext cx="3319560" cy="382680"/>
            <a:chOff x="5421240" y="6192720"/>
            <a:chExt cx="3319560" cy="382680"/>
          </a:xfrm>
        </p:grpSpPr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5421240" y="6192720"/>
              <a:ext cx="1317600" cy="3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4"/>
            <a:srcRect l="4008" t="15978" r="3770" b="17710"/>
            <a:stretch/>
          </p:blipFill>
          <p:spPr>
            <a:xfrm>
              <a:off x="6873840" y="6216480"/>
              <a:ext cx="1866960" cy="29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734160" y="6319800"/>
              <a:ext cx="101520" cy="101520"/>
            </a:xfrm>
            <a:custGeom>
              <a:avLst/>
              <a:gdLst/>
              <a:ahLst/>
              <a:rect l="l" t="t" r="r" b="b"/>
              <a:pathLst>
                <a:path w="1008" h="1006">
                  <a:moveTo>
                    <a:pt x="504" y="0"/>
                  </a:moveTo>
                  <a:cubicBezTo>
                    <a:pt x="641" y="0"/>
                    <a:pt x="910" y="47"/>
                    <a:pt x="935" y="72"/>
                  </a:cubicBezTo>
                  <a:cubicBezTo>
                    <a:pt x="960" y="97"/>
                    <a:pt x="1008" y="369"/>
                    <a:pt x="1008" y="504"/>
                  </a:cubicBezTo>
                  <a:cubicBezTo>
                    <a:pt x="1008" y="639"/>
                    <a:pt x="963" y="909"/>
                    <a:pt x="938" y="934"/>
                  </a:cubicBezTo>
                  <a:cubicBezTo>
                    <a:pt x="913" y="959"/>
                    <a:pt x="639" y="1006"/>
                    <a:pt x="504" y="1006"/>
                  </a:cubicBezTo>
                  <a:cubicBezTo>
                    <a:pt x="369" y="1006"/>
                    <a:pt x="100" y="961"/>
                    <a:pt x="75" y="936"/>
                  </a:cubicBezTo>
                  <a:cubicBezTo>
                    <a:pt x="50" y="911"/>
                    <a:pt x="0" y="638"/>
                    <a:pt x="0" y="504"/>
                  </a:cubicBezTo>
                  <a:cubicBezTo>
                    <a:pt x="0" y="370"/>
                    <a:pt x="49" y="98"/>
                    <a:pt x="74" y="72"/>
                  </a:cubicBezTo>
                  <a:cubicBezTo>
                    <a:pt x="99" y="46"/>
                    <a:pt x="367" y="0"/>
                    <a:pt x="504" y="0"/>
                  </a:cubicBezTo>
                  <a:close/>
                </a:path>
              </a:pathLst>
            </a:custGeom>
            <a:solidFill>
              <a:srgbClr val="3a0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44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 algn="ctr">
              <a:spcBef>
                <a:spcPts val="624"/>
              </a:spcBef>
              <a:buClr>
                <a:srgbClr val="3a0e6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62120" algn="ctr">
              <a:spcBef>
                <a:spcPts val="624"/>
              </a:spcBef>
              <a:buClr>
                <a:srgbClr val="3a0e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143000" algn="ctr">
              <a:spcBef>
                <a:spcPts val="624"/>
              </a:spcBef>
              <a:buClr>
                <a:srgbClr val="3a0e66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1430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1430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58560"/>
            <a:ext cx="759960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新細明體"/>
              </a:rPr>
              <a:t>P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新細明體"/>
              </a:rPr>
              <a:t>rocesses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新細明體"/>
              </a:rPr>
              <a:t>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新細明體"/>
              </a:rPr>
              <a:t>ools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新細明體"/>
              </a:rPr>
              <a:t>M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新細明體"/>
              </a:rPr>
              <a:t>ethodology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新細明體"/>
              </a:rPr>
              <a:t>Organizational Setup (Draft)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新細明體"/>
              </a:rPr>
              <a:t>Headcount Germany Plan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9640" y="3957120"/>
            <a:ext cx="71978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March 2006 – Confident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4497480"/>
            <a:ext cx="35989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Mario Top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58920" y="179280"/>
            <a:ext cx="61182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Arial"/>
                <a:ea typeface="新細明體"/>
              </a:rPr>
              <a:t>(2)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新細明體"/>
              </a:rPr>
              <a:t> P</a:t>
            </a:r>
            <a:r>
              <a:rPr b="1" lang="en-US" sz="2000" spc="-1" strike="noStrike">
                <a:solidFill>
                  <a:srgbClr val="3a0e66"/>
                </a:solidFill>
                <a:latin typeface="Arial"/>
                <a:ea typeface="新細明體"/>
              </a:rPr>
              <a:t>rocesses 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新細明體"/>
              </a:rPr>
              <a:t>T</a:t>
            </a:r>
            <a:r>
              <a:rPr b="1" lang="en-US" sz="2000" spc="-1" strike="noStrike">
                <a:solidFill>
                  <a:srgbClr val="3a0e66"/>
                </a:solidFill>
                <a:latin typeface="Arial"/>
                <a:ea typeface="新細明體"/>
              </a:rPr>
              <a:t>ools 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新細明體"/>
              </a:rPr>
              <a:t>M</a:t>
            </a:r>
            <a:r>
              <a:rPr b="1" lang="en-US" sz="2000" spc="-1" strike="noStrike">
                <a:solidFill>
                  <a:srgbClr val="3a0e66"/>
                </a:solidFill>
                <a:latin typeface="Arial"/>
                <a:ea typeface="新細明體"/>
              </a:rPr>
              <a:t>ethodologies</a:t>
            </a:r>
            <a:br>
              <a:rPr sz="20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Organizational Set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88920" y="1798560"/>
            <a:ext cx="719784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88920" y="1798560"/>
            <a:ext cx="0" cy="179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78200" y="988920"/>
            <a:ext cx="2203560" cy="550800"/>
          </a:xfrm>
          <a:prstGeom prst="rect">
            <a:avLst/>
          </a:prstGeom>
          <a:solidFill>
            <a:srgbClr val="ff99cc">
              <a:alpha val="90000"/>
            </a:srgbClr>
          </a:solidFill>
          <a:ln w="0">
            <a:noFill/>
          </a:ln>
          <a:effectLst>
            <a:outerShdw dist="17819" dir="2700000" blurRad="0" rotWithShape="0">
              <a:srgbClr val="98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rocesses Tools Methodolog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Sumei 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08200" y="719280"/>
            <a:ext cx="2203560" cy="550800"/>
          </a:xfrm>
          <a:prstGeom prst="rect">
            <a:avLst/>
          </a:prstGeom>
          <a:solidFill>
            <a:srgbClr val="ccccff">
              <a:alpha val="90000"/>
            </a:srgbClr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rocesses Tools Methodologies</a:t>
            </a:r>
            <a:br>
              <a:rPr sz="1000"/>
            </a:b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H RD P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Mario Topel / Sumei Lin (deput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87840" y="1258920"/>
            <a:ext cx="0" cy="539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8560" y="2249640"/>
            <a:ext cx="1258920" cy="539640"/>
          </a:xfrm>
          <a:prstGeom prst="rect">
            <a:avLst/>
          </a:prstGeom>
          <a:solidFill>
            <a:srgbClr val="ff99cc">
              <a:alpha val="90000"/>
            </a:srgbClr>
          </a:solidFill>
          <a:ln w="0">
            <a:noFill/>
          </a:ln>
          <a:effectLst>
            <a:outerShdw dist="17819" dir="2700000" blurRad="0" rotWithShape="0">
              <a:srgbClr val="98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rocesses &amp; Planning To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8920" y="1979640"/>
            <a:ext cx="1258920" cy="539640"/>
          </a:xfrm>
          <a:prstGeom prst="rect">
            <a:avLst/>
          </a:prstGeom>
          <a:solidFill>
            <a:srgbClr val="ccccff">
              <a:alpha val="90000"/>
            </a:srgbClr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rocesses &amp; Planning Tools</a:t>
            </a:r>
            <a:br>
              <a:rPr sz="1000"/>
            </a:b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H RD PTM PPT</a:t>
            </a:r>
            <a:br>
              <a:rPr sz="1000"/>
            </a:b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 </a:t>
            </a:r>
            <a:r>
              <a:rPr b="1" lang="en-US" sz="900" spc="-1" strike="noStrike">
                <a:solidFill>
                  <a:srgbClr val="002b5d"/>
                </a:solidFill>
                <a:latin typeface="Arial"/>
                <a:ea typeface="新細明體"/>
              </a:rPr>
              <a:t>Mario Topel (acting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8560" y="5398920"/>
            <a:ext cx="8456760" cy="90720"/>
          </a:xfrm>
          <a:prstGeom prst="rect">
            <a:avLst/>
          </a:prstGeom>
          <a:solidFill>
            <a:srgbClr val="ff99cc">
              <a:alpha val="90000"/>
            </a:srgbClr>
          </a:solidFill>
          <a:ln w="0">
            <a:noFill/>
          </a:ln>
          <a:effectLst>
            <a:outerShdw dist="17819" dir="2700000" blurRad="0" rotWithShape="0">
              <a:srgbClr val="98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920" y="5130720"/>
            <a:ext cx="8447040" cy="268200"/>
          </a:xfrm>
          <a:prstGeom prst="rect">
            <a:avLst/>
          </a:prstGeom>
          <a:solidFill>
            <a:srgbClr val="ccccff">
              <a:alpha val="90000"/>
            </a:srgbClr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Intranet &amp; Commun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28560" y="6116760"/>
            <a:ext cx="8456760" cy="90360"/>
          </a:xfrm>
          <a:prstGeom prst="rect">
            <a:avLst/>
          </a:prstGeom>
          <a:solidFill>
            <a:srgbClr val="ff99cc">
              <a:alpha val="90000"/>
            </a:srgbClr>
          </a:solidFill>
          <a:ln w="0">
            <a:noFill/>
          </a:ln>
          <a:effectLst>
            <a:outerShdw dist="17819" dir="2700000" blurRad="0" rotWithShape="0">
              <a:srgbClr val="98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8280" y="5859360"/>
            <a:ext cx="8447040" cy="268560"/>
          </a:xfrm>
          <a:prstGeom prst="rect">
            <a:avLst/>
          </a:prstGeom>
          <a:solidFill>
            <a:srgbClr val="ccccff">
              <a:alpha val="90000"/>
            </a:srgbClr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Helpdesk – Training - 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48480" y="5130720"/>
            <a:ext cx="1257480" cy="268200"/>
          </a:xfrm>
          <a:prstGeom prst="rect">
            <a:avLst/>
          </a:prstGeom>
          <a:solidFill>
            <a:srgbClr val="ccccff">
              <a:alpha val="90000"/>
            </a:srgbClr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H RD PTM IC</a:t>
            </a:r>
            <a:br>
              <a:rPr sz="1000"/>
            </a:b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N.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58200" y="5859360"/>
            <a:ext cx="1257120" cy="268560"/>
          </a:xfrm>
          <a:prstGeom prst="rect">
            <a:avLst/>
          </a:prstGeom>
          <a:solidFill>
            <a:srgbClr val="ccccff">
              <a:alpha val="90000"/>
            </a:srgbClr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H RD PTM HTS</a:t>
            </a:r>
            <a:br>
              <a:rPr sz="1000"/>
            </a:b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N.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920" y="2789280"/>
            <a:ext cx="1258920" cy="2249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18000" bIns="0" anchor="t">
            <a:normAutofit/>
          </a:bodyPr>
          <a:p>
            <a:pPr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3a0e66"/>
                </a:solidFill>
                <a:latin typeface="Arial"/>
                <a:ea typeface="新細明體"/>
              </a:rPr>
              <a:t>Tools &amp; Task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75000"/>
              </a:lnSpc>
              <a:spcBef>
                <a:spcPts val="249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75000"/>
              </a:lnSpc>
              <a:spcBef>
                <a:spcPts val="2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  <a:ea typeface="新細明體"/>
              </a:rPr>
              <a:t>Processes</a:t>
            </a:r>
            <a:br>
              <a:rPr sz="1000"/>
            </a:br>
            <a:r>
              <a:rPr b="0" i="1" lang="en-US" sz="800" spc="-1" strike="noStrike">
                <a:solidFill>
                  <a:srgbClr val="3a0e66"/>
                </a:solidFill>
                <a:latin typeface="Arial"/>
                <a:ea typeface="新細明體"/>
              </a:rPr>
              <a:t>MEP</a:t>
            </a:r>
            <a:br>
              <a:rPr sz="800"/>
            </a:br>
            <a:r>
              <a:rPr b="0" i="1" lang="en-US" sz="800" spc="-1" strike="noStrike">
                <a:solidFill>
                  <a:srgbClr val="3a0e66"/>
                </a:solidFill>
                <a:latin typeface="Arial"/>
                <a:ea typeface="新細明體"/>
              </a:rPr>
              <a:t>Crossfunctiona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75000"/>
              </a:lnSpc>
              <a:spcBef>
                <a:spcPts val="2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op Down Budget Planning</a:t>
            </a:r>
            <a:br>
              <a:rPr sz="800"/>
            </a:br>
            <a:r>
              <a:rPr b="0" i="1" lang="en-US" sz="800" spc="-1" strike="noStrike">
                <a:solidFill>
                  <a:srgbClr val="3a0e66"/>
                </a:solidFill>
                <a:latin typeface="Arial"/>
                <a:ea typeface="新細明體"/>
              </a:rPr>
              <a:t>PMC /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75000"/>
              </a:lnSpc>
              <a:spcBef>
                <a:spcPts val="2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Workpackage</a:t>
            </a:r>
            <a:br>
              <a:rPr sz="1000"/>
            </a:b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Resource</a:t>
            </a:r>
            <a:br>
              <a:rPr sz="1000"/>
            </a:b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Planning:</a:t>
            </a:r>
            <a:br>
              <a:rPr sz="1000"/>
            </a:br>
            <a:r>
              <a:rPr b="0" i="1" lang="en-US" sz="800" spc="-1" strike="noStrike">
                <a:solidFill>
                  <a:srgbClr val="3a0e66"/>
                </a:solidFill>
                <a:latin typeface="Arial"/>
                <a:ea typeface="新細明體"/>
              </a:rPr>
              <a:t>PRIMAVERA / MS Pro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957480" y="1798560"/>
            <a:ext cx="1528920" cy="3240000"/>
            <a:chOff x="3957480" y="1798560"/>
            <a:chExt cx="1528920" cy="3240000"/>
          </a:xfrm>
        </p:grpSpPr>
        <p:sp>
          <p:nvSpPr>
            <p:cNvPr id="108" name=""/>
            <p:cNvSpPr/>
            <p:nvPr/>
          </p:nvSpPr>
          <p:spPr>
            <a:xfrm>
              <a:off x="4587840" y="1798560"/>
              <a:ext cx="0" cy="179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27480" y="2249640"/>
              <a:ext cx="1258920" cy="539640"/>
            </a:xfrm>
            <a:prstGeom prst="rect">
              <a:avLst/>
            </a:prstGeom>
            <a:solidFill>
              <a:srgbClr val="ff99cc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98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SW</a:t>
              </a:r>
              <a:br>
                <a:rPr sz="1000"/>
              </a:b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Too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57480" y="1979640"/>
              <a:ext cx="1258920" cy="53964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Software Tools</a:t>
              </a:r>
              <a:br>
                <a:rPr sz="1000"/>
              </a:b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PH RD PTM SWT</a:t>
              </a:r>
              <a:br>
                <a:rPr sz="1000"/>
              </a:b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Wolfgang Hetti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57480" y="2789280"/>
              <a:ext cx="1258920" cy="2249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18000" bIns="0" anchor="t">
              <a:normAutofit/>
            </a:bodyPr>
            <a:p>
              <a:pPr>
                <a:lnSpc>
                  <a:spcPct val="7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Tools &amp; Task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49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01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Description Language:</a:t>
              </a:r>
              <a:br>
                <a:rPr sz="10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Telelogic TAU /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01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Configuration Management:</a:t>
              </a:r>
              <a:br>
                <a:rPr sz="10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Telelogic SYNERGY / Rational Clearcase / Seren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01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Defect Management:</a:t>
              </a:r>
              <a:br>
                <a:rPr sz="10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Rational CLEARQUEST / SEREN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01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(Automated Test:)</a:t>
              </a:r>
              <a:br>
                <a:rPr sz="8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(tbd) Mercury TESTDIRECT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757840" y="1798560"/>
            <a:ext cx="1528920" cy="3240000"/>
            <a:chOff x="5757840" y="1798560"/>
            <a:chExt cx="1528920" cy="3240000"/>
          </a:xfrm>
        </p:grpSpPr>
        <p:sp>
          <p:nvSpPr>
            <p:cNvPr id="113" name=""/>
            <p:cNvSpPr/>
            <p:nvPr/>
          </p:nvSpPr>
          <p:spPr>
            <a:xfrm>
              <a:off x="6388200" y="1798560"/>
              <a:ext cx="0" cy="179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27840" y="2249640"/>
              <a:ext cx="1258920" cy="539640"/>
            </a:xfrm>
            <a:prstGeom prst="rect">
              <a:avLst/>
            </a:prstGeom>
            <a:solidFill>
              <a:srgbClr val="ff99cc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98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Engineering Too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57840" y="1979640"/>
              <a:ext cx="1258920" cy="53964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Engineering Tools</a:t>
              </a:r>
              <a:br>
                <a:rPr sz="1000"/>
              </a:b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PH RD PTM ET</a:t>
              </a:r>
              <a:br>
                <a:rPr sz="1000"/>
              </a:b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Edwin Schmid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57840" y="2789280"/>
              <a:ext cx="1258920" cy="2249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18000" bIns="0" anchor="t">
              <a:normAutofit/>
            </a:bodyPr>
            <a:p>
              <a:pPr>
                <a:lnSpc>
                  <a:spcPct val="7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Tools &amp; Task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49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01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3D CAD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Industrial Design</a:t>
              </a:r>
              <a:br>
                <a:rPr sz="8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CATIA / Pro Engineer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01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PCB-Design:</a:t>
              </a:r>
              <a:br>
                <a:rPr sz="10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Mentor Graphics / </a:t>
              </a:r>
              <a:br>
                <a:rPr sz="8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OrCAD / PA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01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Production Interface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Item number management</a:t>
              </a:r>
              <a:br>
                <a:rPr sz="10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SAP PLM /</a:t>
              </a:r>
              <a:br>
                <a:rPr sz="8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B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7556400" y="1798560"/>
            <a:ext cx="1260720" cy="3240000"/>
            <a:chOff x="7556400" y="1798560"/>
            <a:chExt cx="1260720" cy="3240000"/>
          </a:xfrm>
        </p:grpSpPr>
        <p:sp>
          <p:nvSpPr>
            <p:cNvPr id="118" name=""/>
            <p:cNvSpPr/>
            <p:nvPr/>
          </p:nvSpPr>
          <p:spPr>
            <a:xfrm>
              <a:off x="8186760" y="1798560"/>
              <a:ext cx="0" cy="179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558200" y="1979640"/>
              <a:ext cx="1258920" cy="53964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R&amp;D Services</a:t>
              </a:r>
              <a:br>
                <a:rPr sz="1000"/>
              </a:b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PH RD PTM RDS</a:t>
              </a:r>
              <a:br>
                <a:rPr sz="1000"/>
              </a:b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Mario Topel (acting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56400" y="2789280"/>
              <a:ext cx="1258920" cy="2249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18000" bIns="0" anchor="t">
              <a:normAutofit/>
            </a:bodyPr>
            <a:p>
              <a:pPr>
                <a:lnSpc>
                  <a:spcPct val="7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Task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49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01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R&amp;D Infrastructure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Munich</a:t>
              </a:r>
              <a:br>
                <a:rPr sz="8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Operation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01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R&amp;D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Infrastructure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Kamp-Lintfort</a:t>
              </a:r>
              <a:br>
                <a:rPr sz="10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Operatio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01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R&amp;D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Infrastructure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Wroclav (tbc)</a:t>
              </a:r>
              <a:br>
                <a:rPr sz="10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Operations</a:t>
              </a:r>
              <a:br>
                <a:rPr sz="8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58920" y="5489640"/>
            <a:ext cx="8456400" cy="269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18000" bIns="0" anchor="t">
            <a:normAutofit/>
          </a:bodyPr>
          <a:p>
            <a:pPr lvl="1" marL="225360" indent="-223920">
              <a:lnSpc>
                <a:spcPct val="75000"/>
              </a:lnSpc>
              <a:spcBef>
                <a:spcPts val="249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Global Intranet Communication – Centralized Data, Process document and Information 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920" y="6207120"/>
            <a:ext cx="8456400" cy="27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18000" bIns="0" anchor="t">
            <a:normAutofit/>
          </a:bodyPr>
          <a:p>
            <a:pPr lvl="1" marL="225360" indent="-223920">
              <a:lnSpc>
                <a:spcPct val="75000"/>
              </a:lnSpc>
              <a:spcBef>
                <a:spcPts val="249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Global Helpdesk – Training – Support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7120" y="988920"/>
            <a:ext cx="1170000" cy="540000"/>
          </a:xfrm>
          <a:prstGeom prst="rect">
            <a:avLst/>
          </a:prstGeom>
          <a:solidFill>
            <a:srgbClr val="ff99cc">
              <a:alpha val="90000"/>
            </a:srgbClr>
          </a:solidFill>
          <a:ln w="0">
            <a:noFill/>
          </a:ln>
          <a:effectLst>
            <a:outerShdw dist="17819" dir="2700000" blurRad="0" rotWithShape="0">
              <a:srgbClr val="98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eer Organization planned in As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158920" y="1798560"/>
            <a:ext cx="1528920" cy="3240000"/>
            <a:chOff x="2158920" y="1798560"/>
            <a:chExt cx="1528920" cy="3240000"/>
          </a:xfrm>
        </p:grpSpPr>
        <p:sp>
          <p:nvSpPr>
            <p:cNvPr id="125" name=""/>
            <p:cNvSpPr/>
            <p:nvPr/>
          </p:nvSpPr>
          <p:spPr>
            <a:xfrm>
              <a:off x="2789280" y="1798560"/>
              <a:ext cx="0" cy="179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28920" y="2249640"/>
              <a:ext cx="1258920" cy="539640"/>
            </a:xfrm>
            <a:prstGeom prst="rect">
              <a:avLst/>
            </a:prstGeom>
            <a:solidFill>
              <a:srgbClr val="ff99cc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98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Software</a:t>
              </a:r>
              <a:br>
                <a:rPr sz="1000"/>
              </a:b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Too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58920" y="1979640"/>
              <a:ext cx="1258920" cy="53964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Requirements Engineering Tools</a:t>
              </a:r>
              <a:br>
                <a:rPr sz="1000"/>
              </a:b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PH RD PTM RET</a:t>
              </a:r>
              <a:br>
                <a:rPr sz="1000"/>
              </a:br>
              <a:r>
                <a:rPr b="1" lang="en-US" sz="9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Hans Veit Bach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58920" y="2789280"/>
              <a:ext cx="1258920" cy="2249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18000" bIns="0" anchor="t">
              <a:normAutofit/>
            </a:bodyPr>
            <a:p>
              <a:pPr>
                <a:lnSpc>
                  <a:spcPct val="7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Tools &amp; Task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49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01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Requirements Engineering:</a:t>
              </a:r>
              <a:br>
                <a:rPr sz="10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Telelogic DOORS /</a:t>
              </a:r>
              <a:br>
                <a:rPr sz="8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CR Light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49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Tool and Process Interface to Catego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7558200" y="4011480"/>
            <a:ext cx="1258920" cy="486000"/>
          </a:xfrm>
          <a:prstGeom prst="rect">
            <a:avLst/>
          </a:prstGeom>
          <a:solidFill>
            <a:srgbClr val="c0c0c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D4D83-CDF8-406B-B156-A21D44DE4E88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58920" y="179280"/>
            <a:ext cx="61182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Arial"/>
                <a:ea typeface="新細明體"/>
              </a:rPr>
              <a:t>(2)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新細明體"/>
              </a:rPr>
              <a:t> P</a:t>
            </a:r>
            <a:r>
              <a:rPr b="1" lang="en-US" sz="2000" spc="-1" strike="noStrike">
                <a:solidFill>
                  <a:srgbClr val="3a0e66"/>
                </a:solidFill>
                <a:latin typeface="Arial"/>
                <a:ea typeface="新細明體"/>
              </a:rPr>
              <a:t>rocesses 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新細明體"/>
              </a:rPr>
              <a:t>T</a:t>
            </a:r>
            <a:r>
              <a:rPr b="1" lang="en-US" sz="2000" spc="-1" strike="noStrike">
                <a:solidFill>
                  <a:srgbClr val="3a0e66"/>
                </a:solidFill>
                <a:latin typeface="Arial"/>
                <a:ea typeface="新細明體"/>
              </a:rPr>
              <a:t>ools 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新細明體"/>
              </a:rPr>
              <a:t>M</a:t>
            </a:r>
            <a:r>
              <a:rPr b="1" lang="en-US" sz="2000" spc="-1" strike="noStrike">
                <a:solidFill>
                  <a:srgbClr val="3a0e66"/>
                </a:solidFill>
                <a:latin typeface="Arial"/>
                <a:ea typeface="新細明體"/>
              </a:rPr>
              <a:t>ethodologies</a:t>
            </a:r>
            <a:br>
              <a:rPr sz="20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Organizational Set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8920" y="809640"/>
            <a:ext cx="8997840" cy="576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72237-D6FB-4B1A-88EE-428CE0F13F6A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0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Mario Topel</cp:lastModifiedBy>
  <cp:lastPrinted>2006-01-10T22:20:18Z</cp:lastPrinted>
  <dcterms:modified xsi:type="dcterms:W3CDTF">2006-05-15T09:44:40Z</dcterms:modified>
  <cp:revision>809</cp:revision>
  <dc:subject/>
  <dc:title>PowerPoint Presentation</dc:title>
</cp:coreProperties>
</file>