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71BEC-763A-49BE-B935-57607B8A1D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50516-CBA9-4657-9F70-D113C7554A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88B06-345D-441F-99CA-78E6AD6CCF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B03E6-3698-416F-B0CA-554CF9A02C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CC5E1-571A-4157-A162-88E3B3FD40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DD483-DEAF-41E5-BD8D-67136909F2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BB609-81E0-41E4-95EC-8E2F0B4813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BEA42-E3BE-42E1-8D6C-EEA05BF1A3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5A9C8-EDFB-4CB2-8E39-686B5A35A5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B1857-1C6C-4B53-9E68-8D7B7C0363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CB8E0-919E-4200-AC7C-C168529384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02A42-0990-4A11-82F4-74E2855776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26272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  <a:ea typeface="文鼎中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20BB-E739-460C-93A4-FC5D90AFDF0A}" type="slidenum">
              <a:rPr b="0" lang="en-US" sz="10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0920" y="6381720"/>
            <a:ext cx="31687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10.05.2006)  RD B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1360" y="2637000"/>
            <a:ext cx="787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0e66"/>
                </a:solidFill>
                <a:latin typeface="Minion"/>
                <a:ea typeface="文鼎中黑"/>
              </a:rPr>
              <a:t>RD KPI - April 200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4440" y="3933720"/>
            <a:ext cx="7010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Klaus Wingens</a:t>
            </a:r>
            <a:br>
              <a:rPr sz="2400"/>
            </a:br>
            <a:r>
              <a:rPr b="1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BMG PH RD BA</a:t>
            </a:r>
            <a:br>
              <a:rPr sz="2400"/>
            </a:br>
            <a:r>
              <a:rPr b="1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10.05.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518AE-8866-4535-8021-7B63D578BB8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440" y="115560"/>
            <a:ext cx="876312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Commitment defined as PHE RD KPIs: Targets 2006</a:t>
            </a:r>
            <a:br>
              <a:rPr sz="2400"/>
            </a:br>
            <a:r>
              <a:rPr b="1" i="1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(signed 6.2.2006)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 hidden="1"/>
          <p:cNvSpPr/>
          <p:nvPr/>
        </p:nvSpPr>
        <p:spPr>
          <a:xfrm>
            <a:off x="69840" y="-1440"/>
            <a:ext cx="7920" cy="161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8000" y="933480"/>
            <a:ext cx="1800000" cy="10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e6e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1120" y="1308240"/>
            <a:ext cx="10810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Fina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36880" y="933480"/>
            <a:ext cx="6842160" cy="10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e6e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76560" y="936720"/>
            <a:ext cx="2539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>
              <a:lnSpc>
                <a:spcPct val="95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&amp;D costs (incl VAS, w/o Restru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95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ost  productiv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-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taf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DTC (def. at M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NCC  (cost after M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Infrastructure</a:t>
            </a:r>
            <a:r>
              <a:rPr b="1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95000"/>
              </a:lnSpc>
              <a:buClr>
                <a:srgbClr val="3a0e66"/>
              </a:buClr>
              <a:buFont typeface="Minion"/>
              <a:buChar char="•"/>
              <a:tabLst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TM cost overrun reduction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2098800"/>
            <a:ext cx="1800000" cy="12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e6e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1520" y="3500280"/>
            <a:ext cx="1800360" cy="10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e6e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8000" y="4653000"/>
            <a:ext cx="1800000" cy="81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e6e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8000" y="5479920"/>
            <a:ext cx="1800000" cy="82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e6e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2000" y="2492280"/>
            <a:ext cx="968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7880" y="3805200"/>
            <a:ext cx="135252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eople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Inno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5160" y="4915080"/>
            <a:ext cx="11923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0560" y="5829480"/>
            <a:ext cx="49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50920" y="4667400"/>
            <a:ext cx="6842160" cy="80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e6e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81240" y="4843440"/>
            <a:ext cx="2606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>
              <a:lnSpc>
                <a:spcPct val="120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Internal satisfaction / result 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External satisfaction (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38320" y="3500280"/>
            <a:ext cx="6842160" cy="108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e6e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65400" y="3546360"/>
            <a:ext cx="26226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>
              <a:lnSpc>
                <a:spcPct val="120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Internal / external M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igh – low cost country m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ead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Work satisf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Invention disclos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0920" y="2103480"/>
            <a:ext cx="6842160" cy="1276200"/>
          </a:xfrm>
          <a:prstGeom prst="rect">
            <a:avLst/>
          </a:prstGeom>
          <a:solidFill>
            <a:srgbClr val="ffffff"/>
          </a:solidFill>
          <a:ln w="25560">
            <a:solidFill>
              <a:srgbClr val="e6e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65400" y="2076480"/>
            <a:ext cx="26226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>
              <a:lnSpc>
                <a:spcPct val="120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ilestones M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fect Rate in Sys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fect fix cycl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equirement Volatility (starts April 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 TTM (M1 – 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rocess maturity</a:t>
            </a: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1222200"/>
            <a:ext cx="432000" cy="432000"/>
          </a:xfrm>
          <a:prstGeom prst="ellipse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2421000"/>
            <a:ext cx="432000" cy="431640"/>
          </a:xfrm>
          <a:prstGeom prst="ellipse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3767040"/>
            <a:ext cx="432000" cy="432000"/>
          </a:xfrm>
          <a:prstGeom prst="ellipse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4876920"/>
            <a:ext cx="432000" cy="431640"/>
          </a:xfrm>
          <a:prstGeom prst="ellipse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8080" y="5740560"/>
            <a:ext cx="431640" cy="431640"/>
          </a:xfrm>
          <a:prstGeom prst="ellipse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520" y="12222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3000" y="24354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4440" y="3780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5360" y="48769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57546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46680" y="907920"/>
            <a:ext cx="0" cy="5761080"/>
          </a:xfrm>
          <a:prstGeom prst="line">
            <a:avLst/>
          </a:prstGeom>
          <a:ln w="25560">
            <a:solidFill>
              <a:srgbClr val="e6e5e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0360" y="907920"/>
            <a:ext cx="0" cy="5761080"/>
          </a:xfrm>
          <a:prstGeom prst="line">
            <a:avLst/>
          </a:prstGeom>
          <a:ln w="25560">
            <a:solidFill>
              <a:srgbClr val="e6e5e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51600" y="907920"/>
            <a:ext cx="0" cy="5761080"/>
          </a:xfrm>
          <a:prstGeom prst="line">
            <a:avLst/>
          </a:prstGeom>
          <a:ln w="25560">
            <a:solidFill>
              <a:srgbClr val="e6e5e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77240" y="907920"/>
            <a:ext cx="0" cy="5761080"/>
          </a:xfrm>
          <a:prstGeom prst="line">
            <a:avLst/>
          </a:prstGeom>
          <a:ln w="25560">
            <a:solidFill>
              <a:srgbClr val="e6e5e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923760"/>
            <a:ext cx="0" cy="5761080"/>
          </a:xfrm>
          <a:prstGeom prst="line">
            <a:avLst/>
          </a:prstGeom>
          <a:ln w="25560">
            <a:solidFill>
              <a:srgbClr val="e6e5e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03640" y="620640"/>
            <a:ext cx="7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et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96080" y="620640"/>
            <a:ext cx="12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ase 12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869240" y="62064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arget 12/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77080" y="62064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arget 12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59280" y="4208400"/>
            <a:ext cx="10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9280" y="2070000"/>
            <a:ext cx="108108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O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O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MMI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59280" y="48560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Rating 1 ..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507348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ating 1 ..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00360" y="6527880"/>
            <a:ext cx="619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3a0e66"/>
                </a:solidFill>
                <a:latin typeface="Minion"/>
              </a:rPr>
              <a:t>DTC = Design to Cost     TTM = Time to Market   </a:t>
            </a:r>
            <a:r>
              <a:rPr b="1" lang="de-DE" sz="800" spc="-1" strike="noStrike">
                <a:solidFill>
                  <a:srgbClr val="3a0e66"/>
                </a:solidFill>
                <a:latin typeface="Minion"/>
                <a:ea typeface="文鼎中黑"/>
              </a:rPr>
              <a:t>FPY = First pass yield  NCC = Non Conformance Costs </a:t>
            </a:r>
            <a:r>
              <a:rPr b="1" lang="de-DE" sz="800" spc="-1" strike="noStrike">
                <a:solidFill>
                  <a:srgbClr val="3a0e66"/>
                </a:solidFill>
                <a:latin typeface="Minion"/>
              </a:rPr>
              <a:t>OTD = On Time Delive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46760" y="3514680"/>
            <a:ext cx="9205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int/temp+c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ating 1 ..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goal 0.25/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60960" y="2070000"/>
            <a:ext cx="890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60 days / 46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bd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next we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ase 07/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48440" y="2076480"/>
            <a:ext cx="890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gt; 8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 2.5/cKL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 1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 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ase 7/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35920" y="2092320"/>
            <a:ext cx="890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gt; 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 2/cKL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 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 5% / 2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wee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3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60960" y="4886280"/>
            <a:ext cx="816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32720" y="4873680"/>
            <a:ext cx="815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 algn="ctr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2.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 algn="ctr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740720" y="4861080"/>
            <a:ext cx="815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 algn="ctr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.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 algn="ctr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83120" y="942840"/>
            <a:ext cx="9572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udget in Eu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arget in Eu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-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Eu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Euro / perc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Euro / perc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Euro absol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Euro / percent</a:t>
            </a:r>
            <a:r>
              <a:rPr b="1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99040" y="939960"/>
            <a:ext cx="9572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349‘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100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245‘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12‘1 / 9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4‘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21‘4</a:t>
            </a:r>
            <a:br>
              <a:rPr sz="1000"/>
            </a:b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       23‘ / 18%/0</a:t>
            </a:r>
            <a:r>
              <a:rPr b="1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15320" y="936720"/>
            <a:ext cx="9572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250‘ (FC345‘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100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-43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-26‘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5‘3/4%/-6‘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3‘5/-1‘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18‘2/-3‘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18‘/14%/-5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31240" y="933480"/>
            <a:ext cx="9572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300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100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-76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-26‘8 - 20‘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0/0%/-12‘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2‘6/-0‘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16‘4/-1‘8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13‘/10%/-10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4840" y="3511440"/>
            <a:ext cx="9205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43% / 5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73% / 2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005/626+4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30/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61040" y="3508200"/>
            <a:ext cx="9208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62% / 3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62% / 3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152 / 7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2.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39160" y="3505320"/>
            <a:ext cx="9205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70% / 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50% / 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400 / 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5516640"/>
            <a:ext cx="6842160" cy="80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e6e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>
              <a:lnSpc>
                <a:spcPct val="100000"/>
              </a:lnSpc>
              <a:spcBef>
                <a:spcPts val="150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  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gile successful in 3 projects:       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uby, Jerry, Gemstone start Q1/06; Jerry del. Sept. 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  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Organization prepared for full Agile: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Organization prepared for 80% Agile in Dec. 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  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tform Strategy with CM  +  TPM: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greed in Q1/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  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oadmap Process with CM  + TPM: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greed in Q1/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299E4-F165-428D-8C09-675AFCDA8038}" type="slidenum">
              <a:t>2</a:t>
            </a:fld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-3240"/>
            <a:ext cx="95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115920"/>
            <a:ext cx="80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Europe RD KPI‘s: Financial Targets 2006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1800" cy="1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435640" y="126828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8120" y="2108160"/>
            <a:ext cx="1055520" cy="432000"/>
          </a:xfrm>
          <a:prstGeom prst="wedgeRoundRectCallout">
            <a:avLst>
              <a:gd name="adj1" fmla="val -16768"/>
              <a:gd name="adj2" fmla="val 69851"/>
              <a:gd name="adj3" fmla="val 16667"/>
            </a:avLst>
          </a:prstGeom>
          <a:solidFill>
            <a:srgbClr val="cc99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文鼎中黑"/>
              </a:rPr>
              <a:t>Missing Co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文鼎中黑"/>
              </a:rPr>
              <a:t>(IT Cost  Ger. 3‘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3500280"/>
            <a:ext cx="4392720" cy="2810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643280" y="3500280"/>
            <a:ext cx="4356360" cy="2808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668840" y="620640"/>
            <a:ext cx="4297320" cy="2808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179280" y="620640"/>
            <a:ext cx="4392720" cy="280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ACC8C-EA19-4C85-A481-A00506D6AE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-3240"/>
            <a:ext cx="95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173160"/>
            <a:ext cx="80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RD Europe KPI‘s: Financial Targets 2006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9480" y="74916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5280" y="6094440"/>
            <a:ext cx="388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文鼎中黑"/>
              </a:rPr>
              <a:t>Jan: Condor, Comorant  Istkoste&lt;Plan 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4464000" cy="2879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633920" y="620640"/>
            <a:ext cx="4330800" cy="2879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79280" y="3573360"/>
            <a:ext cx="4464000" cy="2735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4643280" y="3573360"/>
            <a:ext cx="4321440" cy="273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EB849-6672-4D24-B0E9-3D321530DB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-3240"/>
            <a:ext cx="95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173160"/>
            <a:ext cx="80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RD Europe KPI‘s: Targets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09480" y="74916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5280" y="6094440"/>
            <a:ext cx="388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文鼎中黑"/>
              </a:rPr>
              <a:t>Jan: Condor, Comorant  Istkoste&lt;Plan 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00000" y="4653000"/>
            <a:ext cx="388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文鼎中黑"/>
              </a:rPr>
              <a:t>Next update based on ISR reporting figures per May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24000" y="836640"/>
          <a:ext cx="5400360" cy="3306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836640"/>
                    <a:ext cx="5400360" cy="33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4CFC1-8992-4B6C-8E18-233971F4A8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-3240"/>
            <a:ext cx="95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173160"/>
            <a:ext cx="80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RD  Asia KPI‘s: Targets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9480" y="74916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95280" y="6094440"/>
            <a:ext cx="388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文鼎中黑"/>
              </a:rPr>
              <a:t>Jan: Condor, Comorant  Istkoste&lt;Plan 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68360" y="981000"/>
          <a:ext cx="3529080" cy="2319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981000"/>
                    <a:ext cx="352908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 rot="20647800">
            <a:off x="900000" y="1483920"/>
            <a:ext cx="2448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sia  to be provided next 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48360" y="1557360"/>
            <a:ext cx="31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sia KPI’s to be provided next mon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39597-3D9F-447B-8BD5-33587542BB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-3240"/>
            <a:ext cx="95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1360" y="115920"/>
            <a:ext cx="80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RD Europe Capacity and Hourly Rate (YT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90600" y="620640"/>
            <a:ext cx="4110120" cy="27370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4105440" cy="2950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500720" y="3357720"/>
            <a:ext cx="4319280" cy="28936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4500720" y="631800"/>
            <a:ext cx="4319280" cy="272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1B348-34E5-4692-82B8-BAE1D7D288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KPI Definitions (acc. to signed BTA 6.2.2006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a0e66"/>
                </a:solidFill>
                <a:uFillTx/>
                <a:latin typeface="Minion"/>
              </a:rPr>
              <a:t>Definition: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DTC: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   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Deviation of target cost per class to cost (M3) agreed at M1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or all products having a M1 in 2006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arget cost M 3 per class (target lifecycle cost – 5%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Class                             1            2            3         4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Cost/product             2’9        6’2        16’8      38’           (in mill. €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NCC: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    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cost after M3 for all products having a M3 in 2006. Target -25%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TM: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   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Deviation of actual cost at M3 to cost (M3) agreed at M1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or all products having a M3 in 20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B0434-4C12-41A1-A0DB-AAD44BE8E2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Klaus Wingens</cp:lastModifiedBy>
  <dcterms:modified xsi:type="dcterms:W3CDTF">2006-05-17T11:11:40Z</dcterms:modified>
  <cp:revision>390</cp:revision>
  <dc:subject/>
  <dc:title>PowerPoint 簡報</dc:title>
</cp:coreProperties>
</file>