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5DA1-D63C-49AE-9AAD-43CD5A9C3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D53A-4413-46BC-95F1-CA9B76B70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7C8C-E3BA-482A-BEC2-CADC5863A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4B65-61E7-4B7B-B209-7BFF1A46A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1A1F-5896-4164-B4A3-B89AD27FF2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3911-4438-450A-BFEA-8F4ADEEA4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D160-ACCC-4892-8C4D-A225CAF4EB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F17F-EDE4-4F0F-A0DC-BF4173835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C929-66F2-462D-9B85-43DED2EA7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5200-F037-4122-9CAA-A75F4BEDD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4693-4311-4462-9AFA-60D6E71C3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BA8D-1328-4107-BFFA-CBCCAE68B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D40C-EF51-4891-B0C5-5B77D7132D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C92D-5528-4D02-B8B1-E9D5A070A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5D43-5443-4CF4-9F7C-D1B4AC23E3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DF28-F248-462D-95AB-F8DAD08A18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9BD6-603A-4791-AEF1-7BA29CC3B9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E27-729F-4277-BEBE-1DC13DF3A8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2B8-1F45-4854-81C6-8F0C412555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B86-E6B1-4EDC-9C40-3BB66A8D23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8E2-2545-43B9-9D4E-9C99B60833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BEF-92D2-4808-8882-9CE61F061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1584-E38B-4507-A347-6272B971B1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8CB-0CDD-48C8-AE66-B1D3321B4C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B9A-DBBB-4B75-AA51-B6EE2B8E1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DD3-AE1D-41AE-8A61-B25A684DB7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9C2-6EBB-4B2A-BB61-5E41EBF6C2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4DF-A262-44A6-9FAF-F191FB5B86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B4B-06D6-4BC0-845B-F51040B9DB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B44-8167-4AB5-8D57-82CC0F20DB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140CD-CB08-4E71-9CAA-9C0030F403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8A79-782D-4B0D-BFFE-567ABCDE96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6220-9967-49E9-9B12-9A890F66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6D1D-D5C0-4E68-8170-C6704B7A2B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3213-74EC-4E71-A244-BDDB2BF970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F8145-1640-43C9-8DE5-B8C2945FC2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52AB5-AD86-47A4-992B-A65CD5F21E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F2F69-C143-465E-A5D4-41C1CB63EB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F8D29-08D8-411E-8D25-1FD58D6DC9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72923-3707-43BC-8CB9-CC5BE407DF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629DE-D7D7-49C5-841C-E595113F0F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B6B6-F123-4156-AFB3-4DCCB12A2D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5010A-6B8B-4CFE-BE2E-AD3F3C899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E9F3-AF5C-4A74-B18F-1F5B806DF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0A4B-C9A6-42C2-B95A-9EDA440D4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1828-9DFC-4704-84BD-5E5929454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2692-92F4-4763-9A52-71468A8E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3757-40A0-4FCF-A170-E9BF8AF42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360-A44F-4BAB-B371-4167A4E5EF2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.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5199-6A8C-454C-B1FB-C212FBA29E2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50000" y="5589720"/>
            <a:ext cx="1601640" cy="792000"/>
            <a:chOff x="5850000" y="5589720"/>
            <a:chExt cx="1601640" cy="792000"/>
          </a:xfrm>
        </p:grpSpPr>
        <p:sp>
          <p:nvSpPr>
            <p:cNvPr id="50" name=""/>
            <p:cNvSpPr/>
            <p:nvPr/>
          </p:nvSpPr>
          <p:spPr>
            <a:xfrm>
              <a:off x="5850000" y="5589720"/>
              <a:ext cx="288720" cy="216000"/>
            </a:xfrm>
            <a:prstGeom prst="rect">
              <a:avLst/>
            </a:prstGeom>
            <a:solidFill>
              <a:srgbClr val="d1c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34760" y="5589720"/>
              <a:ext cx="114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&amp;D Board M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50000" y="5878800"/>
              <a:ext cx="288720" cy="215640"/>
            </a:xfrm>
            <a:prstGeom prst="rect">
              <a:avLst/>
            </a:prstGeom>
            <a:solidFill>
              <a:srgbClr val="e9e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92720" y="588024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par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0000" y="6166080"/>
              <a:ext cx="288720" cy="215640"/>
            </a:xfrm>
            <a:prstGeom prst="rect">
              <a:avLst/>
            </a:prstGeom>
            <a:solidFill>
              <a:srgbClr val="e5f5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10360" y="616608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ork To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039-5042-41AF-B754-EE794F47D81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2May06,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3A1-A15E-4DE1-A939-1B0C7ED142A5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223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HE Research &amp; Developm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4573440"/>
            <a:ext cx="5601960" cy="27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, YC Lee, K. Win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Product House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Organizational Overview V.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May, 2nd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CBCE-C0DF-4C61-B863-C6BFB0F907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esearch &amp; Development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2. May 20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esearc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     Dr. YC Lee (deputy)      K. Wingens (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PC Special Projec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hange Mg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R. Scho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1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dustri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 Thonha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WT Liu (liaison A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Taipe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sinchu, Suzh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YC 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M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Mun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394080"/>
            <a:ext cx="10810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Suzhou (Ch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W S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Kamp-Lint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G. Fäss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44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5600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2764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604360" y="2276280"/>
            <a:ext cx="1440" cy="31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27664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Riesme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1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P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,Tools,Met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. Top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. Lefe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ndy T Hu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Be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D. Didascal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38836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64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00220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4328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227664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40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K. W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03280" y="458136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s. Oper.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339408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Manaus (BR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. Mariano L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504972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Aalborg (D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F. Erik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4221000"/>
            <a:ext cx="1079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Hsin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(Taiw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&amp; YJ 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38836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51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7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79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98108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763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6544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422100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Wroclaw (P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O. Di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836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0497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man Ji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997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D62-8864-452E-9219-A0773D599FED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873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&amp;D Center Kamp-Lintfort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4. May 2006                               DRAFT            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Kamp-Lint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Georg Fä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Günter Sei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180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nfred Diet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M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egration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lf We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iddleware &amp;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Luxenbu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227664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ject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lrich Gei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27664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bert Haid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519444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eif Sil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70640" y="51595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rkhard Düm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6" idx="2"/>
            <a:endCxn id="231" idx="3"/>
          </p:cNvCxnSpPr>
          <p:nvPr/>
        </p:nvCxnSpPr>
        <p:spPr>
          <a:xfrm rot="5400000">
            <a:off x="3680640" y="2014560"/>
            <a:ext cx="738720" cy="54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6" idx="2"/>
            <a:endCxn id="232" idx="1"/>
          </p:cNvCxnSpPr>
          <p:nvPr/>
        </p:nvCxnSpPr>
        <p:spPr>
          <a:xfrm flipH="1" rot="16200000">
            <a:off x="4220280" y="2016000"/>
            <a:ext cx="73872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7" idx="0"/>
            <a:endCxn id="230" idx="0"/>
          </p:cNvCxnSpPr>
          <p:nvPr/>
        </p:nvCxnSpPr>
        <p:spPr>
          <a:xfrm flipH="1" rot="16200000">
            <a:off x="586908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2"/>
            <a:endCxn id="229" idx="0"/>
          </p:cNvCxnSpPr>
          <p:nvPr/>
        </p:nvCxnSpPr>
        <p:spPr>
          <a:xfrm rot="5400000">
            <a:off x="3022920" y="2599560"/>
            <a:ext cx="1981800" cy="614880"/>
          </a:xfrm>
          <a:prstGeom prst="bentConnector3">
            <a:avLst>
              <a:gd name="adj1" fmla="val 762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0"/>
            <a:endCxn id="228" idx="0"/>
          </p:cNvCxnSpPr>
          <p:nvPr/>
        </p:nvCxnSpPr>
        <p:spPr>
          <a:xfrm flipH="1" rot="16200000">
            <a:off x="730872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3" idx="0"/>
            <a:endCxn id="234" idx="0"/>
          </p:cNvCxnSpPr>
          <p:nvPr/>
        </p:nvCxnSpPr>
        <p:spPr>
          <a:xfrm flipH="1" flipV="1" rot="5400000">
            <a:off x="6565320" y="3741480"/>
            <a:ext cx="35640" cy="2870640"/>
          </a:xfrm>
          <a:prstGeom prst="bentConnector3">
            <a:avLst>
              <a:gd name="adj1" fmla="val 754081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1" name=""/>
          <p:cNvSpPr/>
          <p:nvPr/>
        </p:nvSpPr>
        <p:spPr>
          <a:xfrm>
            <a:off x="17928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B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Alb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dio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homas Herman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27" idx="0"/>
          </p:cNvCxnSpPr>
          <p:nvPr/>
        </p:nvCxnSpPr>
        <p:spPr>
          <a:xfrm flipH="1" rot="16200000">
            <a:off x="3707280" y="2453760"/>
            <a:ext cx="2520" cy="2883600"/>
          </a:xfrm>
          <a:prstGeom prst="bentConnector3">
            <a:avLst>
              <a:gd name="adj1" fmla="val -29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flipH="1" rot="16200000">
            <a:off x="7596720" y="3500640"/>
            <a:ext cx="1369080" cy="122472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5" name=""/>
          <p:cNvCxnSpPr/>
          <p:nvPr/>
        </p:nvCxnSpPr>
        <p:spPr>
          <a:xfrm>
            <a:off x="7689960" y="49287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41" idx="0"/>
            <a:endCxn id="242" idx="0"/>
          </p:cNvCxnSpPr>
          <p:nvPr/>
        </p:nvCxnSpPr>
        <p:spPr>
          <a:xfrm flipH="1" rot="16200000">
            <a:off x="154620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AA3-1155-4AC7-8327-544EBFDC0780}" type="slidenum">
              <a:t>3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C4B8-595F-47AE-B378-7545D32E7F11}" type="slidenum">
              <a:t>4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faessler</cp:lastModifiedBy>
  <dcterms:modified xsi:type="dcterms:W3CDTF">2006-05-17T09:14:13Z</dcterms:modified>
  <cp:revision>328</cp:revision>
  <dc:subject/>
  <dc:title>PHE R&amp;D Organization Ch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