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EED-DC49-4D31-8A35-B8596DFE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2C4-EE64-4E37-A5B5-B49350D6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9DE-8AB3-4670-85EA-E1652554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744-CD69-41BD-9FD6-E4959385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117-C6FF-4943-8260-B7EF86F6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3EE-8CC9-4DB5-893D-877FEF52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B5F-0A4C-491C-85E4-FF0D9FD1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211-D38B-45A1-9236-6DFFFFE2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E99F-C6E1-4AEF-AD1F-F130BD5D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427-5BD4-467F-8CA1-ECFD34EB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464-9257-4C10-8C99-44797ED7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8C8-4E98-46C6-9147-0C8CE8DE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5A03-8274-4429-9801-A908D153834C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rch 20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3059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Minion"/>
              </a:rPr>
              <a:t>PLM Excellence Program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S. Bocionek/ Dr. J. Eickh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PHE BMG 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, March 20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152280"/>
            <a:ext cx="815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„ Fit 4 Apoxi“: Fässler </a:t>
            </a: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(step 1: Analysis Proje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765000"/>
            <a:ext cx="446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Charter for the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Re-defin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„platform“ in its totality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dressing people, process and product needs. Derive an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timal supplier co-operation model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sed on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as R&amp;D productivity tool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, and having in mind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ximized re-use factor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of all invested efforts (specs, designs, code/features, base product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Future-safety and R&amp;D productivity will come from key informatics principles like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bstraction, componentization, 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nd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ckward-compatible desig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Th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rade-offs between „good platform“ and „market pressure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“ will be analyzed for a concrete product, e.g. Diamond, and described in at least two scenar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Potential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hite spots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in the functionality of Apoxi to allow for a first product will be identified (incl. an estimate of the time to comple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cision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 possible at the end of the analysis phase what th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irst product on Apoxi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, and when we can deliv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bjectives for the „platform“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architecture (incl. 3rd party compone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lease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quirements &amp; CR proc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project management process (incl. 3rd part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development process (ag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training and education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Measure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bstraction layer requirements in place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greed upon rationale for APOXI cost lower native cost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White spots in Apoxi known; IFX comittment to close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poxi product decisions possible for Q1-Q3 2007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plan for next 6 – 12 months ready and agreed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990720"/>
            <a:ext cx="4427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sponsi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gram mgr: Georg Fässler / Uli Gei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: Patric Houben - Chief architect : Norbert Haidu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Team members: nomin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Steering board: SB, Sydon, Mucke, Bjö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&amp; Review (until end of M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and review every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rchitecture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66ff33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Group members identified; committed &lt;0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Workshop abstraction layer : 6.03.06 &lt; 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including all development parties :</a:t>
            </a:r>
            <a:r>
              <a:rPr b="0" lang="en-US" sz="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IFX-Comneon, Aplix, PSE, Tele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Management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lease strategy &lt; 10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quirement platform managemen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cess rollou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8265960" y="41450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8530920" y="4374720"/>
            <a:ext cx="157320" cy="1569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81760" y="4138560"/>
            <a:ext cx="3767040" cy="14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ff33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FIT 4 APOXI workshop currently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ee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Invent the Futur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rengthen IP portfolio of BenQ Mobile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Make invention disclosures part of routine PLM work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imulate fun to invent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gree on invention disclosure targets (Feb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vestigate status and potential measures (Feb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invention initiative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incentive proposal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organisational changes (Apr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90 invention disclosures filed (Jul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180 invention disclosures filed (Dec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 &amp; Dr. Schneider-Hufschmid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, Hartman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"/>
          <p:cNvSpPr/>
          <p:nvPr/>
        </p:nvSpPr>
        <p:spPr>
          <a:xfrm>
            <a:off x="4610160" y="2962440"/>
            <a:ext cx="4448160" cy="277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Invention disclosure targets agr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tatus and potential measures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Organizational change dec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ignment with ISR for invention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Execute organizational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10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Thin Client Phon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Realization of a WLAN VoIP Phone Prototyp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Design like Apple’s iPOD Nano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iority thin packag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kype client must be used.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802.11b/g implementatio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Feature definitions (Jan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disciplinary team starts (Feb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raft Predevelopment Project Plan (Feb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Final Predevelopment Project Plan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Supplier selection HW and SW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deliverables agreed with supplier (Apr.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Component definition done (e.g. Display, etc.)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PCB and Mechanical Design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e running (Jul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ocumentation (Aug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decision (Aug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ject Leader:        V. Ott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"/>
          <p:cNvSpPr/>
          <p:nvPr/>
        </p:nvSpPr>
        <p:spPr>
          <a:xfrm>
            <a:off x="4610160" y="2962440"/>
            <a:ext cx="4448160" cy="361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“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hort List” for supplier selection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raft project plan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irst stack up concept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MC planning imple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ccount op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tart detailed feature definition with C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ix final project plan (Mar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elect system supplier (Mar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17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5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 MD Q-Improvement </a:t>
            </a:r>
            <a:r>
              <a:rPr b="1" lang="de-DE" sz="1800" spc="-1" strike="noStrike">
                <a:solidFill>
                  <a:srgbClr val="3a0e66"/>
                </a:solidFill>
                <a:latin typeface="Arial Unicode MS"/>
              </a:rPr>
              <a:t>( status 17.3.06 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event defects and high return rat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Detect and correct potential problems as early as possib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Focus on PLM – SCM collabor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art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Tool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upplier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&lt; 2% 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Thonhaus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onthly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ject start: Feb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oot cause/ levers : March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-      Start implementation : April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753000"/>
            <a:ext cx="852516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3 sub projectteams installed  ( MD performance, Integrator supplier, MD / SQA interfac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disciplinary teams nominated ( MD, SCM and SP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oot cause and levers defined  ( aligned between all partie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lead products : Onyx and Obsi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face MD –SQA fixed and agreed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- implementation plan  ( March 06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8399160" y="361296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8459640" y="3855600"/>
            <a:ext cx="157320" cy="15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8664480" y="385560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8238960" y="3863880"/>
            <a:ext cx="1620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Best in Test“: Wack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4077000" cy="27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314640" indent="-31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reate 5 significant metrics for performance measurement of ST , e.g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Test coverage, pass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ode coverag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Defect injection analysi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ug handling cycle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inimize number of new bugs detected after S4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test cases for TDD </a:t>
            </a: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for acceptance test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 on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changed lines of code after C3 milestone for componen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1st pass yield (pass rate during first test run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 ST performance based on metrics abov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Rollout of Testdirector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4640" indent="-31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) First metric setup 1.2.06,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 27.1.06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) Complete metric setup 1.5.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1.5.06 incl. first roll out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vailability of required test cases for TDD in pilot scrum team in tim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. incl. first roll ou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. incl. first roll ou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ment targets for ST based on metrics above defined  by 15.05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Buy decision 15.4.05, pilot run 30.7.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Wack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4610160" y="2962440"/>
            <a:ext cx="4448160" cy="36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kickoff with line managers and project leaders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l teams are named, and tasks are in progress as plan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ata collection for all metrics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verage EXIT/day metric introduced, data availa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rinciple workflow for TDD agreed with RD S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– budget for Test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tailed data collection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urther alignment with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32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Model-V“ &amp; PM@PD: TBD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stablish true V-Model for PLM, across whole organization, and for all parts, e.g. HW, SW, MD, …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et up „complete“ horizontal layers of responsibility in the „V“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Define and agree on clear roles and responsibilities across all Org‘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Establish measurable process disciplin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Foster culture of internal customer satisfac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mprove TTM, Quality and cost posi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cess maturity: &g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QA deviations: &l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ternal customer sat &gt; 66%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gram Manager:  SB/WK -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cess def &amp; CR: QP/QA or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onitoring and measuring: Schwab/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Quality Gates Checking: Mgmt team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Find program mgr:  SB,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Alignment with QM/QP, CM, TPM, SCM, SP, PD: SB,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formation Kick-off: SB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KPI‘s complete, and mgmt objectives finalized: en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Start program: Feb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Quo Vadis PHE PD ?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890280"/>
            <a:ext cx="4077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mmunication Campaign in P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confidence in mgm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knowledge &amp; skil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Facilitate cross-dept interac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enjoy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mployee opinion survey after 6 months (and annually after tha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itial target: „66% </a:t>
            </a: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ositive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gram Manager: 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ntributions: mgmt team, 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10160" y="890280"/>
            <a:ext cx="407664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Bi-monthly all hands R&amp;D meeting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mployee opinion survey in summer 20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gmt kick-off workshop: mi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1st all hands R&amp;D meeting: 27. Jan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Breakfast Club 5-Apr-06 (topic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 Orientation and Process Discipline: Harmony or Contradiction?)</a:t>
            </a:r>
            <a:r>
              <a:rPr b="1" i="1" lang="en-US" sz="1400" spc="-1" strike="noStrike">
                <a:solidFill>
                  <a:srgbClr val="ff33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683240"/>
            <a:ext cx="8525160" cy="213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Mar-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cept „Quo Vadis R&amp;D“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cepted by mgmt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ccessful 1st all hands meeting on 31. Jan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All hands R&amp;D meeting on 31-Mar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Breakfast Club 5-Apr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include PHA R&amp;D in combined product house (May 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8399520" y="472716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664480" y="497016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High-Performing Culture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Establish commitment-driven behavio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Goal orient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alistic but agressive plan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r action sett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liable delivery schedul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ccountability culture across team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rvice orientation towards internal customer satisfac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kill optimization of mgmt &amp; staff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75% of all KPI‘s reached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Work satisfaction &gt; 66%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 Bocionek/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coaching: Bocionek / 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erformance Controlling: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Wingen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KPI‘s complete, and mgmt objectives finalized: end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kick-off workshop &amp; first training: mid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1st task for all mgrs: work out PLM excellence projects: end Jan.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erformance monitoring: starts March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atisfaction questionnaire: Sept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LQA / SMR: 1Q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Balanced Score Cards moved to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954680"/>
            <a:ext cx="8525160" cy="18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Mar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KPIs defined and signed in Feb 06; KPI scoreboard set up by K. Win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commitment culture implemented in U2, Fit4Apoxi Workshop, etc. Mgmt team accepts this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at PHE R&amp;D accepted by mgmt team (prototyped within BM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starts in 2nd half of M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Make BSC from KPI scoreboard (Apr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Opinion Poll offered earlier than 3Q06 (tbd in 2Q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8399160" y="490356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8664480" y="514620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Platform &amp; Portfolio“: Bocionek/Eickholt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stablish BenQ Mobile Portfolio, Roadmap Platform as unifying planning tools for whole organiz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ross-organizational workgoup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QA‘ed documentation with approval and change request process of all stakeholders involve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Derive concise strategies for re-use, make-or buy decisions, partner selection and sales program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Start with CM &amp; PHE in 1H06; then involve PHA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Formal documentation and change mgmt in place: Feb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not befor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„</a:t>
            </a: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-use factor“ increased by 33%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&amp;D costs reduced by: tb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ach: Eickholt / Lepol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 Bocionek - Mulholland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report in OPC counc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Quarterly presentation of updated roadmap and portfoli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Alignment with CM, PHE: Eickholt &amp; Lepold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1st portfolio ready for approval: Sydon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Uddated roadmap: Feb.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became Mar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-use strategy doc: Feb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will b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971960"/>
            <a:ext cx="8525160" cy="18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Jan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rst „real“ portfolio/roammap and R&amp;D budget alignment discussion on March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planning based on prioritized roadmap (by CM) on March 20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project back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M needs more systematic approach; should be possible in new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nalize roadmap – budget alignment (Mar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gree on regular update process, every second month (Apr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8399520" y="483192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8664480" y="507492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975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“Real V-Model: </a:t>
            </a:r>
            <a:r>
              <a:rPr b="1" lang="it-IT" sz="2400" spc="-1" strike="noStrike">
                <a:solidFill>
                  <a:srgbClr val="3a0e66"/>
                </a:solidFill>
                <a:latin typeface="Arial Unicode MS"/>
              </a:rPr>
              <a:t>Introduce process culture and discipline</a:t>
            </a: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stablish true V-Model for PLM, across whole organization, and for all parts, e.g. HW, SW, MD, …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Set up „complete“ horizontal layers of responsibility in the „V“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Define and agree on clear roles and responsibilities across all Org‘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Establish measurable process disciplin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Foster culture of internal customer satisfac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mprove TTM, Quality and cost posi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maturity: &g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QA deviations: &l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 &gt; 66%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Manager: Assa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onitoring and measuring: Schwab/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Name project lead (Feb.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don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Plan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star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formation Kick-off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ov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ducation starts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star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isfaction metrics set (Mar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nt. Improvement Process targets set (Apr.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adaptations completed 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(Jun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MMI baseline available (Sep 06)</a:t>
            </a: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70800" y="655560"/>
            <a:ext cx="785520" cy="334800"/>
            <a:chOff x="7570800" y="655560"/>
            <a:chExt cx="785520" cy="334800"/>
          </a:xfrm>
        </p:grpSpPr>
        <p:sp>
          <p:nvSpPr>
            <p:cNvPr id="67" name=""/>
            <p:cNvSpPr/>
            <p:nvPr/>
          </p:nvSpPr>
          <p:spPr>
            <a:xfrm rot="16200000">
              <a:off x="7796160" y="430200"/>
              <a:ext cx="334800" cy="785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7879320" y="725760"/>
              <a:ext cx="194760" cy="192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6200000">
            <a:off x="8086680" y="262404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From Proto-Agile to Full Agile“: U. Schmitz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„Agile with Scrum“ as standard software development pro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totype Agile in Ruby and Gemstone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organization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QMS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Kick-off for selected projects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Organization prepared for full agile transition (1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: Rudolph,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 QA/QMS: Fillers/Grei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-Agile within regular project reviews in the OPC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s/Full transition: monthly mgm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"/>
          <p:cNvSpPr/>
          <p:nvPr/>
        </p:nvSpPr>
        <p:spPr>
          <a:xfrm>
            <a:off x="4559400" y="2421000"/>
            <a:ext cx="426240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nitial transition backlog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oduct Owner for transition defined (S. Bocione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gile Overview and Q&amp;A sessions held in MCH 250, KLF220, WRO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sulting plan with Object Mentors defined and sta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uby project started on Ag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OM consulting order release nee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ioritize and start processing transition back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tart decomposing architecture of Ruby with OM on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nvolve Agile in ‚Fit 4 Apoxi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8307360" y="261576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8246880" y="237312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8511840" y="261576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U2“: Rudolph, Fässl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875880"/>
            <a:ext cx="407700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cure TTM of Polaris, Swift, Swan, Kestrel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ges as key metric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mmitment drive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pen status commun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ast reaction on issu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o compromise on qualit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AM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weekly reporting of commitment and fulfillment (01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Utilize reporting charts as project/PL control methods (02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nable team spirit and competition from reported results (03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U2 as practice in all relevant projects (04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ork packackage table: PD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s: TPM (Asmussen, Topel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Test Trends: PD (Wacker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 U2: 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10160" y="876240"/>
            <a:ext cx="4076640" cy="16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 review: 60min every Wed (all involved PL SW and SW/ST managers)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HE board: JE + SB/WK + TPM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Mar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460600"/>
            <a:ext cx="4178520" cy="28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meetings regularly h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dditional metrics ad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ith practice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proto-Agile Gemstone/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totype Agile with SCRUM in the Swan/Apoxi projec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epare organization for Agi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TTM reached with less than 2 weeks deviation from pla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gr: Dr.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very 2nd month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aunch Feb. 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2448000"/>
            <a:ext cx="4272120" cy="299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Broad Introduction of Methodology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tart Gemstone project on Agile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etup transition team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Mentoring by OM starts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ff3300"/>
                </a:solidFill>
                <a:latin typeface="Arial"/>
                <a:ea typeface="文鼎中黑"/>
              </a:rPr>
              <a:t>support of CPM not available (Robert But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 clean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clear platform concept, includ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defini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architectu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release strateg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toolkit usage concep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Definitions in place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Sub workgroup formed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Kick-off working groups (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-use of platform 7/07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POXI cost below Native cos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gr: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porting and review every 2nd mont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8285040" y="23432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8550000" y="257292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460600"/>
            <a:ext cx="4178520" cy="24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- significant part of the work done during the FIT 4 APOXI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alize FIT 4 APOXI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ndrea Kreilinger</cp:lastModifiedBy>
  <dcterms:modified xsi:type="dcterms:W3CDTF">2006-03-21T09:18:18Z</dcterms:modified>
  <cp:revision>95</cp:revision>
  <dc:subject/>
  <dc:title>PowerPoint 簡報</dc:title>
</cp:coreProperties>
</file>