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D21F-F9F6-46C6-95F7-86D2B1686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23640" y="15192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8E0C-10C0-4D89-ACEF-5BCED93C4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23640" y="15192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E754-74A6-4471-8C9D-F6ADA4E48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23640" y="15192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209A-3BAE-4D9F-9369-45C727231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23640" y="15192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3BE9-FAD4-4BA9-BFA3-866EF13EF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3640" y="15192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5046-A090-4F75-825B-55EAA95D8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3640" y="15192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6453-0476-4501-AB2E-EEC0825E3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3640" y="15192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F032-E69A-4080-AC1E-8F61C6471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23640" y="151920"/>
            <a:ext cx="70102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E5EE-9FC2-4E5A-AC29-889738FF1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3640" y="15192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4F48-23C8-4EF6-BE33-91CCDDF3F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23640" y="15192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B580-C701-4906-81CF-A4CBE0D47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23640" y="15192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0C12-8FBD-4059-B49E-4CE6B8C46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23640" y="15192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E6456-2466-4C3E-AA86-EBC3C73A75EC}" type="slidenum"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71520" y="6362640"/>
            <a:ext cx="506556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</a:t>
            </a:r>
            <a:r>
              <a:rPr b="0" lang="en-US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2006, BenQ mobi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QM PSO, 20 March 2006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24000" y="1004760"/>
            <a:ext cx="4535280" cy="586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Roadmap Definition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Product Definition and Industrial Design</a:t>
            </a:r>
            <a:br>
              <a:rPr sz="12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br>
              <a:rPr sz="12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Make Market/Customer Relationship Management/Sales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SW-Development</a:t>
            </a:r>
            <a:br>
              <a:rPr sz="12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1" lang="en-US" sz="1200" spc="-1" strike="noStrike">
                <a:solidFill>
                  <a:srgbClr val="ff0000"/>
                </a:solidFill>
                <a:latin typeface="Minion"/>
                <a:ea typeface="文鼎中黑"/>
              </a:rPr>
              <a:t>	</a:t>
            </a:r>
            <a:r>
              <a:rPr b="1" lang="en-US" sz="1200" spc="-1" strike="noStrike">
                <a:solidFill>
                  <a:srgbClr val="ff0000"/>
                </a:solidFill>
                <a:latin typeface="Minion"/>
                <a:ea typeface="文鼎中黑"/>
              </a:rPr>
              <a:t>	</a:t>
            </a:r>
            <a:r>
              <a:rPr b="1" lang="en-US" sz="1200" spc="-1" strike="noStrike">
                <a:solidFill>
                  <a:srgbClr val="ff0000"/>
                </a:solidFill>
                <a:latin typeface="Minion"/>
                <a:ea typeface="文鼎中黑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5.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HW Development (incl. RF &amp; Antenna)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br>
              <a:rPr sz="12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6.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Mechanical Design 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7.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System Test 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8.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Project Management, incl. CPM, TPM, BO, VM, GP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9.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SCM (material availability, production technology)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10.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Customer Care, Quality Management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11.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Procurement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404640"/>
            <a:ext cx="662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Process Alignment &amp; Optimization: Staffing of Expert Grou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0" y="789120"/>
            <a:ext cx="2448000" cy="60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3a0e66"/>
                </a:solidFill>
                <a:uFillTx/>
                <a:latin typeface="Minion"/>
                <a:ea typeface="文鼎中黑"/>
              </a:rPr>
              <a:t>Europe</a:t>
            </a:r>
            <a:r>
              <a:rPr b="1" lang="en-US" sz="1600" spc="-1" strike="noStrike" u="sng">
                <a:solidFill>
                  <a:srgbClr val="3a0e66"/>
                </a:solidFill>
                <a:uFillTx/>
                <a:latin typeface="Minion"/>
                <a:ea typeface="文鼎中黑"/>
              </a:rPr>
              <a:t>	</a:t>
            </a:r>
            <a:r>
              <a:rPr b="1" lang="en-US" sz="1600" spc="-1" strike="noStrike" u="sng">
                <a:solidFill>
                  <a:srgbClr val="3a0e66"/>
                </a:solidFill>
                <a:uFillTx/>
                <a:latin typeface="Minion"/>
                <a:ea typeface="文鼎中黑"/>
              </a:rPr>
              <a:t>	</a:t>
            </a:r>
            <a:r>
              <a:rPr b="1" lang="en-US" sz="1600" spc="-1" strike="noStrike" u="sng">
                <a:solidFill>
                  <a:srgbClr val="3a0e66"/>
                </a:solidFill>
                <a:uFillTx/>
                <a:latin typeface="Minion"/>
                <a:ea typeface="文鼎中黑"/>
              </a:rPr>
              <a:t>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(K. Ratsimbazafy, R. Mayr, </a:t>
            </a:r>
            <a:br>
              <a:rPr sz="1200"/>
            </a:b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M. Mildenberger, </a:t>
            </a:r>
            <a:r>
              <a:rPr b="1" lang="en-US" sz="1200" spc="-1" strike="noStrike">
                <a:solidFill>
                  <a:srgbClr val="ff3300"/>
                </a:solidFill>
                <a:latin typeface="Minion"/>
                <a:ea typeface="文鼎中黑"/>
              </a:rPr>
              <a:t>H. Höckenreiner?,</a:t>
            </a:r>
            <a:br>
              <a:rPr sz="1200"/>
            </a:br>
            <a:r>
              <a:rPr b="1" lang="en-US" sz="1200" spc="-1" strike="noStrike">
                <a:solidFill>
                  <a:srgbClr val="ff3300"/>
                </a:solidFill>
                <a:latin typeface="Minion"/>
                <a:ea typeface="文鼎中黑"/>
              </a:rPr>
              <a:t>PH representative?</a:t>
            </a:r>
            <a:r>
              <a:rPr b="1" sz="1200" spc="-1" strike="noStrike">
                <a:solidFill>
                  <a:srgbClr val="ff3300"/>
                </a:solidFill>
                <a:latin typeface="Minion"/>
                <a:ea typeface="文鼎中黑"/>
              </a:rPr>
              <a:t>,</a:t>
            </a:r>
            <a:r>
              <a:rPr b="0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T</a:t>
            </a:r>
            <a:r>
              <a:rPr b="0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PM</a:t>
            </a: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 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(M. Mildenberger, </a:t>
            </a:r>
            <a:br>
              <a:rPr sz="1200"/>
            </a:b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S. Haas, R. Voig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(???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Minion"/>
                <a:ea typeface="文鼎中黑"/>
              </a:rPr>
              <a:t>(M. Weigang?, T. Hagemann?, </a:t>
            </a:r>
            <a:br>
              <a:rPr sz="1200"/>
            </a:br>
            <a:r>
              <a:rPr b="1" lang="en-US" sz="1200" spc="-1" strike="noStrike">
                <a:solidFill>
                  <a:srgbClr val="ff3300"/>
                </a:solidFill>
                <a:latin typeface="Minion"/>
                <a:ea typeface="文鼎中黑"/>
              </a:rPr>
              <a:t>M. Topel?)</a:t>
            </a:r>
            <a:br>
              <a:rPr sz="1200"/>
            </a:br>
            <a:r>
              <a:rPr b="1" lang="en-US" sz="1200" spc="-1" strike="noStrike">
                <a:solidFill>
                  <a:srgbClr val="ff3300"/>
                </a:solidFill>
                <a:latin typeface="Minion"/>
                <a:ea typeface="文鼎中黑"/>
              </a:rPr>
              <a:t>	</a:t>
            </a:r>
            <a:r>
              <a:rPr b="1" lang="en-US" sz="1200" spc="-1" strike="noStrike">
                <a:solidFill>
                  <a:srgbClr val="ff3300"/>
                </a:solidFill>
                <a:latin typeface="Minion"/>
                <a:ea typeface="文鼎中黑"/>
              </a:rPr>
              <a:t>	</a:t>
            </a:r>
            <a:r>
              <a:rPr b="1" lang="en-US" sz="1200" spc="-1" strike="noStrike">
                <a:solidFill>
                  <a:srgbClr val="ff3300"/>
                </a:solidFill>
                <a:latin typeface="Minion"/>
                <a:ea typeface="文鼎中黑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Minion"/>
                <a:ea typeface="文鼎中黑"/>
              </a:rPr>
              <a:t>(H. Höckenreiner?, J. Bauregger?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Minion"/>
                <a:ea typeface="文鼎中黑"/>
              </a:rPr>
              <a:t>(K. Kroesen?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Minion"/>
                <a:ea typeface="文鼎中黑"/>
              </a:rPr>
              <a:t>(G. Evangelista?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(M. Mildenberger?, A. Betting?, </a:t>
            </a:r>
            <a:br>
              <a:rPr sz="1200"/>
            </a:b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B. Flierl?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(A. Vaeckenstedt) </a:t>
            </a: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(Z. Kirin)</a:t>
            </a: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(E. Kutzner ?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48360" y="789120"/>
            <a:ext cx="2195640" cy="55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3a0e66"/>
                </a:solidFill>
                <a:uFillTx/>
                <a:latin typeface="Minion"/>
                <a:ea typeface="文鼎中黑"/>
              </a:rPr>
              <a:t>Asia</a:t>
            </a:r>
            <a:r>
              <a:rPr b="1" lang="en-US" sz="1600" spc="-1" strike="noStrike" u="sng">
                <a:solidFill>
                  <a:srgbClr val="3a0e66"/>
                </a:solidFill>
                <a:uFillTx/>
                <a:latin typeface="Minion"/>
                <a:ea typeface="文鼎中黑"/>
              </a:rPr>
              <a:t>	</a:t>
            </a:r>
            <a:r>
              <a:rPr b="1" lang="en-US" sz="1600" spc="-1" strike="noStrike" u="sng">
                <a:solidFill>
                  <a:srgbClr val="3a0e66"/>
                </a:solidFill>
                <a:uFillTx/>
                <a:latin typeface="Minion"/>
                <a:ea typeface="文鼎中黑"/>
              </a:rPr>
              <a:t>	</a:t>
            </a:r>
            <a:r>
              <a:rPr b="1" lang="en-US" sz="1600" spc="-1" strike="noStrike" u="sng">
                <a:solidFill>
                  <a:srgbClr val="3a0e66"/>
                </a:solidFill>
                <a:uFillTx/>
                <a:latin typeface="Minion"/>
                <a:ea typeface="文鼎中黑"/>
              </a:rPr>
              <a:t>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Wentai Hsu, Barry Da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Arthur Wang, Barry Lia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Arthur Wang, Barry Lia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Sumei Lin, Fred Hsieh, </a:t>
            </a:r>
            <a:br>
              <a:rPr sz="12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Rich Liu</a:t>
            </a:r>
            <a:r>
              <a:rPr b="1" lang="en-US" sz="1200" spc="-1" strike="noStrike">
                <a:solidFill>
                  <a:srgbClr val="ff0000"/>
                </a:solidFill>
                <a:latin typeface="Minion"/>
                <a:ea typeface="文鼎中黑"/>
              </a:rPr>
              <a:t>	</a:t>
            </a:r>
            <a:r>
              <a:rPr b="1" lang="en-US" sz="1200" spc="-1" strike="noStrike">
                <a:solidFill>
                  <a:srgbClr val="ff0000"/>
                </a:solidFill>
                <a:latin typeface="Minion"/>
                <a:ea typeface="文鼎中黑"/>
              </a:rPr>
              <a:t>	</a:t>
            </a:r>
            <a:r>
              <a:rPr b="1" lang="en-US" sz="1200" spc="-1" strike="noStrike">
                <a:solidFill>
                  <a:srgbClr val="ff0000"/>
                </a:solidFill>
                <a:latin typeface="Minion"/>
                <a:ea typeface="文鼎中黑"/>
              </a:rPr>
              <a:t>	</a:t>
            </a:r>
            <a:r>
              <a:rPr b="1" lang="en-US" sz="1200" spc="-1" strike="noStrike">
                <a:solidFill>
                  <a:srgbClr val="ff0000"/>
                </a:solidFill>
                <a:latin typeface="Minion"/>
                <a:ea typeface="文鼎中黑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Fuji Yang, Wenchin Shou, </a:t>
            </a:r>
            <a:br>
              <a:rPr sz="12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Hook C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Ryan M Chen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Norman Jiang, Robert Lo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Abbie Tseng, Rick Lin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Li Zhou, Jerry Y Hsu, </a:t>
            </a:r>
            <a:br>
              <a:rPr sz="12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Allen Yau</a:t>
            </a:r>
            <a:br>
              <a:rPr sz="12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Justin Ko,  JR Chang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Eric Kao, Thisbe T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8000" y="2805120"/>
            <a:ext cx="8928000" cy="1873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08000" y="1197000"/>
            <a:ext cx="8928000" cy="64764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eve.huang</dc:creator>
  <dc:description/>
  <dc:language>en-US</dc:language>
  <cp:lastModifiedBy>Dr. Assan</cp:lastModifiedBy>
  <dcterms:modified xsi:type="dcterms:W3CDTF">2006-03-20T12:38:29Z</dcterms:modified>
  <cp:revision>225</cp:revision>
  <dc:subject/>
  <dc:title>PowerPoint 簡報</dc:title>
</cp:coreProperties>
</file>