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C97-BB60-45B5-A0E1-591C3FF9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3C9-F07F-4D60-9FDB-043346C5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5688-A941-4199-B35F-7E9A349A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720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06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40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720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06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0FFE-376F-406D-992D-A7BA2519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45C-8FDC-4615-B70C-6F7018CD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B03-B185-4672-BF41-BF8DD4F9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6C20-3957-42B9-8251-356E5175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234-7D15-49F9-BFBF-DA391FDA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080" y="151920"/>
            <a:ext cx="88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329-CBF5-4A4C-B138-306E981E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BC1-52DD-4E0E-8ED4-D5244977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B2A-2CBD-423D-8784-92841B70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03C-4316-41E0-8AD1-BEE4444E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F34B-EE8A-413C-BE86-B73E9F2C20BF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@2006, BenQ Mobile – Product House Europe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fld id="{51B409D2-6047-4AF5-B15C-379B17CF1D39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11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image" Target="../media/image10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11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1.wmf"/><Relationship Id="rId25" Type="http://schemas.openxmlformats.org/officeDocument/2006/relationships/image" Target="../media/image9.wmf"/><Relationship Id="rId26" Type="http://schemas.openxmlformats.org/officeDocument/2006/relationships/image" Target="../media/image11.wmf"/><Relationship Id="rId27" Type="http://schemas.openxmlformats.org/officeDocument/2006/relationships/image" Target="../media/image9.wmf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560" y="2158560"/>
            <a:ext cx="7916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Product House Europe</a:t>
            </a:r>
            <a:br>
              <a:rPr sz="3600"/>
            </a:b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PD-Status TPM1</a:t>
            </a:r>
            <a:br>
              <a:rPr sz="3600"/>
            </a:br>
            <a:r>
              <a:rPr b="1" lang="zh-TW" sz="2800" spc="-1" strike="noStrike">
                <a:solidFill>
                  <a:srgbClr val="ffffff"/>
                </a:solidFill>
                <a:latin typeface="Minion"/>
              </a:rPr>
              <a:t>QualComm based products</a:t>
            </a:r>
            <a:br>
              <a:rPr sz="2800"/>
            </a:b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58920" y="5037120"/>
            <a:ext cx="359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Mario T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06. March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Highlights/Lowlight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20.02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49280" y="907920"/>
            <a:ext cx="251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inion"/>
              </a:rPr>
              <a:t>Product Develo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280" y="1349280"/>
            <a:ext cx="8277120" cy="1440000"/>
          </a:xfrm>
          <a:prstGeom prst="roundRect">
            <a:avLst>
              <a:gd name="adj" fmla="val 16667"/>
            </a:avLst>
          </a:prstGeom>
          <a:solidFill>
            <a:srgbClr val="cc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62080" y="1362240"/>
            <a:ext cx="731520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0360" y="1438200"/>
            <a:ext cx="269640" cy="2700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79640" y="1403280"/>
            <a:ext cx="75578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EF81: Further support incl. April 06 agreed with Qual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Onyx: M1-HW declared on Feb 24th / M1-SW planned on March 17t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  Antenna performance increased by 1.5dBm to 15.5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Ruby M0 declared on March 3rd by Project Team / 6280-SLA signed by BenQ/Q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- Koala project restarted, TPM assig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Mallow project started, TPM assig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49280" y="2878200"/>
            <a:ext cx="8277120" cy="1439640"/>
            <a:chOff x="449280" y="2878200"/>
            <a:chExt cx="8277120" cy="1439640"/>
          </a:xfrm>
        </p:grpSpPr>
        <p:sp>
          <p:nvSpPr>
            <p:cNvPr id="53" name=""/>
            <p:cNvSpPr/>
            <p:nvPr/>
          </p:nvSpPr>
          <p:spPr>
            <a:xfrm>
              <a:off x="1162080" y="3070080"/>
              <a:ext cx="73152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t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9280" y="2878200"/>
              <a:ext cx="8277120" cy="143964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62080" y="3070080"/>
              <a:ext cx="73152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t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0360" y="3238560"/>
              <a:ext cx="269640" cy="269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inio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79640" y="2914560"/>
              <a:ext cx="7557840" cy="13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tIns="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inio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SXG75: volumes still only 56k over LC. Scrap risk 6’7€. SFR deal cancelled!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inio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EF81: Still increasing overall number of defects (esp. from operator tests). Netto bug</a:t>
              </a:r>
              <a:br>
                <a:rPr sz="1700"/>
              </a:b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  fix rate of 100 per week not reached </a:t>
              </a:r>
              <a:r>
                <a:rPr b="1" lang="en-US" sz="1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DS delayed to March 29th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inio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Still significantly component shortage (e.g. KHVatec) / additional quality problems</a:t>
              </a:r>
              <a:br>
                <a:rPr sz="1700"/>
              </a:b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  with mechanics and earpie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49280" y="4497480"/>
            <a:ext cx="251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inion"/>
              </a:rPr>
              <a:t>General Tas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1160" y="5133960"/>
            <a:ext cx="7315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4941720"/>
            <a:ext cx="8277120" cy="1440000"/>
          </a:xfrm>
          <a:prstGeom prst="roundRect">
            <a:avLst>
              <a:gd name="adj" fmla="val 16667"/>
            </a:avLst>
          </a:prstGeom>
          <a:solidFill>
            <a:srgbClr val="cc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81160" y="5133960"/>
            <a:ext cx="7315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9440" y="5302080"/>
            <a:ext cx="269640" cy="2700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98720" y="4978440"/>
            <a:ext cx="75578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Team staffing Koal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Team staffing Mallo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Comparison Kestrel vs. Macross C1 in terms of project setup / costs etc. as best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  practice shar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Kestrel nCCPi-Statistic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5567400" cy="3865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19640" y="1052640"/>
            <a:ext cx="5616360" cy="27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Kestrel nCCPi-Statistic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1201680"/>
            <a:ext cx="8817120" cy="35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Defect Rat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1096920"/>
            <a:ext cx="8817120" cy="3052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269120" y="2205000"/>
            <a:ext cx="43200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78200" y="2247840"/>
            <a:ext cx="1512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Defect Rat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915840"/>
            <a:ext cx="881712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8920" y="126720"/>
            <a:ext cx="82771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Current defects vs. commitments               </a:t>
            </a: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77120" cy="60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w Roadmap as of 10.02.2006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3G dominates new portfolio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08000" y="622440"/>
            <a:ext cx="8908200" cy="5830920"/>
            <a:chOff x="108000" y="622440"/>
            <a:chExt cx="8908200" cy="5830920"/>
          </a:xfrm>
        </p:grpSpPr>
        <p:sp>
          <p:nvSpPr>
            <p:cNvPr id="86" name=""/>
            <p:cNvSpPr/>
            <p:nvPr/>
          </p:nvSpPr>
          <p:spPr>
            <a:xfrm>
              <a:off x="108000" y="1312920"/>
              <a:ext cx="534960" cy="49957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12960" y="1182600"/>
              <a:ext cx="207000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51520" y="1182600"/>
              <a:ext cx="206856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2960" y="1182600"/>
              <a:ext cx="207000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82960" y="1182600"/>
              <a:ext cx="206856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2960" y="1052640"/>
              <a:ext cx="8277120" cy="12996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1280" y="1312920"/>
              <a:ext cx="8277120" cy="499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9876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056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06920" y="1063800"/>
              <a:ext cx="346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Y20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3732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0912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2960" y="530064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2960" y="386064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2960" y="242100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296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152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1296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3344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2248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403440" y="1312920"/>
              <a:ext cx="688680" cy="4995360"/>
              <a:chOff x="3403440" y="1312920"/>
              <a:chExt cx="688680" cy="4995360"/>
            </a:xfrm>
          </p:grpSpPr>
          <p:sp>
            <p:nvSpPr>
              <p:cNvPr id="107" name=""/>
              <p:cNvSpPr/>
              <p:nvPr/>
            </p:nvSpPr>
            <p:spPr>
              <a:xfrm>
                <a:off x="340344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09212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472000" y="1312920"/>
              <a:ext cx="688680" cy="4995360"/>
              <a:chOff x="5472000" y="1312920"/>
              <a:chExt cx="688680" cy="4995360"/>
            </a:xfrm>
          </p:grpSpPr>
          <p:sp>
            <p:nvSpPr>
              <p:cNvPr id="110" name=""/>
              <p:cNvSpPr/>
              <p:nvPr/>
            </p:nvSpPr>
            <p:spPr>
              <a:xfrm>
                <a:off x="547200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16068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540560" y="1312920"/>
              <a:ext cx="688680" cy="4995360"/>
              <a:chOff x="7540560" y="1312920"/>
              <a:chExt cx="688680" cy="4995360"/>
            </a:xfrm>
          </p:grpSpPr>
          <p:sp>
            <p:nvSpPr>
              <p:cNvPr id="113" name=""/>
              <p:cNvSpPr/>
              <p:nvPr/>
            </p:nvSpPr>
            <p:spPr>
              <a:xfrm>
                <a:off x="754056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22924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>
              <a:hlinkClick r:id="rId1" action="ppaction://hlinksldjump"/>
            </p:cNvPr>
            <p:cNvSpPr/>
            <p:nvPr/>
          </p:nvSpPr>
          <p:spPr>
            <a:xfrm rot="16200000">
              <a:off x="-131040" y="2970720"/>
              <a:ext cx="98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Perform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7840" y="3141720"/>
              <a:ext cx="87152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0040" y="2647800"/>
              <a:ext cx="156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>
              <a:hlinkClick r:id="rId2" action="ppaction://hlinksldjump"/>
            </p:cNvPr>
            <p:cNvSpPr/>
            <p:nvPr/>
          </p:nvSpPr>
          <p:spPr>
            <a:xfrm rot="16200000">
              <a:off x="-127080" y="4431960"/>
              <a:ext cx="1032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Image/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0040" y="4129200"/>
              <a:ext cx="156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0040" y="5465880"/>
              <a:ext cx="1562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>
              <a:hlinkClick r:id="rId3" action="ppaction://hlinksldjump"/>
            </p:cNvPr>
            <p:cNvSpPr/>
            <p:nvPr/>
          </p:nvSpPr>
          <p:spPr>
            <a:xfrm rot="16200000">
              <a:off x="-12240" y="5704200"/>
              <a:ext cx="80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Afford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>
              <a:hlinkClick r:id="rId4" action="ppaction://hlinksldjump"/>
            </p:cNvPr>
            <p:cNvSpPr/>
            <p:nvPr/>
          </p:nvSpPr>
          <p:spPr>
            <a:xfrm rot="16200000">
              <a:off x="81720" y="1630800"/>
              <a:ext cx="582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Pa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0040" y="1539720"/>
              <a:ext cx="1562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8101080" y="622440"/>
              <a:ext cx="169920" cy="3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1960" y="71928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6"/>
            <a:stretch/>
          </p:blipFill>
          <p:spPr>
            <a:xfrm>
              <a:off x="8532720" y="630360"/>
              <a:ext cx="166680" cy="3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672400" y="70956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2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2280" y="1376280"/>
              <a:ext cx="1126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ldstone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02920" y="5153040"/>
              <a:ext cx="91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arl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Moonston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72360" y="5229360"/>
              <a:ext cx="77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rgonite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Lolit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3120" y="5877000"/>
              <a:ext cx="1102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Zir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de-DE" sz="900" spc="-1" strike="noStrike">
                  <a:solidFill>
                    <a:srgbClr val="000000"/>
                  </a:solidFill>
                  <a:latin typeface="Arial"/>
                </a:rPr>
                <a:t>Low cost ownershi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67120" y="3068640"/>
              <a:ext cx="14425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umen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de-DE" sz="900" spc="-1" strike="noStrike">
                  <a:solidFill>
                    <a:srgbClr val="000000"/>
                  </a:solidFill>
                  <a:latin typeface="Arial"/>
                </a:rPr>
                <a:t>Multimedia for the mass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88000" y="3794040"/>
              <a:ext cx="129456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ystal - 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ysterious sens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86920" y="2276640"/>
              <a:ext cx="74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uby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57240" y="3860640"/>
              <a:ext cx="695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amo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31640" y="2997360"/>
              <a:ext cx="1017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tinum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56880" y="5661000"/>
              <a:ext cx="643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Marten) </a:t>
              </a:r>
              <a:br>
                <a:rPr sz="10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32000" y="3213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82600" y="6029280"/>
              <a:ext cx="3650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4360" y="4365720"/>
              <a:ext cx="16938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aol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Intensively Femin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9640" y="4662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3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58920" y="2637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57240" y="41688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62280" y="404028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Luxury style state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1547640" y="387360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8"/>
            <a:stretch/>
          </p:blipFill>
          <p:spPr>
            <a:xfrm>
              <a:off x="2340000" y="4365720"/>
              <a:ext cx="2271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9"/>
            <a:stretch/>
          </p:blipFill>
          <p:spPr>
            <a:xfrm>
              <a:off x="2916360" y="299880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10"/>
            <a:stretch/>
          </p:blipFill>
          <p:spPr>
            <a:xfrm>
              <a:off x="1549440" y="567360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139280" y="375444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rnet - 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13080" y="40514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5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40360" y="3933720"/>
              <a:ext cx="10792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The sculp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11"/>
            <a:stretch/>
          </p:blipFill>
          <p:spPr>
            <a:xfrm>
              <a:off x="3851280" y="3798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667240" y="2346480"/>
              <a:ext cx="7808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ala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81240" y="2708280"/>
              <a:ext cx="365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2"/>
            <a:stretch/>
          </p:blipFill>
          <p:spPr>
            <a:xfrm>
              <a:off x="2792520" y="2492280"/>
              <a:ext cx="22680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075280" y="16304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7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13"/>
            <a:stretch/>
          </p:blipFill>
          <p:spPr>
            <a:xfrm>
              <a:off x="7165800" y="372600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4"/>
            <a:stretch/>
          </p:blipFill>
          <p:spPr>
            <a:xfrm>
              <a:off x="2484360" y="5229360"/>
              <a:ext cx="2271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5"/>
            <a:stretch/>
          </p:blipFill>
          <p:spPr>
            <a:xfrm>
              <a:off x="1114560" y="5157720"/>
              <a:ext cx="2649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454880" y="4086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10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51640" y="3357720"/>
              <a:ext cx="3632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8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01840" y="5445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1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4920" y="6165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68760" y="5597640"/>
              <a:ext cx="3632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3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6"/>
            <a:stretch/>
          </p:blipFill>
          <p:spPr>
            <a:xfrm>
              <a:off x="1619280" y="242568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17"/>
            <a:stretch/>
          </p:blipFill>
          <p:spPr>
            <a:xfrm>
              <a:off x="3059280" y="587700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499000" y="5381640"/>
              <a:ext cx="695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ns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8"/>
            <a:stretch/>
          </p:blipFill>
          <p:spPr>
            <a:xfrm>
              <a:off x="5219640" y="5373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560920" y="5589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7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9"/>
            <a:stretch/>
          </p:blipFill>
          <p:spPr>
            <a:xfrm>
              <a:off x="4859280" y="1306440"/>
              <a:ext cx="22716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0"/>
            <a:stretch/>
          </p:blipFill>
          <p:spPr>
            <a:xfrm>
              <a:off x="1635120" y="3006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905480" y="2995560"/>
              <a:ext cx="10767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gania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08000" y="3292560"/>
              <a:ext cx="365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30560" y="1782720"/>
              <a:ext cx="8251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lvers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32720" y="1998720"/>
              <a:ext cx="3650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9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56280" y="4083120"/>
              <a:ext cx="704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a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24240" y="43736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21"/>
            <a:stretch/>
          </p:blipFill>
          <p:spPr>
            <a:xfrm>
              <a:off x="6516720" y="1773360"/>
              <a:ext cx="20628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2"/>
            <a:stretch/>
          </p:blipFill>
          <p:spPr>
            <a:xfrm>
              <a:off x="3059280" y="4014720"/>
              <a:ext cx="2649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594400" y="4002120"/>
              <a:ext cx="511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le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24360" y="42973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8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23"/>
            <a:stretch/>
          </p:blipFill>
          <p:spPr>
            <a:xfrm>
              <a:off x="6153120" y="401472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24"/>
            <a:stretch/>
          </p:blipFill>
          <p:spPr>
            <a:xfrm>
              <a:off x="5435640" y="3106800"/>
              <a:ext cx="22680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734160" y="3429000"/>
              <a:ext cx="108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itanium - 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25"/>
            <a:stretch/>
          </p:blipFill>
          <p:spPr>
            <a:xfrm>
              <a:off x="6516720" y="347328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41840" y="5084640"/>
              <a:ext cx="550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unz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26"/>
            <a:stretch/>
          </p:blipFill>
          <p:spPr>
            <a:xfrm>
              <a:off x="4354560" y="5084640"/>
              <a:ext cx="22680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410920" y="1628640"/>
              <a:ext cx="874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llow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27"/>
            <a:stretch/>
          </p:blipFill>
          <p:spPr>
            <a:xfrm>
              <a:off x="2916360" y="177804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411280" y="2070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18280" y="414648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tyle expre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24240" y="425592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Fun expre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29480" y="3654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9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43280" y="5373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6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1280" y="5661000"/>
              <a:ext cx="1297080" cy="289080"/>
            </a:xfrm>
            <a:prstGeom prst="wedgeRectCallout">
              <a:avLst>
                <a:gd name="adj1" fmla="val 2143"/>
                <a:gd name="adj2" fmla="val -140657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Under discu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Need a reposition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36000" y="2997360"/>
              <a:ext cx="792000" cy="287280"/>
            </a:xfrm>
            <a:prstGeom prst="wedgeRectCallout">
              <a:avLst>
                <a:gd name="adj1" fmla="val -62222"/>
                <a:gd name="adj2" fmla="val 10082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3G/ED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Low 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28000" y="3500280"/>
              <a:ext cx="647640" cy="216000"/>
            </a:xfrm>
            <a:prstGeom prst="wedgeRectCallout">
              <a:avLst>
                <a:gd name="adj1" fmla="val -64949"/>
                <a:gd name="adj2" fmla="val 11764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Onyx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96000" y="2708280"/>
              <a:ext cx="792000" cy="289080"/>
            </a:xfrm>
            <a:prstGeom prst="wedgeRectCallout">
              <a:avLst>
                <a:gd name="adj1" fmla="val -41782"/>
                <a:gd name="adj2" fmla="val 74726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OL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Multimed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3640" y="4437000"/>
              <a:ext cx="792360" cy="289080"/>
            </a:xfrm>
            <a:prstGeom prst="wedgeRectCallout">
              <a:avLst>
                <a:gd name="adj1" fmla="val -87874"/>
                <a:gd name="adj2" fmla="val -5988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Diamond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92360" y="2060640"/>
              <a:ext cx="792360" cy="433440"/>
            </a:xfrm>
            <a:prstGeom prst="wedgeRectCallout">
              <a:avLst>
                <a:gd name="adj1" fmla="val -41782"/>
                <a:gd name="adj2" fmla="val 66481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GP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Landsca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08360" y="2565360"/>
              <a:ext cx="1150920" cy="432000"/>
            </a:xfrm>
            <a:prstGeom prst="wedgeRectCallout">
              <a:avLst>
                <a:gd name="adj1" fmla="val -51791"/>
                <a:gd name="adj2" fmla="val 8639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3G/EDGE/HSDPA &amp; V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43280" y="3573360"/>
              <a:ext cx="865080" cy="360360"/>
            </a:xfrm>
            <a:prstGeom prst="wedgeRectCallout">
              <a:avLst>
                <a:gd name="adj1" fmla="val -5412"/>
                <a:gd name="adj2" fmla="val 85680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SWIFT 3G ultra-sli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0360" y="1989000"/>
              <a:ext cx="792000" cy="358920"/>
            </a:xfrm>
            <a:prstGeom prst="wedgeRectCallout">
              <a:avLst>
                <a:gd name="adj1" fmla="val -82865"/>
                <a:gd name="adj2" fmla="val -3584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Waterproof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51280" y="1413000"/>
              <a:ext cx="793800" cy="215640"/>
            </a:xfrm>
            <a:prstGeom prst="wedgeRectCallout">
              <a:avLst>
                <a:gd name="adj1" fmla="val 90800"/>
                <a:gd name="adj2" fmla="val -4191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camcor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8000" y="4869000"/>
              <a:ext cx="863640" cy="360360"/>
            </a:xfrm>
            <a:prstGeom prst="wedgeRectCallout">
              <a:avLst>
                <a:gd name="adj1" fmla="val -40439"/>
                <a:gd name="adj2" fmla="val 92291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Quail with Came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51280" y="6237360"/>
              <a:ext cx="649440" cy="216000"/>
            </a:xfrm>
            <a:prstGeom prst="wedgeRectCallout">
              <a:avLst>
                <a:gd name="adj1" fmla="val -80319"/>
                <a:gd name="adj2" fmla="val -72796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Jasper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4360" y="2924280"/>
              <a:ext cx="865080" cy="433440"/>
            </a:xfrm>
            <a:prstGeom prst="wedgeRectCallout">
              <a:avLst>
                <a:gd name="adj1" fmla="val 63944"/>
                <a:gd name="adj2" fmla="val 31319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ROBUST GPS &amp; V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27280" y="4508640"/>
              <a:ext cx="649440" cy="360360"/>
            </a:xfrm>
            <a:prstGeom prst="wedgeRectCallout">
              <a:avLst>
                <a:gd name="adj1" fmla="val -75671"/>
                <a:gd name="adj2" fmla="val -4515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Poppy 3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56360" y="5516640"/>
              <a:ext cx="647640" cy="217440"/>
            </a:xfrm>
            <a:prstGeom prst="wedgeRectCallout">
              <a:avLst>
                <a:gd name="adj1" fmla="val -93384"/>
                <a:gd name="adj2" fmla="val -1934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Amber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0000" y="4724280"/>
              <a:ext cx="935280" cy="360360"/>
            </a:xfrm>
            <a:prstGeom prst="wedgeRectCallout">
              <a:avLst>
                <a:gd name="adj1" fmla="val -16722"/>
                <a:gd name="adj2" fmla="val 105504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Flamingo with Camer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w Roadmap as of 10.02.2006 – Updated acc. CTO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3G dominates new portfolio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272360" cy="5389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Kai Fischer</dc:creator>
  <dc:description/>
  <dc:language>en-US</dc:language>
  <cp:lastModifiedBy>Mario Topel</cp:lastModifiedBy>
  <dcterms:modified xsi:type="dcterms:W3CDTF">2006-03-06T15:03:29Z</dcterms:modified>
  <cp:revision>157</cp:revision>
  <dc:subject/>
  <dc:title>PHE</dc:title>
</cp:coreProperties>
</file>