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1B0-2E78-457A-AC38-E8D2DD8A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9FC-081F-4EE7-856C-6D55815E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414-EC2E-4343-AE62-CC849BBA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B80-7E3B-457D-AFA9-8E0CF99B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C96-C198-4E2E-AF5C-E450E0CD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1FB-C471-42D0-8F86-2ABB0F36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5E4-93FE-4E40-9A2D-7C92A1C2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AD0-B1CE-4ACE-8A3A-D503E001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CCA-130B-4081-9B50-BF097568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841-6507-40E5-9683-FB173329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AE9-B40D-471E-88C4-2CFA1ED6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E2D-533A-43E5-BD87-3C76B43B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05E1-17F7-4614-AF9F-A9118D176445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5D45F4F8-0C29-466C-9CD9-064562CC56B8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5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5.wmf"/><Relationship Id="rId25" Type="http://schemas.openxmlformats.org/officeDocument/2006/relationships/image" Target="../media/image3.wmf"/><Relationship Id="rId26" Type="http://schemas.openxmlformats.org/officeDocument/2006/relationships/image" Target="../media/image5.wmf"/><Relationship Id="rId27" Type="http://schemas.openxmlformats.org/officeDocument/2006/relationships/image" Target="../media/image3.wmf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7916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D-Status TPM1</a:t>
            </a:r>
            <a:br>
              <a:rPr sz="3600"/>
            </a:br>
            <a:r>
              <a:rPr b="1" lang="zh-TW" sz="2800" spc="-1" strike="noStrike">
                <a:solidFill>
                  <a:srgbClr val="ffffff"/>
                </a:solidFill>
                <a:latin typeface="Minion"/>
              </a:rPr>
              <a:t>QualComm based products</a:t>
            </a:r>
            <a:br>
              <a:rPr sz="2800"/>
            </a:b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20. Februar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Highlights/Lowlight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20.02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49280" y="907920"/>
            <a:ext cx="251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inion"/>
              </a:rPr>
              <a:t>Product Develo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349280"/>
            <a:ext cx="8277120" cy="1440000"/>
          </a:xfrm>
          <a:prstGeom prst="roundRect">
            <a:avLst>
              <a:gd name="adj" fmla="val 16667"/>
            </a:avLst>
          </a:prstGeom>
          <a:solidFill>
            <a:srgbClr val="cc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2080" y="1362240"/>
            <a:ext cx="73152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0360" y="1438200"/>
            <a:ext cx="269640" cy="270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79640" y="1403280"/>
            <a:ext cx="7557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EF81: Kestrel: onsite BenQ Lab in San Diego already staffed /w 25 engine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Onyx: S0/M1 project on track without devi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Ruby on track towards M0 in February, still many technical challenges (HDD,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  Menu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Mallow project in M0 / final definition p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280" y="2878200"/>
            <a:ext cx="8277120" cy="1439640"/>
          </a:xfrm>
          <a:prstGeom prst="roundRect">
            <a:avLst>
              <a:gd name="adj" fmla="val 16667"/>
            </a:avLst>
          </a:prstGeom>
          <a:solidFill>
            <a:srgbClr val="ffcc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2080" y="3070080"/>
            <a:ext cx="7315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0360" y="3238560"/>
            <a:ext cx="269640" cy="269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914560"/>
            <a:ext cx="755784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SXG75: volumes decreased down to 56k over LC. Scrap risk 6’7€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  SFR: 25k commitment (AGPS /w SUPL) again at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EF81: Customization failed again in cw7. Workableness not given in particular ar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EF81: Continued dramatic understaffing in IM/BM-area.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  <a:ea typeface="文鼎中黑"/>
              </a:rPr>
              <a:t>Workableness not given at all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  <a:ea typeface="文鼎中黑"/>
              </a:rPr>
              <a:t>- EF81: Netto Bug Fixing rate again below Project Target: ~65% (Target 20 fixes per d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Highlights/Lowlight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20.02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836640"/>
            <a:ext cx="845676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Rückführung des verloren gegangenen SW Know How. Alle verbliebenen Mitarbeiter Wolf 5/4 müssen für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Kestrel SW-Team zugewiesen werden. Wo möglich Neuverträge mit den ehemaligen Consultants abschließen.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Temporäre Rückführung von erfahrenen 3G SW-Entwicklern, die sich z.B. derzeit in die Apoxy-Plattform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inarbeiten (z.B. Norbert Emmerich, Tobias van der Linden). Sofortiger Stop des Abzuges der wenige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verbliebenen 3G SW-Entwickler mit Qualcomm Erfahrung (z.B. Michael Roth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ofortige Einarbeitung von kompetenen Vertretern/Nachfolgern, insbesondere dann, wenn der baldige Weggang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es Kestrel MA bereits bekannt ist (z.B. Kestrel IM: Arjen van der Weid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ofortige personelle Verstärkung von bereits seit langem bekannten "Flaschenhälsen" wie "Build Management„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und "Integration Management" mit einer vor Ort Präsenz am Ort des Geschehens: Wroclaw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insetzung eines durchsetzungsfähigen PL Operator, der die Abstimmung zwischen den Ländern, den große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Netzwerk Providern, dem Costumisation Team und dem Operator ST vornimmt und die termingerechte und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rwartungsgerechte Bereitstellung der SW-Varianten überwacht. Dies ist bei Kestrel mit mehr als 35 Variante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icher ein "full time" job und erledigt sich offensichtlich nicht von allein (Vorschlag: Michael Höfl)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inführung von dokumentierten und abgesicherten Prozessen zur zukünftigen Varianten Bereitstellung und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eren Test vor der flächigen Auslieferung, sowie eine Strukturierung der Informationsprozesse. Abstimmung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und Information über Variantentermine/-verzüge sind unzureichend bzw. Fehleinschätzunge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Reduktion von Overhead und Fehlerpotentialen: Auflösung von drei zu synchronisierenden SW-Datenbanken: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KLF, SD und Wroclaw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ie Erreichung des seit Anfang Januar durch Projektleitung vorgegebenen Zieles 20 netto Bugfixes pro Tag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= 100 Fixes pro Woche muß seitens SW-Leitung zugesagt werden. In native SW hatten wir bis zu 700 Fixes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pro Woche und auch beim Wolf5 waren über 300 pro Woche möglich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ofortige schriftliche Fixierung von nachvollziehbare Verbesserungsmaßnahmen im Bereich SW, da sonst ei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Verzug beim Kestrel kommuniziert werden muß. Termin: Dienstag 16:00Uhr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ie Einhaltung der Launchtermine Kestrel (17.03. Retail) - Operator gemäß Planung ist für die SW-Org.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genauso ein bindendes KPI wie für TP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100% Freigabe von Mark-Oliver Passauer für das Program 3G (Kestrel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8000" y="622440"/>
            <a:ext cx="8908200" cy="5830920"/>
            <a:chOff x="108000" y="622440"/>
            <a:chExt cx="8908200" cy="5830920"/>
          </a:xfrm>
        </p:grpSpPr>
        <p:sp>
          <p:nvSpPr>
            <p:cNvPr id="63" name=""/>
            <p:cNvSpPr/>
            <p:nvPr/>
          </p:nvSpPr>
          <p:spPr>
            <a:xfrm>
              <a:off x="108000" y="1312920"/>
              <a:ext cx="534960" cy="49957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1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152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8296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2960" y="1052640"/>
              <a:ext cx="8277120" cy="12996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1280" y="1312920"/>
              <a:ext cx="8277120" cy="499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987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705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06920" y="1063800"/>
              <a:ext cx="34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Y20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373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091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2960" y="530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2960" y="386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2960" y="242100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8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152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1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3344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2248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403440" y="1312920"/>
              <a:ext cx="688680" cy="4995360"/>
              <a:chOff x="3403440" y="1312920"/>
              <a:chExt cx="688680" cy="4995360"/>
            </a:xfrm>
          </p:grpSpPr>
          <p:sp>
            <p:nvSpPr>
              <p:cNvPr id="84" name=""/>
              <p:cNvSpPr/>
              <p:nvPr/>
            </p:nvSpPr>
            <p:spPr>
              <a:xfrm>
                <a:off x="34034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9212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5472000" y="1312920"/>
              <a:ext cx="688680" cy="4995360"/>
              <a:chOff x="5472000" y="1312920"/>
              <a:chExt cx="688680" cy="4995360"/>
            </a:xfrm>
          </p:grpSpPr>
          <p:sp>
            <p:nvSpPr>
              <p:cNvPr id="87" name=""/>
              <p:cNvSpPr/>
              <p:nvPr/>
            </p:nvSpPr>
            <p:spPr>
              <a:xfrm>
                <a:off x="547200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6068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7540560" y="1312920"/>
              <a:ext cx="688680" cy="4995360"/>
              <a:chOff x="7540560" y="1312920"/>
              <a:chExt cx="688680" cy="4995360"/>
            </a:xfrm>
          </p:grpSpPr>
          <p:sp>
            <p:nvSpPr>
              <p:cNvPr id="90" name=""/>
              <p:cNvSpPr/>
              <p:nvPr/>
            </p:nvSpPr>
            <p:spPr>
              <a:xfrm>
                <a:off x="754056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2292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>
              <a:hlinkClick r:id="rId1" action="ppaction://hlinksldjump"/>
            </p:cNvPr>
            <p:cNvSpPr/>
            <p:nvPr/>
          </p:nvSpPr>
          <p:spPr>
            <a:xfrm rot="16200000">
              <a:off x="-131040" y="2970720"/>
              <a:ext cx="98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erform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840" y="3141720"/>
              <a:ext cx="8715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0040" y="26478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>
              <a:hlinkClick r:id="rId2" action="ppaction://hlinksldjump"/>
            </p:cNvPr>
            <p:cNvSpPr/>
            <p:nvPr/>
          </p:nvSpPr>
          <p:spPr>
            <a:xfrm rot="16200000">
              <a:off x="-127080" y="443196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Image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0040" y="41292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0040" y="5465880"/>
              <a:ext cx="156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>
              <a:hlinkClick r:id="rId3" action="ppaction://hlinksldjump"/>
            </p:cNvPr>
            <p:cNvSpPr/>
            <p:nvPr/>
          </p:nvSpPr>
          <p:spPr>
            <a:xfrm rot="16200000">
              <a:off x="-12240" y="5704200"/>
              <a:ext cx="80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Afford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>
              <a:hlinkClick r:id="rId4" action="ppaction://hlinksldjump"/>
            </p:cNvPr>
            <p:cNvSpPr/>
            <p:nvPr/>
          </p:nvSpPr>
          <p:spPr>
            <a:xfrm rot="16200000">
              <a:off x="81720" y="1630800"/>
              <a:ext cx="582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a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0040" y="1539720"/>
              <a:ext cx="156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8101080" y="622440"/>
              <a:ext cx="16992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211960" y="71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6"/>
            <a:stretch/>
          </p:blipFill>
          <p:spPr>
            <a:xfrm>
              <a:off x="8532720" y="630360"/>
              <a:ext cx="16668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672400" y="70956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2280" y="1376280"/>
              <a:ext cx="1126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ldstone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2920" y="5153040"/>
              <a:ext cx="91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arl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oonston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72360" y="5229360"/>
              <a:ext cx="77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gonite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oli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3120" y="5877000"/>
              <a:ext cx="1102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ir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Low cost owner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67120" y="3068640"/>
              <a:ext cx="14425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umen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Multimedia for the mas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88000" y="3794040"/>
              <a:ext cx="12945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ystal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ysterious sens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86920" y="2276640"/>
              <a:ext cx="74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by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57240" y="3860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amo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31640" y="2997360"/>
              <a:ext cx="1017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tinum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56880" y="5661000"/>
              <a:ext cx="643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arten) </a:t>
              </a:r>
              <a:br>
                <a:rPr sz="10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32000" y="3213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82600" y="602928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4360" y="4365720"/>
              <a:ext cx="16938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a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Intensively Femin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79640" y="4662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8920" y="2637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57240" y="41688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2280" y="40402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Luxury style stat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7"/>
            <a:stretch/>
          </p:blipFill>
          <p:spPr>
            <a:xfrm>
              <a:off x="1547640" y="38736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2340000" y="436572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9"/>
            <a:stretch/>
          </p:blipFill>
          <p:spPr>
            <a:xfrm>
              <a:off x="2916360" y="29988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0"/>
            <a:stretch/>
          </p:blipFill>
          <p:spPr>
            <a:xfrm>
              <a:off x="1549440" y="567360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139280" y="375444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rnet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13080" y="4051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5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40360" y="3933720"/>
              <a:ext cx="10792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The sculp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1"/>
            <a:stretch/>
          </p:blipFill>
          <p:spPr>
            <a:xfrm>
              <a:off x="3851280" y="3798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67240" y="2346480"/>
              <a:ext cx="7808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al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81240" y="270828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2"/>
            <a:stretch/>
          </p:blipFill>
          <p:spPr>
            <a:xfrm>
              <a:off x="2792520" y="249228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075280" y="1630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3"/>
            <a:stretch/>
          </p:blipFill>
          <p:spPr>
            <a:xfrm>
              <a:off x="7165800" y="37260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4"/>
            <a:stretch/>
          </p:blipFill>
          <p:spPr>
            <a:xfrm>
              <a:off x="2484360" y="522936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5"/>
            <a:stretch/>
          </p:blipFill>
          <p:spPr>
            <a:xfrm>
              <a:off x="1114560" y="5157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454880" y="4086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10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1640" y="335772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01840" y="5445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1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4920" y="6165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8760" y="559764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6"/>
            <a:stretch/>
          </p:blipFill>
          <p:spPr>
            <a:xfrm>
              <a:off x="1619280" y="24256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3059280" y="58770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499000" y="5381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8"/>
            <a:stretch/>
          </p:blipFill>
          <p:spPr>
            <a:xfrm>
              <a:off x="5219640" y="5373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560920" y="5589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9"/>
            <a:stretch/>
          </p:blipFill>
          <p:spPr>
            <a:xfrm>
              <a:off x="4859280" y="1306440"/>
              <a:ext cx="22716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0"/>
            <a:stretch/>
          </p:blipFill>
          <p:spPr>
            <a:xfrm>
              <a:off x="1635120" y="3006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905480" y="2995560"/>
              <a:ext cx="1076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gania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08000" y="329256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30560" y="1782720"/>
              <a:ext cx="8251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lver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32720" y="199872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6280" y="4083120"/>
              <a:ext cx="704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4240" y="43736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21"/>
            <a:stretch/>
          </p:blipFill>
          <p:spPr>
            <a:xfrm>
              <a:off x="6516720" y="1773360"/>
              <a:ext cx="20628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2"/>
            <a:stretch/>
          </p:blipFill>
          <p:spPr>
            <a:xfrm>
              <a:off x="3059280" y="4014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594400" y="4002120"/>
              <a:ext cx="511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l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24360" y="42973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3"/>
            <a:stretch/>
          </p:blipFill>
          <p:spPr>
            <a:xfrm>
              <a:off x="6153120" y="401472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4"/>
            <a:stretch/>
          </p:blipFill>
          <p:spPr>
            <a:xfrm>
              <a:off x="5435640" y="3106800"/>
              <a:ext cx="2268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734160" y="3429000"/>
              <a:ext cx="108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tanium - 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5"/>
            <a:stretch/>
          </p:blipFill>
          <p:spPr>
            <a:xfrm>
              <a:off x="6516720" y="34732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641840" y="5084640"/>
              <a:ext cx="550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unz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6"/>
            <a:stretch/>
          </p:blipFill>
          <p:spPr>
            <a:xfrm>
              <a:off x="4354560" y="508464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410920" y="1628640"/>
              <a:ext cx="874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llow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7"/>
            <a:stretch/>
          </p:blipFill>
          <p:spPr>
            <a:xfrm>
              <a:off x="2916360" y="177804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1280" y="2070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8280" y="41464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tyle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24240" y="425592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Fun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29480" y="3654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3280" y="5373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6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1280" y="5661000"/>
              <a:ext cx="1297080" cy="289080"/>
            </a:xfrm>
            <a:prstGeom prst="wedgeRectCallout">
              <a:avLst>
                <a:gd name="adj1" fmla="val 2143"/>
                <a:gd name="adj2" fmla="val -140657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Under discu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Need a reposition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36000" y="2997360"/>
              <a:ext cx="792000" cy="287280"/>
            </a:xfrm>
            <a:prstGeom prst="wedgeRectCallout">
              <a:avLst>
                <a:gd name="adj1" fmla="val -62222"/>
                <a:gd name="adj2" fmla="val 10082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ow 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28000" y="3500280"/>
              <a:ext cx="647640" cy="216000"/>
            </a:xfrm>
            <a:prstGeom prst="wedgeRectCallout">
              <a:avLst>
                <a:gd name="adj1" fmla="val -64949"/>
                <a:gd name="adj2" fmla="val 11764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nyx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6000" y="2708280"/>
              <a:ext cx="792000" cy="289080"/>
            </a:xfrm>
            <a:prstGeom prst="wedgeRectCallout">
              <a:avLst>
                <a:gd name="adj1" fmla="val -41782"/>
                <a:gd name="adj2" fmla="val 7472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L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Multimed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43640" y="4437000"/>
              <a:ext cx="792360" cy="289080"/>
            </a:xfrm>
            <a:prstGeom prst="wedgeRectCallout">
              <a:avLst>
                <a:gd name="adj1" fmla="val -87874"/>
                <a:gd name="adj2" fmla="val -5988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Diamond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92360" y="2060640"/>
              <a:ext cx="792360" cy="433440"/>
            </a:xfrm>
            <a:prstGeom prst="wedgeRectCallout">
              <a:avLst>
                <a:gd name="adj1" fmla="val -41782"/>
                <a:gd name="adj2" fmla="val 6648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G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andsca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08360" y="2565360"/>
              <a:ext cx="1150920" cy="432000"/>
            </a:xfrm>
            <a:prstGeom prst="wedgeRectCallout">
              <a:avLst>
                <a:gd name="adj1" fmla="val -51791"/>
                <a:gd name="adj2" fmla="val 8639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/HSDPA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43280" y="3573360"/>
              <a:ext cx="865080" cy="360360"/>
            </a:xfrm>
            <a:prstGeom prst="wedgeRectCallout">
              <a:avLst>
                <a:gd name="adj1" fmla="val -5412"/>
                <a:gd name="adj2" fmla="val 85680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SWIFT 3G ultra-sli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80360" y="1989000"/>
              <a:ext cx="792000" cy="358920"/>
            </a:xfrm>
            <a:prstGeom prst="wedgeRectCallout">
              <a:avLst>
                <a:gd name="adj1" fmla="val -82865"/>
                <a:gd name="adj2" fmla="val -358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Waterproof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51280" y="1413000"/>
              <a:ext cx="793800" cy="215640"/>
            </a:xfrm>
            <a:prstGeom prst="wedgeRectCallout">
              <a:avLst>
                <a:gd name="adj1" fmla="val 90800"/>
                <a:gd name="adj2" fmla="val -4191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camcor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869000"/>
              <a:ext cx="863640" cy="360360"/>
            </a:xfrm>
            <a:prstGeom prst="wedgeRectCallout">
              <a:avLst>
                <a:gd name="adj1" fmla="val -40439"/>
                <a:gd name="adj2" fmla="val 9229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Quail with Came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1280" y="6237360"/>
              <a:ext cx="649440" cy="216000"/>
            </a:xfrm>
            <a:prstGeom prst="wedgeRectCallout">
              <a:avLst>
                <a:gd name="adj1" fmla="val -80319"/>
                <a:gd name="adj2" fmla="val -7279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Jasp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4360" y="2924280"/>
              <a:ext cx="865080" cy="433440"/>
            </a:xfrm>
            <a:prstGeom prst="wedgeRectCallout">
              <a:avLst>
                <a:gd name="adj1" fmla="val 63944"/>
                <a:gd name="adj2" fmla="val 31319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ROBUST GPS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7280" y="4508640"/>
              <a:ext cx="649440" cy="360360"/>
            </a:xfrm>
            <a:prstGeom prst="wedgeRectCallout">
              <a:avLst>
                <a:gd name="adj1" fmla="val -75671"/>
                <a:gd name="adj2" fmla="val -4515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Poppy 3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56360" y="5516640"/>
              <a:ext cx="647640" cy="217440"/>
            </a:xfrm>
            <a:prstGeom prst="wedgeRectCallout">
              <a:avLst>
                <a:gd name="adj1" fmla="val -93384"/>
                <a:gd name="adj2" fmla="val -193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Amb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000" y="4724280"/>
              <a:ext cx="935280" cy="360360"/>
            </a:xfrm>
            <a:prstGeom prst="wedgeRectCallout">
              <a:avLst>
                <a:gd name="adj1" fmla="val -16722"/>
                <a:gd name="adj2" fmla="val 105504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Flamingo with Camer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– Updated acc. CTO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272360" cy="5389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Christof Schwab</cp:lastModifiedBy>
  <dcterms:modified xsi:type="dcterms:W3CDTF">2006-02-20T09:52:03Z</dcterms:modified>
  <cp:revision>151</cp:revision>
  <dc:subject/>
  <dc:title>PHE</dc:title>
</cp:coreProperties>
</file>