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B03-A274-42A8-B09C-5331DC04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8F7-62E9-46D2-A719-7050E5B8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88D-826E-45E7-A9E9-E9A0ED65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A3E-5A3A-43C7-BAFE-1F87E1A5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FD9-88CD-4C97-BD9D-6F9F8F1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F75-1D16-49AE-ACE7-19A595F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9D2-E609-4EEA-88C1-242BBB7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A12-7809-4AF5-88FF-297A118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5DA-DCBF-4CF5-B8AE-1C81099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37E-EC1E-485A-9FE5-13E09591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D93-FD53-4E6F-908D-B44C2487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2B5-B343-468B-8B63-44830B0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3956-555B-48ED-986D-8A0778542F5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57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PV-Plan responsibility, incl. PLT suppo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product classes 1-4 incl. TTM target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343160"/>
            <a:ext cx="5924520" cy="13665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280" y="127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286080"/>
            <a:ext cx="60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contro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925720"/>
            <a:ext cx="5924520" cy="1727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120" y="2852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836640"/>
            <a:ext cx="2881080" cy="439416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2592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80" y="5084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161-EBB6-473C-842C-1FE016B2BA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of Schwab</cp:lastModifiedBy>
  <dcterms:modified xsi:type="dcterms:W3CDTF">2006-01-27T16:39:25Z</dcterms:modified>
  <cp:revision>129</cp:revision>
  <dc:subject/>
  <dc:title>PowerPoint 簡報</dc:title>
</cp:coreProperties>
</file>