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916-3CCE-4A99-B8E5-16B1AF55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499-78B6-43A0-97D3-FA29D27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BB-7D68-4D49-8943-7582F45C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BE1-5F68-4D88-BA3F-6C11C4B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0B-A044-4D81-9100-A5BB390A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CAD-6AA3-4F6A-88AF-A940A08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495-C66D-4EC8-9CDB-9A246F19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FDD-DEF7-4CCF-9006-537869A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0BA-3601-47FA-B99A-CA4CECF2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517-A3C2-4304-8E83-5AD79C7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1C6-3EE2-43F5-9E7D-E303B82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227-E8DF-4893-9DD2-98F6410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3783-63A9-49E5-A932-8DFEC5973027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F682-5AD9-43F6-812C-6D8F49376449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0/20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KOALA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oduct Status: DS Assessment at planned S0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5153040"/>
            <a:ext cx="567504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Presentation and content by 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MG PHE TP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09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894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Detlef Wie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örg Hants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Current assessment at planned S0 does not allow project commitment for planned D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0000" y="990720"/>
            <a:ext cx="87264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KOALA project cannot be committed by TPM based on planned feature set and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source situation in Q1/07 very critical and requires clear prioritiz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latform transfer to PHA is highly endangered due to resource situation which might directly impact Merlin and Cesa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ffing of initial ONYX SW-resources leads to delays of S0/M1 milesto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ation of Kestrel launch date requires additional resour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upport of 6275 chipset by Qualcomm ends in Q2/2006 which highly endangers GCF-complianc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mmediate decision for further procedure regarding KOALA and BenQs 3G-roadmap needed based on different op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pplication suite is Kestrel bas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landscape mo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l 2 Features and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1/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platform transfer PHE highly endangered (impact on Merlin and Cesar expected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Onyx team staffing not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6-09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Landscape mode in significant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l 2 features and additional operator features possib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Taipei significantly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3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state of the art chip set in Q1 /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Bad cost position in Q1/07 compared to competition and on chipset level (vs. 6280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-use for future products due to old chipse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2/2006, Operator listing endange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1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concept (Swivel, landscape story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valuate stack up optimization in terms of length/thickness &amp;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se KOALA on new chipset 6280 (similar to 6275), same as in Ruby/Amethy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20% higher CPU perform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New RF-CMOS solution (same solution as in Ruby/Mallow/Gecko/Amethys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ost saving on component level &gt;3€, PCB space saving &gt;= 100mm²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HSDPA support with 3.6 MBi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landscape support and Rel 2 +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valid GCF certification due to continued Qualcomm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asier migration to 6255/60 for Mallow/Geck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PHE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duced support of parallel platforms 6250/6280/6255 instead of 6250/6275/6280/6255, one RF solution l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5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93712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2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6760" y="9889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Minion"/>
                <a:ea typeface="文鼎中黑"/>
              </a:rPr>
              <a:t>Recommended by T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6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7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7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573360"/>
            <a:ext cx="87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653000"/>
            <a:ext cx="4392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21000"/>
            <a:ext cx="28800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3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2148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21300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2148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5640" y="44370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4292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96360" y="4437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292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0800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3080" y="39355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508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57848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0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1708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27664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0606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Koa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321300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(ES 6280  65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708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68560" y="1438200"/>
            <a:ext cx="631440" cy="504720"/>
            <a:chOff x="2068560" y="1438200"/>
            <a:chExt cx="631440" cy="504720"/>
          </a:xfrm>
        </p:grpSpPr>
        <p:sp>
          <p:nvSpPr>
            <p:cNvPr id="138" name=""/>
            <p:cNvSpPr/>
            <p:nvPr/>
          </p:nvSpPr>
          <p:spPr>
            <a:xfrm>
              <a:off x="22266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Kestr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46760" y="1438200"/>
            <a:ext cx="631440" cy="504720"/>
            <a:chOff x="5846760" y="1438200"/>
            <a:chExt cx="631440" cy="504720"/>
          </a:xfrm>
        </p:grpSpPr>
        <p:sp>
          <p:nvSpPr>
            <p:cNvPr id="141" name=""/>
            <p:cNvSpPr/>
            <p:nvPr/>
          </p:nvSpPr>
          <p:spPr>
            <a:xfrm>
              <a:off x="60048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67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Ces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4720" y="1341360"/>
            <a:ext cx="631800" cy="504720"/>
            <a:chOff x="6084720" y="1341360"/>
            <a:chExt cx="631800" cy="504720"/>
          </a:xfrm>
        </p:grpSpPr>
        <p:sp>
          <p:nvSpPr>
            <p:cNvPr id="144" name=""/>
            <p:cNvSpPr/>
            <p:nvPr/>
          </p:nvSpPr>
          <p:spPr>
            <a:xfrm>
              <a:off x="6242760" y="1557360"/>
              <a:ext cx="31536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4720" y="1341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M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916360" y="2133720"/>
            <a:ext cx="720720" cy="79200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1657440" cy="505080"/>
          </a:xfrm>
          <a:prstGeom prst="wedgeRoundRectCallout">
            <a:avLst>
              <a:gd name="adj1" fmla="val -69060"/>
              <a:gd name="adj2" fmla="val 92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ontinuation of 6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19840" y="1413000"/>
            <a:ext cx="631440" cy="504720"/>
            <a:chOff x="6819840" y="1413000"/>
            <a:chExt cx="631440" cy="504720"/>
          </a:xfrm>
        </p:grpSpPr>
        <p:sp>
          <p:nvSpPr>
            <p:cNvPr id="149" name=""/>
            <p:cNvSpPr/>
            <p:nvPr/>
          </p:nvSpPr>
          <p:spPr>
            <a:xfrm>
              <a:off x="6977880" y="16290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9840" y="14130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cont´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15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16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573360"/>
            <a:ext cx="432144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653000"/>
            <a:ext cx="69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501336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Ameth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9892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Ma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u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7002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ec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ain Problems identified during S0-assessmen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ource ramp up for QCT-program and maturity from W5-development not suffici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8560" y="1528920"/>
            <a:ext cx="85122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70 % of most experienced ICT / CPE architects and IMs left BenQ at the End of 2005 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3 month delay of W5 Rel 1.4 (base for Kestrel) causes additional resources on Kestrel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Extended Kestrel support due to first main operator approval for Qualcomm product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working model change, BenQ is since W5 DS responsible for bug fixing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WRO Koala team not enough experienced yet, technical coaching by line management and experienced developers needed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unich resource ramp up delayed due to Minos/Hydra DS shif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ery high implementation effort for Landscape mode as a result of the S0 feasibility studie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AMSS 6275 Rel. 4.0 was canceled on 12.12.05, no valid GCF version suppor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"/>
          <p:cNvSpPr/>
          <p:nvPr/>
        </p:nvSpPr>
        <p:spPr>
          <a:xfrm>
            <a:off x="449280" y="107964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280" y="395748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38200" y="4408560"/>
            <a:ext cx="7377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79640" y="46782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TAY YOUNG – KEEP EXP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ario Topel</cp:lastModifiedBy>
  <dcterms:modified xsi:type="dcterms:W3CDTF">2006-01-09T08:08:08Z</dcterms:modified>
  <cp:revision>90</cp:revision>
  <dc:subject/>
  <dc:title>PowerPoint 簡報</dc:title>
</cp:coreProperties>
</file>