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3AE-36E9-4569-8171-5F0D4045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615-C57F-48EC-9244-B50265D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10F-AABC-406B-951F-F73A4B64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570-1548-4D33-BA1B-2DF6158A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EAD35-7749-475A-B287-0AA7ACCF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63CC-D0B6-4B4A-8287-8BD4E76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9C6B-BB34-497B-A64F-C7B940FA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1E131-3111-48CA-83F1-13A9E2D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2BC6-5F1F-45A3-AE8C-259631AB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A3C8F-848C-40F1-ACBC-CAD7658A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D62A-B7C6-4C50-A2B4-32234A38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079-BB6C-422F-A8D8-F19CB6B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E8962-340D-48AB-B8A2-55439F9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3AC80-67B3-4620-97E2-7F6BA20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631B5-D69C-4149-AE50-1D72A1B5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EEE1E-3614-49B5-B665-F5C201CB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D218-583F-48A4-A16C-0CB92107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F51-CEC9-4F50-BCC8-7E70404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D2D-9007-410E-969C-C8B473F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A32-7EBD-4277-B9D0-B689655E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4E7-97AD-41E0-BB92-21D31F6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D9B-1438-4128-B6E3-11B5A4A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08B-29FA-44AA-9C60-2530679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F90-9E71-497D-B0D6-BAD0427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73EF-FF41-4CE1-A816-23DB605BB2D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383526-8DD4-4F40-B08D-E831FC0D8AB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9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0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y 0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alistic but ag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7242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evaluation to be discussed with mgmt; follow ups needed (May, Ju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easure now true quantitative improvements (start 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8399520" y="4673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8664480" y="4916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cesse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upda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Work packages moved due to launch of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Role definitions will be handled within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398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rot="16200000">
            <a:off x="8207280" y="3853800"/>
            <a:ext cx="161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Requirement Engineering Excellence“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establish formal requirements engineering practice in BMG („Best-in-Class“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op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duct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latform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All projects globall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mprove on all levels of operation within CM and P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cess: Role and workflow clarity (incl. deliverables), trigger organizational adaptions where needed, speed through re-use,, support of Agile with Scrum, ensure formal review practices, increase transparenc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eople: Skills, Training, Mentoring and Staffing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Tools: Improve usability of Doors, increase  also RE efficiency by adequate tool support (i.e. Doors, CR-Light)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Communication: Improve, align and communicate activities  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(TBD) Projects: higher quality documents / requirements, „small but beautiful“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asures of Success </a:t>
            </a:r>
            <a:r>
              <a:rPr b="1" lang="en-US" sz="1000" spc="-1" strike="noStrike">
                <a:solidFill>
                  <a:srgbClr val="3a0e66"/>
                </a:solidFill>
                <a:latin typeface="Arial Unicode MS"/>
              </a:rPr>
              <a:t>(to be finalised and agreed upon)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nternal Customer satisfaction; positive Doors user feedback by opinion surve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n-time delivery (OTD) of requirements docs at Mx milestones &gt; 90% of plan (TBD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100% product requirements handled in Doors at end of CY 2006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 / Syd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Manager:  Jörg Sarzio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i-weekly jourfix with coache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monthly managemen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Apr 06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nalyze situation and identify improvement areas (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ccompany pilot projects Ruby, Koala and Gemstone platform (start 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Define project setup, targets and first rollout plan 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lign and initiate “low hanging fruits” improvements within Doors, agree on Rollout Plan for “Phase 1”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Fix RE workstream / processes (in alignment with CM Implementation and PD setup / Agile ) (06/06 - tbd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Ensure adequate people skills and staffing (07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ased on agreed upon processes modify as required Doors,</a:t>
            </a:r>
            <a:br>
              <a:rPr sz="900"/>
            </a:b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gree rollout plan for Phase 2 (start 07/06, duration tbd)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arget  Project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3514680"/>
            <a:ext cx="4485960" cy="29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 (Status 26.4.0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30 interviews with stakeholders of RE in CM and PD condu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ore than 100 points with improvement potential identifi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first clustering / prioritization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rafting of first work packages / measures for Process and Tool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(Doors) improve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widely varying understanding; limited availability of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Kickoff with Coaches, fix project go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cross functional project setup, fix and rollout meeting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reporting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and align first work packages within the areas o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PROCESS, TOOLs and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8427960" y="38462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8377200" y="3602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8632800" y="384624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9520" y="5877000"/>
            <a:ext cx="2900520" cy="5810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9320" y="-76680"/>
            <a:ext cx="5802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342720"/>
            <a:ext cx="4077000" cy="65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TDD for acceptance test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S25 milestone for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project specific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Rollout of Testdirector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:             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80% done, 20% planned 1.6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incl. first roll out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partly done, to be completed 15.6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done in time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good progress, but delayed due to resources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. incl. first roll out (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no project S25 yet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Buy decision shifted 20.5.05 due to merge PH, pilot run 30.8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2" name=""/>
          <p:cNvSpPr/>
          <p:nvPr/>
        </p:nvSpPr>
        <p:spPr>
          <a:xfrm>
            <a:off x="4610160" y="2962440"/>
            <a:ext cx="4448160" cy="32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ngoing data collection for all metr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crum teams with TD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in operation and report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eper alignment with RS SW for C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8364240" y="29746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8629560" y="321768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513560" y="809640"/>
            <a:ext cx="1136880" cy="900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58560" y="809280"/>
            <a:ext cx="395892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0" tIns="36000" bIns="0" anchor="t">
            <a:normAutofit/>
          </a:bodyPr>
          <a:p>
            <a:pPr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stablish integrated SW-Tool Chain to support SW-development, agile programming methods, iterative, time- boxed and test drive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Harmonization of SW-Tool landscape for BenQ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erform Best Practice Sharing and Bench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1st (draft) concep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w team setup available, Kick-Off planned in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w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only 2+1 team members instead of needed 8 (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till no official communication to Taiwan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826400" y="4317480"/>
            <a:ext cx="719280" cy="360360"/>
            <a:chOff x="7826400" y="4317480"/>
            <a:chExt cx="719280" cy="360360"/>
          </a:xfrm>
        </p:grpSpPr>
        <p:sp>
          <p:nvSpPr>
            <p:cNvPr id="419" name=""/>
            <p:cNvSpPr/>
            <p:nvPr/>
          </p:nvSpPr>
          <p:spPr>
            <a:xfrm rot="16200000">
              <a:off x="8005680" y="4137840"/>
              <a:ext cx="360360" cy="71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8096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12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878600" y="4407840"/>
              <a:ext cx="179640" cy="179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Project       </a:t>
            </a:r>
            <a:r>
              <a:rPr b="1" i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Best in SW-Tools for BenQ Mobi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rio Topel (Status 26.04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920" y="1978200"/>
            <a:ext cx="395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Established SW-Tool Chain including workflow documentation per product line till Q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Harmonization level 1 (number of different SW-Tool used for same task) per product line in Q3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1 Best Practice Sharing/Benchmarking per hal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Infrastructure costs reduced by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ositive user feedback &gt;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920" y="3508200"/>
            <a:ext cx="3958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Coach: Dr. 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rogram Manager/Project Lead: M. Topel / W. Hett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78200" y="809640"/>
            <a:ext cx="3959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Requirements Engineering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DOORS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scription Language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TAU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figuration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SYNERGY / 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fect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Automated Test:)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 To be decided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Mercury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78200" y="278748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Reporting &amp;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am Meeting: Weekly (re-start cw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Steering Board: Monthly (re-start cw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78200" y="350820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estart: cw18  / Tool assessment 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Final project plan: cw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source clarification/budget release by R&amp;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ment of new setup incl. globa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ommunication needed by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roject plan to be worked out in detail (May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Best practice sharing /w SIE MED (17./18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Tool / workflow assessment Beijing/Taipei til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Jun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rot="16200000">
            <a:off x="8086680" y="207792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0160" y="800280"/>
            <a:ext cx="4076640" cy="12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4" name=""/>
          <p:cNvSpPr/>
          <p:nvPr/>
        </p:nvSpPr>
        <p:spPr>
          <a:xfrm>
            <a:off x="4559400" y="1978200"/>
            <a:ext cx="4262400" cy="45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inings done in MCH, KLF, WRO (Scrum Master, Agile C development). High trainee satisf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Various definitions done (Product owner team, Req to use cases, Acceptance tests,..)=&gt;several work products 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mmunication into projects and R&amp;D improved (bi-weekly newsletter, presentation of agile definition results in prj-meet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ed prototype for automated simulation and in-target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emstone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20 scrum teams runn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uration of Qualcomm-SW build to long for T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improvement of Q-simulation needed in Qualco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requirements-&gt;use cases-&gt;architecture support for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road training coverage for acceptance testing, agile C, C++, test-drive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information to teams about agile transition 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8307360" y="20696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246880" y="1827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8511840" y="206964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crum teams and sprint planning of pilots to be established at PSE and BenQ Po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 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2460600"/>
            <a:ext cx="4178520" cy="37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 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 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projects added: Philippe, Hawk &amp; Obsidian, O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projects to be added ( Ruby, Falc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Ruby/QCT“: K. Rudolp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velop and test „Agile with Scrum“ as software development process within BenQ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Ruby and QCT platform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 process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for Ruby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Ruby pilot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uby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proposal in 07/06 defined for Rub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of Ruby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S.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full transition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Ruby transition: K. Rudolp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ithin regular project reviews in the OPC and every months in PLM excellence report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2286000"/>
            <a:ext cx="4262400" cy="41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rchitecture preparation completed, Requirements structure definition ongo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rst 4 Scrum teams in WRO finished their first sprint with excellent results (high motivation, good achievements, positive experience and first results with T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17 Scrum teams in WRO and MCH started for next 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rum Master training for WRO and MCH completed, TDD   trainings started and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requirements structure, complete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fully the architecture of Ruby, complete further sprint planning and setup of all remaining Scrum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TDD and Agile trainings for all involved teams (SW+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Build process and testing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tatus</a:t>
            </a:r>
            <a:br>
              <a:rPr sz="6600"/>
            </a:b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duct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ross-organizational workgr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e-use strategy doc: Feb 06 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lanning for 2008 portfolio: 3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648320"/>
            <a:ext cx="8525160" cy="19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hange process 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etune portfolio along whole new product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orking on re-use strategy and improved platform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sider colocation of Mulholland and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399160" y="45082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8664480" y="475092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z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4" name=""/>
          <p:cNvSpPr/>
          <p:nvPr/>
        </p:nvSpPr>
        <p:spPr>
          <a:xfrm>
            <a:off x="4610160" y="2962440"/>
            <a:ext cx="4448160" cy="268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presentation prepared by IS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to be started top down in RD bo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177040" y="3060720"/>
            <a:ext cx="644760" cy="270000"/>
            <a:chOff x="8177040" y="3060720"/>
            <a:chExt cx="644760" cy="270000"/>
          </a:xfrm>
        </p:grpSpPr>
        <p:sp>
          <p:nvSpPr>
            <p:cNvPr id="476" name=""/>
            <p:cNvSpPr/>
            <p:nvPr/>
          </p:nvSpPr>
          <p:spPr>
            <a:xfrm rot="16200000">
              <a:off x="8364240" y="287316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8426520" y="3116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 and 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10160" y="837720"/>
            <a:ext cx="40766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1" name=""/>
          <p:cNvSpPr/>
          <p:nvPr/>
        </p:nvSpPr>
        <p:spPr>
          <a:xfrm>
            <a:off x="4276800" y="838080"/>
            <a:ext cx="4781520" cy="546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feature definition with CTM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nal project plan fixed (prototyp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ystem supplier selected (Marv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sign proposal for prototype and produc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support for SW realiz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oject can only be continued as produc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requests BenQ presentation (incl. BenQ Mobile company presentation, product story, business c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development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gree system deliverables with supplier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Complete component definitio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PCB and Mechanical Desig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esentation at  Skype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177040" y="939600"/>
            <a:ext cx="644760" cy="269640"/>
            <a:chOff x="8177040" y="939600"/>
            <a:chExt cx="644760" cy="269640"/>
          </a:xfrm>
        </p:grpSpPr>
        <p:sp>
          <p:nvSpPr>
            <p:cNvPr id="483" name=""/>
            <p:cNvSpPr/>
            <p:nvPr/>
          </p:nvSpPr>
          <p:spPr>
            <a:xfrm rot="16200000">
              <a:off x="8364600" y="752040"/>
              <a:ext cx="26964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8426520" y="1001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460600"/>
            <a:ext cx="4178520" cy="26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mi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Arial Unicode MS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including all development parties :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81760" y="4138560"/>
            <a:ext cx="3767040" cy="22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ummary</a:t>
            </a: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26.04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 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&amp;D MD restructuring done  ( negative: 5 from 6  Ulm people left after 3 month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to SCM SQA fixed and agreed between R&amp;D and SCM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 detailed project plan for improved integrator supplier concept  ( May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eople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rot="16200000">
            <a:off x="6381000" y="2381760"/>
            <a:ext cx="1825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6614280" y="25704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3280" y="19810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066680"/>
          <a:ext cx="8305560" cy="1924200"/>
        </p:xfrm>
        <a:graphic>
          <a:graphicData uri="http://schemas.openxmlformats.org/drawingml/2006/table">
            <a:tbl>
              <a:tblPr/>
              <a:tblGrid>
                <a:gridCol w="1892160"/>
                <a:gridCol w="3593880"/>
                <a:gridCol w="793800"/>
                <a:gridCol w="2025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 Communication in R&amp;D; 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regular all hands communication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Engage in breakfast meetings and other activities (start 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nclude PHA R&amp;D in those activities after the PHE/PHA merge (start 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next all hands R&amp;D meeting (world wide)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ke off from PLM exc.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3124080"/>
          <a:ext cx="8366040" cy="160524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repeat every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PI metric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Mgmt Objectives aligned and signed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Balanced Score cards (Feb. 06; moved to Apri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LQA analysis (R&amp;D only: May 06; moved t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b. opinion poll possible in 2Q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Peer Rating in Mgmt (R&amp;D only; Sep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10 Basic Aspects (Oc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. Feedback rounds, EFA (Nov/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tion discussion in mgmt team mid 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6248520" y="4541400"/>
            <a:ext cx="600120" cy="182520"/>
            <a:chOff x="6248520" y="4541400"/>
            <a:chExt cx="600120" cy="182520"/>
          </a:xfrm>
        </p:grpSpPr>
        <p:sp>
          <p:nvSpPr>
            <p:cNvPr id="311" name=""/>
            <p:cNvSpPr/>
            <p:nvPr/>
          </p:nvSpPr>
          <p:spPr>
            <a:xfrm rot="16200000">
              <a:off x="6457320" y="4332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6493680" y="4610880"/>
              <a:ext cx="12600" cy="1764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6504120" y="4602960"/>
              <a:ext cx="9360" cy="1332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6689880" y="4558680"/>
              <a:ext cx="106200" cy="1465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533520" y="4962600"/>
          <a:ext cx="8366040" cy="143820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al Model-V: Introduce process culture and discipline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As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 packages moved due to launch of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ole definitions will be handled within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6257880" y="6141600"/>
            <a:ext cx="600120" cy="182520"/>
            <a:chOff x="6257880" y="6141600"/>
            <a:chExt cx="600120" cy="182520"/>
          </a:xfrm>
        </p:grpSpPr>
        <p:sp>
          <p:nvSpPr>
            <p:cNvPr id="317" name=""/>
            <p:cNvSpPr/>
            <p:nvPr/>
          </p:nvSpPr>
          <p:spPr>
            <a:xfrm rot="16200000">
              <a:off x="6466680" y="59328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6562800" y="615924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94504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83808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096960" y="18892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105600" y="2331720"/>
            <a:ext cx="600120" cy="182520"/>
            <a:chOff x="6105600" y="2331720"/>
            <a:chExt cx="600120" cy="182520"/>
          </a:xfrm>
        </p:grpSpPr>
        <p:sp>
          <p:nvSpPr>
            <p:cNvPr id="323" name=""/>
            <p:cNvSpPr/>
            <p:nvPr/>
          </p:nvSpPr>
          <p:spPr>
            <a:xfrm rot="16200000">
              <a:off x="6314400" y="21229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410520" y="2349360"/>
              <a:ext cx="106200" cy="14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457200" y="1828800"/>
          <a:ext cx="8367840" cy="765000"/>
        </p:xfrm>
        <a:graphic>
          <a:graphicData uri="http://schemas.openxmlformats.org/drawingml/2006/table">
            <a:tbl>
              <a:tblPr/>
              <a:tblGrid>
                <a:gridCol w="1938240"/>
                <a:gridCol w="3567240"/>
                <a:gridCol w="849240"/>
                <a:gridCol w="201312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in Requirement Engineering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ar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Apr. 06) – J. Sarz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ccept work plan: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6096960" y="3013200"/>
            <a:ext cx="52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5880" y="5684400"/>
            <a:ext cx="600120" cy="182520"/>
            <a:chOff x="6095880" y="5684400"/>
            <a:chExt cx="600120" cy="182520"/>
          </a:xfrm>
        </p:grpSpPr>
        <p:sp>
          <p:nvSpPr>
            <p:cNvPr id="328" name=""/>
            <p:cNvSpPr/>
            <p:nvPr/>
          </p:nvSpPr>
          <p:spPr>
            <a:xfrm rot="16200000">
              <a:off x="6304680" y="5475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537600" y="570204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73040" y="2824200"/>
          <a:ext cx="8366040" cy="311940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ing Agil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U. Schmitz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ick-off for selected projects (01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Broad Introduction of Methodology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Ruby project on Agile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Setup transition team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Mentoring by OM starts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Create prioritized transition backlog and transition   plan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Start Gemstone project on Agile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Scrum teams and sprint planning of pilots established (05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. Pilot teams trained for TDD and agile principles (06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 New R&amp;D process for Agile development released (09/06)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proposal in 07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. Start full transition program (09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 Organization prepared for full agile transition (1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o implement Scrum based team structure and  requirements handl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requirements-&gt;use cases-&gt;architecture support for proj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 training coverage for acceptance testing, agile C, C++, test-driven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 information to teams about agile transition achiev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181560" y="3093840"/>
            <a:ext cx="600120" cy="182520"/>
            <a:chOff x="6181560" y="3093840"/>
            <a:chExt cx="600120" cy="182520"/>
          </a:xfrm>
        </p:grpSpPr>
        <p:sp>
          <p:nvSpPr>
            <p:cNvPr id="335" name=""/>
            <p:cNvSpPr/>
            <p:nvPr/>
          </p:nvSpPr>
          <p:spPr>
            <a:xfrm rot="16200000">
              <a:off x="6390360" y="28850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623280" y="311148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533520" y="1600200"/>
          <a:ext cx="8305560" cy="1773360"/>
        </p:xfrm>
        <a:graphic>
          <a:graphicData uri="http://schemas.openxmlformats.org/drawingml/2006/table">
            <a:tbl>
              <a:tblPr/>
              <a:tblGrid>
                <a:gridCol w="1892160"/>
                <a:gridCol w="3601800"/>
                <a:gridCol w="785880"/>
                <a:gridCol w="2025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Test: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Wa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teams named, tasks are in progres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First metric setup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– 1.5 complete metrics set up (e.g. defect injection analysis) (May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Roll out “new bugs after S4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Test cases for TDD in scrum team in time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Roll out “changed LOC” metric after C3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Roll out “first pass yield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KPI targets ST based on metrics data (Ju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ngoing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crum teams with TDD (star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ST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eper alignment with RD SW for CL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81560" y="3779640"/>
            <a:ext cx="600120" cy="182520"/>
            <a:chOff x="6181560" y="3779640"/>
            <a:chExt cx="600120" cy="182520"/>
          </a:xfrm>
        </p:grpSpPr>
        <p:sp>
          <p:nvSpPr>
            <p:cNvPr id="340" name=""/>
            <p:cNvSpPr/>
            <p:nvPr/>
          </p:nvSpPr>
          <p:spPr>
            <a:xfrm rot="16200000">
              <a:off x="6390360" y="35708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6251400" y="37972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473040" y="3621240"/>
          <a:ext cx="8366040" cy="19414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SW Tools</a:t>
                      </a:r>
                      <a:br>
                        <a:rPr sz="1200"/>
                      </a:b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Mario Topel</a:t>
                      </a:r>
                      <a:br>
                        <a:rPr sz="1200"/>
                      </a:b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lfgang Hett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Jun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Tool / Workflow assessment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Consolidate all teams for PLM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centralizing support infra-structure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crease automation of tool chain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re-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plan to be worked out in detail (May 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 practice sharing /w SIE MED (17./18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ol / workflow assessment Beijing/Taipei till June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172200" y="2437920"/>
            <a:ext cx="600120" cy="182520"/>
            <a:chOff x="6172200" y="2437920"/>
            <a:chExt cx="600120" cy="182520"/>
          </a:xfrm>
        </p:grpSpPr>
        <p:sp>
          <p:nvSpPr>
            <p:cNvPr id="347" name=""/>
            <p:cNvSpPr/>
            <p:nvPr/>
          </p:nvSpPr>
          <p:spPr>
            <a:xfrm rot="16200000">
              <a:off x="6381000" y="2229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6613920" y="2455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49360" y="1600200"/>
          <a:ext cx="8366040" cy="110016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tform &amp; Portfolio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Define alignment &amp; change mgmt process (Feb 06), 2. clarify platform responsibilities/activitie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b. portfolio – budget alignmen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efine re-use strategy (Mar 06) is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H wide portfolio and plan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cess well establis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 wide plan next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6249240" y="30924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81560" y="3733560"/>
            <a:ext cx="600120" cy="182520"/>
            <a:chOff x="6181560" y="3733560"/>
            <a:chExt cx="600120" cy="182520"/>
          </a:xfrm>
        </p:grpSpPr>
        <p:sp>
          <p:nvSpPr>
            <p:cNvPr id="353" name=""/>
            <p:cNvSpPr/>
            <p:nvPr/>
          </p:nvSpPr>
          <p:spPr>
            <a:xfrm rot="16200000">
              <a:off x="6390360" y="35247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6623280" y="37512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49360" y="28954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vent the futur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vestigate status and potential measures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invention initiative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mplement incentive proposal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Implement organizational changes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90 invention disclosures filed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180 invention disclosures filed (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ISR for invention initiativ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ecute organizational chan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249240" y="46324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81560" y="5074920"/>
            <a:ext cx="600120" cy="182520"/>
            <a:chOff x="6181560" y="5074920"/>
            <a:chExt cx="600120" cy="182520"/>
          </a:xfrm>
        </p:grpSpPr>
        <p:sp>
          <p:nvSpPr>
            <p:cNvPr id="358" name=""/>
            <p:cNvSpPr/>
            <p:nvPr/>
          </p:nvSpPr>
          <p:spPr>
            <a:xfrm rot="16200000">
              <a:off x="6390360" y="4866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6623280" y="5092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549360" y="4495680"/>
          <a:ext cx="8366040" cy="160668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leanApoxi platform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 (perhaps earli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op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51040" y="1676520"/>
            <a:ext cx="5295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05600" y="2711160"/>
            <a:ext cx="600120" cy="182520"/>
            <a:chOff x="6105600" y="2711160"/>
            <a:chExt cx="600120" cy="182520"/>
          </a:xfrm>
        </p:grpSpPr>
        <p:sp>
          <p:nvSpPr>
            <p:cNvPr id="366" name=""/>
            <p:cNvSpPr/>
            <p:nvPr/>
          </p:nvSpPr>
          <p:spPr>
            <a:xfrm rot="16200000">
              <a:off x="6314400" y="2502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6547320" y="2728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473040" y="15238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2 projects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Mar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weekly reporting of commitment and fulfillment (01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Utilize reporting charts as project/PL control methods (02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nable team spirit and competition from reported results (03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Establish U2 as practice in all projects (04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projects to be added ( Ruby, Falc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with pract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comparable ranking between teams of different platforms (Bundesligatabel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6173280" y="330516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105600" y="3931920"/>
            <a:ext cx="600120" cy="182520"/>
            <a:chOff x="6105600" y="3931920"/>
            <a:chExt cx="600120" cy="182520"/>
          </a:xfrm>
        </p:grpSpPr>
        <p:sp>
          <p:nvSpPr>
            <p:cNvPr id="371" name=""/>
            <p:cNvSpPr/>
            <p:nvPr/>
          </p:nvSpPr>
          <p:spPr>
            <a:xfrm rot="16200000">
              <a:off x="6314400" y="3723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547320" y="3949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473040" y="3182760"/>
          <a:ext cx="8366040" cy="9320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880"/>
                <a:gridCol w="202536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Quality Up of  MD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terdisciplinary Project teams insta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MD SQA interface fixed and 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Visible results (Jul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6249240" y="437184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05600" y="5105160"/>
            <a:ext cx="600120" cy="182520"/>
            <a:chOff x="6105600" y="5105160"/>
            <a:chExt cx="600120" cy="182520"/>
          </a:xfrm>
        </p:grpSpPr>
        <p:sp>
          <p:nvSpPr>
            <p:cNvPr id="376" name=""/>
            <p:cNvSpPr/>
            <p:nvPr/>
          </p:nvSpPr>
          <p:spPr>
            <a:xfrm rot="16200000">
              <a:off x="6314400" y="4896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6547320" y="5122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473040" y="4199040"/>
          <a:ext cx="8366040" cy="22780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n client phone; </a:t>
                      </a: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aure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Aug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Start Feature definition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Interdisciplinary team star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Draft Predevelopment Project Plan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Final Predevelopment Project Plan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System Supplier selection HW and SW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ystem deliverables agreed with supplier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Component definition done (e.g. Display, etc.)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Start PCB and Mechanical Design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Prototype running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Documentation (Aug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Product decision (Aug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stigation of potential platform suppliers (HW/SW) ongo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ed feature alignment with CT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Stack up concep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 final project plan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ystem supplier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Unicode MS"/>
              </a:rPr>
              <a:t>Concept established; Quo Vadis R&amp;D will be ongoing activity; can be taken off the PLM-excellence program after May 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439740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breakfast club on 5.Apr. In M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‘l subsequent all hands meetings in KLF, BEJ, HSI, TAI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in May 06 (world-wide, new RD orga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a Drescher</cp:lastModifiedBy>
  <dcterms:modified xsi:type="dcterms:W3CDTF">2006-05-11T09:51:45Z</dcterms:modified>
  <cp:revision>157</cp:revision>
  <dc:subject/>
  <dc:title>PowerPoint 簡報</dc:title>
</cp:coreProperties>
</file>