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BDAE-C4D6-40FC-B82D-6FE4E1D10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5D3C-5D8E-4F91-BD51-3490D8DAC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24F9-DAB4-493C-BFED-440C06630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9620-1DA5-434D-90B1-87CBFF1F0F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6C16-48F2-4F59-91CD-AA64DB59C0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73C6-339D-4A19-8372-CDFD85D81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4747-B589-45FE-A09C-1942FAE8B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3FF8-1303-4070-BADF-D1B190F8E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0296-F518-4432-A156-C5CE3D7E1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0393-3A12-4385-9CC0-D36B3A0B5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BBA2-8E92-4891-A0C7-1F1A6BA35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58D8-3D93-46A0-8C25-FE0B95235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627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DEF2-31B8-4C6E-983C-57E9AB565D93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6381720"/>
            <a:ext cx="31687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10.05.2006)  RD B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360" y="2637000"/>
            <a:ext cx="787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RD KPI - April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4440" y="3933720"/>
            <a:ext cx="7010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aus Wingens</a:t>
            </a:r>
            <a:br>
              <a:rPr sz="2400"/>
            </a:b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MG PH RD BA</a:t>
            </a:r>
            <a:br>
              <a:rPr sz="2400"/>
            </a:b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10.05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3217-3ED9-45C9-8E0E-B5605519FE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440" y="115560"/>
            <a:ext cx="87631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ommitment defined as PHE RD KPIs: Targets 2006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(signed 6.2.20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933480"/>
            <a:ext cx="1800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1308240"/>
            <a:ext cx="108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6880" y="933480"/>
            <a:ext cx="68421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76560" y="936720"/>
            <a:ext cx="2539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costs (incl VAS, w/o Restru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st  produ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f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DTC (def. at M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NCC  (cost after M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Infrastructure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Minion"/>
              <a:buChar char="•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TM cost overrun reduction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2098800"/>
            <a:ext cx="1800000" cy="12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520" y="3500280"/>
            <a:ext cx="1800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653000"/>
            <a:ext cx="1800000" cy="81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5479920"/>
            <a:ext cx="180000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2000" y="2492280"/>
            <a:ext cx="96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7880" y="3805200"/>
            <a:ext cx="13525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eople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15080"/>
            <a:ext cx="1192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0560" y="5829480"/>
            <a:ext cx="49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4667400"/>
            <a:ext cx="6842160" cy="80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81240" y="4843440"/>
            <a:ext cx="2606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ernal satisfaction / result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atisfaction 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8320" y="3500280"/>
            <a:ext cx="684216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65400" y="3546360"/>
            <a:ext cx="2622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ernal / external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igh – low cost country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ead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ork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vention disclo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2103480"/>
            <a:ext cx="6842160" cy="127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400" y="2076480"/>
            <a:ext cx="2622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ilestones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fect Rate in Sy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fect fix cycl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 Volatility (starts April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 TTM (M1 – 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turity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222200"/>
            <a:ext cx="432000" cy="43200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421000"/>
            <a:ext cx="43200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67040"/>
            <a:ext cx="432000" cy="43200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876920"/>
            <a:ext cx="43200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8080" y="5740560"/>
            <a:ext cx="43164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520" y="1222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000" y="2435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440" y="3780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5360" y="4876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754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4668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5160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7724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92376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62064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96080" y="620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 1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69240" y="620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arget 12/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77080" y="620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arget 12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4208400"/>
            <a:ext cx="10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070000"/>
            <a:ext cx="10810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MMI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48560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50734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6527880"/>
            <a:ext cx="61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</a:rPr>
              <a:t>DTC = Design to Cost     TTM = Time to Market   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FPY = First pass yield  NCC = Non Conformance Costs 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</a:rPr>
              <a:t>OTD = On Time Deli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6760" y="3514680"/>
            <a:ext cx="92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/temp+c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goal 0.25/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60960" y="207000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0 days / 4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ext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ase 07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48440" y="207648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gt; 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2.5/cK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ase 7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35920" y="209232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gt;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2/cK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5% / 2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60960" y="4886280"/>
            <a:ext cx="816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4873680"/>
            <a:ext cx="81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4861080"/>
            <a:ext cx="815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83120" y="942840"/>
            <a:ext cx="957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udget in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arget in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u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absol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99040" y="939960"/>
            <a:ext cx="95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49‘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245‘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2‘1 / 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4‘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1‘4</a:t>
            </a:r>
            <a:br>
              <a:rPr sz="1000"/>
            </a:b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23‘ / 18%/0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5320" y="936720"/>
            <a:ext cx="95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50‘ (FC345‘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43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26‘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5‘3/4%/-6‘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3‘5/-1‘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8‘2/-3‘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8‘/14%/-5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31240" y="933480"/>
            <a:ext cx="957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00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76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26‘8 - 20‘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0/0%/-12‘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‘6/-0‘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6‘4/-1‘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3‘/10%/-10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4840" y="3511440"/>
            <a:ext cx="92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3% / 5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3% /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05/626+4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0/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61040" y="3508200"/>
            <a:ext cx="920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2% / 3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2% / 3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52 / 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39160" y="3505320"/>
            <a:ext cx="92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0% /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0% /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00 /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5516640"/>
            <a:ext cx="6842160" cy="80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uccessful in 3 projects:    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uby, Jerry, Gemstone start Q1/06; Jerry del. Sept.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 prepared for full Agile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 prepared for 80% Agile in Dec.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trategy with CM  +  TPM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reed in Q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Process with CM  + TPM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reed in Q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84CB-C495-4647-8291-F5C6F0CD4F70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1592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urope RD KPI‘s: Financial Targets 2006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5640" y="1268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8120" y="2108160"/>
            <a:ext cx="1055520" cy="432000"/>
          </a:xfrm>
          <a:prstGeom prst="wedgeRoundRectCallout">
            <a:avLst>
              <a:gd name="adj1" fmla="val -16768"/>
              <a:gd name="adj2" fmla="val 69851"/>
              <a:gd name="adj3" fmla="val 16667"/>
            </a:avLst>
          </a:prstGeom>
          <a:solidFill>
            <a:srgbClr val="cc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文鼎中黑"/>
              </a:rPr>
              <a:t>Missing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文鼎中黑"/>
              </a:rPr>
              <a:t>(IT Cost  Ger. 3‘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4392720" cy="281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35636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68840" y="620640"/>
            <a:ext cx="4297320" cy="28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79280" y="620640"/>
            <a:ext cx="4392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3413-50D9-4981-84DD-C64BE5B8EF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KPI‘s: Financial Targets 2006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633920" y="620640"/>
            <a:ext cx="4330800" cy="287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446400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643280" y="3573360"/>
            <a:ext cx="432144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7B7B-6894-4FBB-8240-99B0B3413D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KPI‘s: Target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4653000"/>
            <a:ext cx="38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ext update based on ISR reporting figures per May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836640"/>
          <a:ext cx="5400360" cy="330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540036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F71C-D58A-46D6-8987-E22A1908CB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 Asia KPI‘s: Target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981000"/>
          <a:ext cx="352908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981000"/>
                    <a:ext cx="35290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rot="20647800">
            <a:off x="900000" y="1483920"/>
            <a:ext cx="244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sia  to be provided nex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55736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sia KPI’s to be provided next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BED4-E647-46DB-A191-25F9BCC07F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360" y="11592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Capacity and Hourly Rate (YT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0600" y="620640"/>
            <a:ext cx="4110120" cy="2737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1054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319280" cy="2893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500720" y="631800"/>
            <a:ext cx="431928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F4F8-C325-4C62-9A96-CBFBC0BE9F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 Definitions (acc. to signed BTA 6.2.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Definition: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TC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iation of target cost per class to cost (M3) agreed at M1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all products having a M1 in 2006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cost M 3 per class (target lifecycle cost – 5%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lass                             1            2            3         4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st/product             2’9        6’2        16’8      38’           (in mill. €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CC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st after M3 for all products having a M3 in 2006. Target -25%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TM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iation of actual cost at M3 to cost (M3) agreed at M1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all products having a M3 in 20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5F14-4ABD-433D-A0F6-F8EBAB5FE5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Klaus Wingens</cp:lastModifiedBy>
  <dcterms:modified xsi:type="dcterms:W3CDTF">2006-05-17T11:11:40Z</dcterms:modified>
  <cp:revision>390</cp:revision>
  <dc:subject/>
  <dc:title>PowerPoint 簡報</dc:title>
</cp:coreProperties>
</file>