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86FC-B278-4742-9133-6EAE37E9F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9450-6DDC-47C1-999A-566C6CD8E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577F-BEFA-49FD-98B9-4E2FBE320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403B-CE80-456F-8799-B0FBFBC63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CEB3-927B-4AD4-A9CC-F272C35C49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2379-F172-4F8B-A24E-7647A4B424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C65C-A17D-4E8D-9133-5068FDEF23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1BFF-B01E-4C99-8651-8342B91261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F588-F20B-468B-9E0F-C19BFC9A4A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8169-9401-4631-9D2E-75F450AC1C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3195-04A5-4ED8-B75F-89DC66A05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169A-7426-4236-A7AE-BE7C62560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F2B0-D5F0-48C1-8883-09C65B98D8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C059-157F-4B67-A54D-7160874B9A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A912-44F8-4D23-9AAB-EB29D8D36D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10E8-3442-42A8-BF25-FA33AE3251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896C-5B81-4DCB-85D7-432178D7DE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1B2-3F52-4E74-B1D7-991FB6C6DF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782-4303-48C9-8CDC-ABE009B441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370-1C97-4A98-8F33-918FEB7CD5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008-3D60-497F-9AAD-8894470930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515-4244-49C1-BF3D-873E1AF154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A43E-293C-4D2D-856A-F1FCF32C8A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8EC-655E-4398-91E3-A840D2B2D2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5F8-1FD0-4472-A774-2E48E479A8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FC8-9275-44D8-8537-905FCA6E54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0D7-2FB8-4BF6-899D-4116FBF215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33C-1828-48E7-A88E-5B1CA83455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EF3-38B6-4AA6-AA96-A981290D77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048-5BF8-4D88-ACDF-8E27D290AE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D6C4D-8E33-4377-A86A-AAEAFAB8D8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8C6E6-84E0-4635-938E-24A76F83EA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76F8E-CFA2-45D0-ABA5-F57A9CBD5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A466-AAF2-4B8D-913E-9910DB84E6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D8EDC-4237-45C0-B7E0-55EFE4A28B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616BF-0448-45A3-ADE2-227A0BE866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79DE2-D60C-48BF-AF6C-44E2BC0610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00D99-556C-4CA0-9FAE-AB1A83BEB7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6B451-3438-4D89-8148-1A42010392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7D4B5-88E7-43EA-9BF9-337F80B0F4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769A3-8746-4366-AB3E-8FF6A24E84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3F154-457F-4422-92EB-5BD55A6646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3C0E9-A639-45D8-8E5F-7C571D606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AFAD-F9A9-4E52-9EC6-3D7F0805E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8151-DB03-4BE3-800E-123E876CD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0525-EF6D-449E-A7BC-B8273E594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6428-86C2-45F0-916F-72D74CD3C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CEDF-8C58-4911-AE78-A3642890C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F05-4A49-459A-9CBA-8518DE79D44D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.1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8541-190F-4E2A-B8E4-BEFAC7532B13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1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850000" y="5589720"/>
            <a:ext cx="1601640" cy="792000"/>
            <a:chOff x="5850000" y="5589720"/>
            <a:chExt cx="1601640" cy="792000"/>
          </a:xfrm>
        </p:grpSpPr>
        <p:sp>
          <p:nvSpPr>
            <p:cNvPr id="50" name=""/>
            <p:cNvSpPr/>
            <p:nvPr/>
          </p:nvSpPr>
          <p:spPr>
            <a:xfrm>
              <a:off x="5850000" y="5589720"/>
              <a:ext cx="288720" cy="216000"/>
            </a:xfrm>
            <a:prstGeom prst="rect">
              <a:avLst/>
            </a:prstGeom>
            <a:solidFill>
              <a:srgbClr val="d1c1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34760" y="5589720"/>
              <a:ext cx="114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R&amp;D Board M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50000" y="5878800"/>
              <a:ext cx="288720" cy="215640"/>
            </a:xfrm>
            <a:prstGeom prst="rect">
              <a:avLst/>
            </a:prstGeom>
            <a:solidFill>
              <a:srgbClr val="e9e1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92720" y="5880240"/>
              <a:ext cx="12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par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50000" y="6166080"/>
              <a:ext cx="288720" cy="215640"/>
            </a:xfrm>
            <a:prstGeom prst="rect">
              <a:avLst/>
            </a:prstGeom>
            <a:solidFill>
              <a:srgbClr val="e5f5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10360" y="6166080"/>
              <a:ext cx="12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ork To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A755-09C1-46C2-BF5E-4B54D88380E3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2May06, V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4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CBCD-DF8F-4855-827B-4DDB5BE4D5E9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1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223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HE Research &amp; Developmen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4573440"/>
            <a:ext cx="5601960" cy="272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, YC Lee, K. Win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Product House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Organizational Overview V.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May, 2nd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5E88-7B17-4D07-B0D6-845782AEA1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360" y="15048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MG PH Research &amp; Development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rganizational Overview – 02. May 2006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1052640"/>
            <a:ext cx="4249440" cy="863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Researc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Dr. S. Bocionek     Dr. YC Lee (deputy)      K. Wingens (B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PC Special Projec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hange Mg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R. Schol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191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I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dustri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. Thonha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WT Liu (liaison As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1800" y="256536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Taipe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sinchu, Suzh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YC L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S Chen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M 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Mun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. Bocion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3394080"/>
            <a:ext cx="10810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Suzhou (Chin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W S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K 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Kamp-Lintf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G. Fäss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04472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35600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22764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604360" y="2276280"/>
            <a:ext cx="1440" cy="316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4720" y="227664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Riesme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19640" y="227664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P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,Tools,Met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. Top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umei Lin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. Lefe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ndy T Huang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256536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Bej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D. Didascal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38836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64000" y="22766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00220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4328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19640" y="227664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74072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K. W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003280" y="4581360"/>
            <a:ext cx="21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s. Oper.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ng J Liu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93080" y="339408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Manaus (BR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L. Mariano Lu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504972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Aalborg (D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F. Erik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0" y="4221000"/>
            <a:ext cx="1079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Hsinch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(Taiw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S C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&amp; YJ C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38836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51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79640" y="227664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97964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981080" y="4581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76364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765440" y="4581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93080" y="422100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Wroclaw (P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O. Di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388360" y="54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5049720"/>
            <a:ext cx="1295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orman Ji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08720" y="299700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508720" y="299700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0872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2997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872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C74-EA94-4C67-8AA7-F9E65044B992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5360" y="150480"/>
            <a:ext cx="8739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MG PH R&amp;D Center Kamp-Lintfort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rganizational Overview – 04. May 2006                               DRAFT            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1052640"/>
            <a:ext cx="4249440" cy="863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Kamp-Lint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Dr. Georg Fä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216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or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Günter Sei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1800" y="389736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ser Interface &amp;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anfred Dietz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M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tegration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alf Wei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216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iddleware &amp;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tefan Luxenbu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227664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ject L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lrich Gei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227664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orbert Haid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519444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or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Leif Sil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70640" y="5159520"/>
            <a:ext cx="1295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I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ser Interface &amp;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rkhard Düm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6" idx="2"/>
            <a:endCxn id="231" idx="3"/>
          </p:cNvCxnSpPr>
          <p:nvPr/>
        </p:nvCxnSpPr>
        <p:spPr>
          <a:xfrm rot="5400000">
            <a:off x="3680640" y="2014560"/>
            <a:ext cx="738720" cy="54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6" idx="2"/>
            <a:endCxn id="232" idx="1"/>
          </p:cNvCxnSpPr>
          <p:nvPr/>
        </p:nvCxnSpPr>
        <p:spPr>
          <a:xfrm flipH="1" rot="16200000">
            <a:off x="4220280" y="2016000"/>
            <a:ext cx="73872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7" idx="0"/>
            <a:endCxn id="230" idx="0"/>
          </p:cNvCxnSpPr>
          <p:nvPr/>
        </p:nvCxnSpPr>
        <p:spPr>
          <a:xfrm flipH="1" rot="16200000">
            <a:off x="586908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26" idx="2"/>
            <a:endCxn id="229" idx="0"/>
          </p:cNvCxnSpPr>
          <p:nvPr/>
        </p:nvCxnSpPr>
        <p:spPr>
          <a:xfrm rot="5400000">
            <a:off x="3022920" y="2599560"/>
            <a:ext cx="1981800" cy="614880"/>
          </a:xfrm>
          <a:prstGeom prst="bentConnector3">
            <a:avLst>
              <a:gd name="adj1" fmla="val 762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30" idx="0"/>
            <a:endCxn id="228" idx="0"/>
          </p:cNvCxnSpPr>
          <p:nvPr/>
        </p:nvCxnSpPr>
        <p:spPr>
          <a:xfrm flipH="1" rot="16200000">
            <a:off x="730872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33" idx="0"/>
            <a:endCxn id="234" idx="0"/>
          </p:cNvCxnSpPr>
          <p:nvPr/>
        </p:nvCxnSpPr>
        <p:spPr>
          <a:xfrm flipH="1" flipV="1" rot="5400000">
            <a:off x="6565320" y="3741480"/>
            <a:ext cx="35640" cy="2870640"/>
          </a:xfrm>
          <a:prstGeom prst="bentConnector3">
            <a:avLst>
              <a:gd name="adj1" fmla="val 754081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41" name=""/>
          <p:cNvSpPr/>
          <p:nvPr/>
        </p:nvSpPr>
        <p:spPr>
          <a:xfrm>
            <a:off x="179280" y="389736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B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tefan Alb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F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adio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homas Herman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endCxn id="227" idx="0"/>
          </p:cNvCxnSpPr>
          <p:nvPr/>
        </p:nvCxnSpPr>
        <p:spPr>
          <a:xfrm flipH="1" rot="16200000">
            <a:off x="3707280" y="2453760"/>
            <a:ext cx="2520" cy="2883600"/>
          </a:xfrm>
          <a:prstGeom prst="bentConnector3">
            <a:avLst>
              <a:gd name="adj1" fmla="val -293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/>
          <p:nvPr/>
        </p:nvCxnSpPr>
        <p:spPr>
          <a:xfrm flipH="1" rot="16200000">
            <a:off x="7596720" y="3500640"/>
            <a:ext cx="1369080" cy="122472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5" name=""/>
          <p:cNvCxnSpPr/>
          <p:nvPr/>
        </p:nvCxnSpPr>
        <p:spPr>
          <a:xfrm>
            <a:off x="7689960" y="49287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6" name=""/>
          <p:cNvCxnSpPr>
            <a:stCxn id="241" idx="0"/>
            <a:endCxn id="242" idx="0"/>
          </p:cNvCxnSpPr>
          <p:nvPr/>
        </p:nvCxnSpPr>
        <p:spPr>
          <a:xfrm flipH="1" rot="16200000">
            <a:off x="154620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B33-FB3F-4271-AAE0-6302C199DD36}" type="slidenum">
              <a:t>3</a:t>
            </a:fld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DB08-9249-4FF4-B22B-FB365478958A}" type="slidenum">
              <a:t>4</a:t>
            </a:fld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faessler</cp:lastModifiedBy>
  <dcterms:modified xsi:type="dcterms:W3CDTF">2006-05-17T09:14:13Z</dcterms:modified>
  <cp:revision>328</cp:revision>
  <dc:subject/>
  <dc:title>PHE R&amp;D Organization Char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