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EC04-91E3-42ED-928C-15685B95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C69D-A334-44B5-9675-A86556A0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B650-2197-43BB-ACE4-CFAE277D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B2BF-46B0-43F4-B338-4CDCA723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869F-AEF0-459E-BFB3-FF5EE07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712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0560" y="227664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68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712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0560" y="3640320"/>
            <a:ext cx="2640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7790-C21B-4D54-82E3-B776E78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7749-9934-4978-A50D-6C16E91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7722-8913-44B5-9214-AE7F433B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54040" y="766080"/>
            <a:ext cx="536904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FE16-F1F0-4312-A7EA-E5E8EAA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FA02-5E43-4EFA-A4C8-DD00DF5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7040" y="364032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84B7-DC7A-4261-8DF2-9526F40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368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7040" y="2276640"/>
            <a:ext cx="40028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3680" y="3640320"/>
            <a:ext cx="820260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BFA4-4B5E-4405-A78F-6542FA3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age </a:t>
            </a:r>
            <a:fld id="{70A7A867-7BC8-4FF1-89E1-8F5187412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algn="ctr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2120" algn="ctr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3000" algn="ctr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58560"/>
            <a:ext cx="75996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rocess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ol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ethodology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Organizational Setup (Draft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Headcount Germany Pla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3957120"/>
            <a:ext cx="71978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ch 2006 – Confid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497480"/>
            <a:ext cx="359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rio To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88920" y="1798560"/>
            <a:ext cx="71978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8920" y="1798560"/>
            <a:ext cx="0" cy="17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78200" y="988920"/>
            <a:ext cx="2203560" cy="5508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8200" y="719280"/>
            <a:ext cx="2203560" cy="5508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Tools Methodologie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/ Sumei Lin (depu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7840" y="125892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560" y="2249640"/>
            <a:ext cx="1258920" cy="53964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1979640"/>
            <a:ext cx="1258920" cy="53964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es &amp; Planning Tool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PPT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1" lang="en-US" sz="900" spc="-1" strike="noStrike">
                <a:solidFill>
                  <a:srgbClr val="002b5d"/>
                </a:solidFill>
                <a:latin typeface="Arial"/>
                <a:ea typeface="新細明體"/>
              </a:rPr>
              <a:t>Mario Topel (ac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" y="5398920"/>
            <a:ext cx="8456760" cy="9072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5130720"/>
            <a:ext cx="844704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ranet &amp;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560" y="6116760"/>
            <a:ext cx="8456760" cy="9036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8280" y="5859360"/>
            <a:ext cx="844704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elpdesk – Training -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8480" y="5130720"/>
            <a:ext cx="1257480" cy="26820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IC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8200" y="5859360"/>
            <a:ext cx="1257120" cy="268560"/>
          </a:xfrm>
          <a:prstGeom prst="rect">
            <a:avLst/>
          </a:prstGeom>
          <a:solidFill>
            <a:srgbClr val="ccccff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H RD PTM HTS</a:t>
            </a:r>
            <a:br>
              <a:rPr sz="1000"/>
            </a:b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.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2789280"/>
            <a:ext cx="1258920" cy="224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es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MEP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Crossfunctio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op Down Budget Planning</a:t>
            </a:r>
            <a:br>
              <a:rPr sz="8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MC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75000"/>
              </a:lnSpc>
              <a:spcBef>
                <a:spcPts val="2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Workpackag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lanning:</a:t>
            </a:r>
            <a:br>
              <a:rPr sz="1000"/>
            </a:b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新細明體"/>
              </a:rPr>
              <a:t>PRIMAVERA / MS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957480" y="1798560"/>
            <a:ext cx="1528920" cy="3240000"/>
            <a:chOff x="3957480" y="1798560"/>
            <a:chExt cx="1528920" cy="3240000"/>
          </a:xfrm>
        </p:grpSpPr>
        <p:sp>
          <p:nvSpPr>
            <p:cNvPr id="108" name=""/>
            <p:cNvSpPr/>
            <p:nvPr/>
          </p:nvSpPr>
          <p:spPr>
            <a:xfrm>
              <a:off x="458784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748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W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748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SW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Wolfgang Hetti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748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scription Language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TAU /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Configuration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SYNERGY / Rational Clearcase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fect Management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Rational CLEARQUEST / SERE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Automated Test:)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(tbd) Mercury TESTDIRE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757840" y="1798560"/>
            <a:ext cx="1528920" cy="3240000"/>
            <a:chOff x="5757840" y="1798560"/>
            <a:chExt cx="1528920" cy="3240000"/>
          </a:xfrm>
        </p:grpSpPr>
        <p:sp>
          <p:nvSpPr>
            <p:cNvPr id="113" name=""/>
            <p:cNvSpPr/>
            <p:nvPr/>
          </p:nvSpPr>
          <p:spPr>
            <a:xfrm>
              <a:off x="638820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2784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784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ET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Edwin Schmid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5784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3D CA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dustrial Design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ATIA / Pro Engine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CB-Design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Mentor Graphics / 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rCAD / PA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Production Interfac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tem number managemen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SAP PLM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B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56400" y="1798560"/>
            <a:ext cx="1260720" cy="3240000"/>
            <a:chOff x="7556400" y="1798560"/>
            <a:chExt cx="1260720" cy="3240000"/>
          </a:xfrm>
        </p:grpSpPr>
        <p:sp>
          <p:nvSpPr>
            <p:cNvPr id="118" name=""/>
            <p:cNvSpPr/>
            <p:nvPr/>
          </p:nvSpPr>
          <p:spPr>
            <a:xfrm>
              <a:off x="818676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820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&amp;D Service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D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Mario Topel (act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 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unich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Kamp-Lintfort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&amp;D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Infrastructure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Wroclav (tbc)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Operations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920" y="5489640"/>
            <a:ext cx="8456400" cy="269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Intranet Communication – Centralized Data, Process document and Information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6207120"/>
            <a:ext cx="8456400" cy="27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18000" bIns="0" anchor="t">
            <a:normAutofit/>
          </a:bodyPr>
          <a:p>
            <a:pPr lvl="1" marL="225360" indent="-223920">
              <a:lnSpc>
                <a:spcPct val="75000"/>
              </a:lnSpc>
              <a:spcBef>
                <a:spcPts val="249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lobal Helpdesk – Training – Suppor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7120" y="988920"/>
            <a:ext cx="1170000" cy="540000"/>
          </a:xfrm>
          <a:prstGeom prst="rect">
            <a:avLst/>
          </a:prstGeom>
          <a:solidFill>
            <a:srgbClr val="ff99cc">
              <a:alpha val="90000"/>
            </a:srgbClr>
          </a:solidFill>
          <a:ln w="0">
            <a:noFill/>
          </a:ln>
          <a:effectLst>
            <a:outerShdw dist="17819" dir="2700000" blurRad="0" rotWithShape="0">
              <a:srgbClr val="98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eer Organization planned in A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58920" y="1798560"/>
            <a:ext cx="1528920" cy="3240000"/>
            <a:chOff x="2158920" y="1798560"/>
            <a:chExt cx="1528920" cy="3240000"/>
          </a:xfrm>
        </p:grpSpPr>
        <p:sp>
          <p:nvSpPr>
            <p:cNvPr id="125" name=""/>
            <p:cNvSpPr/>
            <p:nvPr/>
          </p:nvSpPr>
          <p:spPr>
            <a:xfrm>
              <a:off x="2789280" y="1798560"/>
              <a:ext cx="0" cy="179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8920" y="2249640"/>
              <a:ext cx="1258920" cy="539640"/>
            </a:xfrm>
            <a:prstGeom prst="rect">
              <a:avLst/>
            </a:prstGeom>
            <a:solidFill>
              <a:srgbClr val="ff99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985b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Software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8920" y="1979640"/>
              <a:ext cx="1258920" cy="539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Requirements Engineering Tools</a:t>
              </a:r>
              <a:br>
                <a:rPr sz="10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PH RD PTM RET</a:t>
              </a:r>
              <a:br>
                <a:rPr sz="1000"/>
              </a:br>
              <a:r>
                <a:rPr b="1" lang="en-US" sz="900" spc="-1" strike="noStrike">
                  <a:solidFill>
                    <a:srgbClr val="002b5d"/>
                  </a:solidFill>
                  <a:latin typeface="Arial"/>
                  <a:ea typeface="新細明體"/>
                </a:rPr>
                <a:t>Hans Veit Bac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58920" y="2789280"/>
              <a:ext cx="1258920" cy="2249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18000" bIns="0" anchor="t">
              <a:normAutofit/>
            </a:bodyPr>
            <a:p>
              <a:pPr>
                <a:lnSpc>
                  <a:spcPct val="75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ools &amp; Task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01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quirements Engineering:</a:t>
              </a:r>
              <a:br>
                <a:rPr sz="10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Telelogic DOORS /</a:t>
              </a:r>
              <a:br>
                <a:rPr sz="800"/>
              </a:br>
              <a:r>
                <a:rPr b="0" i="1" lang="en-US" sz="800" spc="-1" strike="noStrike">
                  <a:solidFill>
                    <a:srgbClr val="3a0e66"/>
                  </a:solidFill>
                  <a:latin typeface="Arial"/>
                  <a:ea typeface="新細明體"/>
                </a:rPr>
                <a:t>CR Ligh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25360" indent="-223920">
                <a:lnSpc>
                  <a:spcPct val="75000"/>
                </a:lnSpc>
                <a:spcBef>
                  <a:spcPts val="249"/>
                </a:spcBef>
                <a:buClr>
                  <a:srgbClr val="3a0e66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Tool and Process Interface to Categ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558200" y="4011480"/>
            <a:ext cx="1258920" cy="48600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9EAD-5620-4300-B1AB-2906E566146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(2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 P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rocesse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T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ools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新細明體"/>
              </a:rPr>
              <a:t>M</a:t>
            </a: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ethodologie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rganizational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8920" y="809640"/>
            <a:ext cx="8997840" cy="57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930C-D047-44F2-897A-79AF233AD31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io Topel</cp:lastModifiedBy>
  <cp:lastPrinted>2006-01-10T22:20:18Z</cp:lastPrinted>
  <dcterms:modified xsi:type="dcterms:W3CDTF">2006-05-15T09:44:40Z</dcterms:modified>
  <cp:revision>809</cp:revision>
  <dc:subject/>
  <dc:title>PowerPoint Presentation</dc:title>
</cp:coreProperties>
</file>