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32E-C2FF-470C-9DAF-67C2563D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3EB-1E73-40D6-94D8-1886598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A22-E53C-4071-8DDD-B6FC8D5E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B0F-892E-4147-A5E9-DF9C2C26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9FDA8-47AA-443C-B484-9B9838FC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D48FA-F032-4774-8AEE-8D61450A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3AF2F-D8A6-41FE-BCC5-B2EE036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5373-0FDC-473D-AA7A-BA79764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9E09-B379-426E-B22A-B6BF0C0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D01E-453B-42E7-A9F4-489A72DF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0911A-209F-44BE-AA24-8E1CE21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C8E-8C16-42DD-BCD5-583A180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6440-6FD6-4CBF-BAA0-833BEE4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5ECD9-D0F0-4423-8FC1-9A3875B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46D6E-ABE9-4281-A185-E4065B19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C8A7-A32B-45AE-A10C-DA7B882D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52F3-2D24-42B4-93C4-AAC08B19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01C-69EE-431D-B006-6529E51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C52-8155-41AF-9E47-4357659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5B9-15EB-41A6-B5D9-24F5A921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2CD-26B0-43C0-861E-7A484FF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179-35A6-4DD4-8C9C-84584EA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945-606A-4EF1-8B87-A1533036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2AB-5572-4877-9A49-662C2C7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9FA-BCC1-4E7D-B5F4-83A516F7B572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4040" y="766080"/>
            <a:ext cx="53690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53680" y="2276640"/>
            <a:ext cx="82026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221400">
              <a:spcBef>
                <a:spcPts val="62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840" indent="-222840">
              <a:spcBef>
                <a:spcPts val="624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040" indent="-221400">
              <a:spcBef>
                <a:spcPts val="624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680" indent="-223200">
              <a:spcBef>
                <a:spcPts val="624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680" indent="-2232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98920" y="6579360"/>
            <a:ext cx="334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554040" y="6396840"/>
            <a:ext cx="582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37501F-E7B1-4D60-AC04-2398BE99C3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1888920" y="6577920"/>
            <a:ext cx="726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179280"/>
            <a:ext cx="2412360" cy="277560"/>
            <a:chOff x="6477120" y="179280"/>
            <a:chExt cx="2412360" cy="2775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477120" y="179280"/>
              <a:ext cx="9572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rcRect l="4008" t="11580" r="3770" b="17710"/>
            <a:stretch/>
          </p:blipFill>
          <p:spPr>
            <a:xfrm>
              <a:off x="7532640" y="182160"/>
              <a:ext cx="135684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431120" y="271080"/>
              <a:ext cx="74160" cy="7488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26640" cy="673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4040" y="1447560"/>
            <a:ext cx="7012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421240" y="6192720"/>
            <a:ext cx="3319560" cy="382680"/>
            <a:chOff x="5421240" y="6192720"/>
            <a:chExt cx="3319560" cy="38268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421240" y="6192720"/>
              <a:ext cx="131760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rcRect l="4008" t="15978" r="3770" b="17710"/>
            <a:stretch/>
          </p:blipFill>
          <p:spPr>
            <a:xfrm>
              <a:off x="6873840" y="6216480"/>
              <a:ext cx="18669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34160" y="6319800"/>
              <a:ext cx="101520" cy="10152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504" y="0"/>
                  </a:moveTo>
                  <a:cubicBezTo>
                    <a:pt x="641" y="0"/>
                    <a:pt x="910" y="47"/>
                    <a:pt x="935" y="72"/>
                  </a:cubicBezTo>
                  <a:cubicBezTo>
                    <a:pt x="960" y="97"/>
                    <a:pt x="1008" y="369"/>
                    <a:pt x="1008" y="504"/>
                  </a:cubicBezTo>
                  <a:cubicBezTo>
                    <a:pt x="1008" y="639"/>
                    <a:pt x="963" y="909"/>
                    <a:pt x="938" y="934"/>
                  </a:cubicBezTo>
                  <a:cubicBezTo>
                    <a:pt x="913" y="959"/>
                    <a:pt x="639" y="1006"/>
                    <a:pt x="504" y="1006"/>
                  </a:cubicBezTo>
                  <a:cubicBezTo>
                    <a:pt x="369" y="1006"/>
                    <a:pt x="100" y="961"/>
                    <a:pt x="75" y="936"/>
                  </a:cubicBezTo>
                  <a:cubicBezTo>
                    <a:pt x="50" y="911"/>
                    <a:pt x="0" y="638"/>
                    <a:pt x="0" y="504"/>
                  </a:cubicBezTo>
                  <a:cubicBezTo>
                    <a:pt x="0" y="370"/>
                    <a:pt x="49" y="98"/>
                    <a:pt x="74" y="72"/>
                  </a:cubicBezTo>
                  <a:cubicBezTo>
                    <a:pt x="99" y="46"/>
                    <a:pt x="367" y="0"/>
                    <a:pt x="504" y="0"/>
                  </a:cubicBezTo>
                  <a:close/>
                </a:path>
              </a:pathLst>
            </a:cu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9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0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1520" y="659772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y 08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y 0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alistic but ag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7242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evaluation to be discussed with mgmt; follow ups needed (May, Ju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easure now true quantitative improvements (start 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8399520" y="4673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8664480" y="4916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cesse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upda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br>
              <a:rPr sz="1400"/>
            </a:b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ay 05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Work packages moved due to launch of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Role definitions will be handled within Processes N’Sy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398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 rot="16200000">
            <a:off x="8207280" y="3853800"/>
            <a:ext cx="161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Requirement Engineering Excellence“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establish formal requirements engineering practice in BMG („Best-in-Class“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op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duct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latform requirement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All projects globall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mprove on all levels of operation within CM and P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rocess: Role and workflow clarity (incl. deliverables), trigger organizational adaptions where needed, speed through re-use,, support of Agile with Scrum, ensure formal review practices, increase transparency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People: Skills, Training, Mentoring and Staffing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Tools: Improve usability of Doors, increase  also RE efficiency by adequate tool support (i.e. Doors, CR-Light)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Communication: Improve, align and communicate activities  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5360">
              <a:lnSpc>
                <a:spcPct val="10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3a0e66"/>
                </a:solidFill>
                <a:latin typeface="Arial Unicode MS"/>
              </a:rPr>
              <a:t>(TBD) Projects: higher quality documents / requirements, „small but beautiful“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asures of Success </a:t>
            </a:r>
            <a:r>
              <a:rPr b="1" lang="en-US" sz="1000" spc="-1" strike="noStrike">
                <a:solidFill>
                  <a:srgbClr val="3a0e66"/>
                </a:solidFill>
                <a:latin typeface="Arial Unicode MS"/>
              </a:rPr>
              <a:t>(to be finalised and agreed upon)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Internal Customer satisfaction; positive Doors user feedback by opinion surve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n-time delivery (OTD) of requirements docs at Mx milestones &gt; 90% of plan (TBD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100% product requirements handled in Doors at end of CY 2006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 / Syd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Manager:  Jörg Sarzio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i-weekly jourfix with coache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monthly managemen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191880" indent="-1918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Apr 06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nalyze situation and identify improvement areas (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ccompany pilot projects Ruby, Koala and Gemstone platform (start 04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Define project setup, targets and first rollout plan 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lign and initiate “low hanging fruits” improvements within Doors, agree on Rollout Plan for “Phase 1”(05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Fix RE workstream / processes (in alignment with CM Implementation and PD setup / Agile ) (06/06 - tbd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Ensure adequate people skills and staffing (07/06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Based on agreed upon processes modify as required Doors,</a:t>
            </a:r>
            <a:br>
              <a:rPr sz="900"/>
            </a:b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agree rollout plan for Phase 2 (start 07/06, duration tbd)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-159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arget  Project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41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4" name=""/>
          <p:cNvSpPr/>
          <p:nvPr/>
        </p:nvSpPr>
        <p:spPr>
          <a:xfrm>
            <a:off x="4457880" y="3514680"/>
            <a:ext cx="4485960" cy="299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 (Status 26.4.06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30 interviews with stakeholders of RE in CM and PD condu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ore than 100 points with improvement potential identified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 first clustering / prioritization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rafting of first work packages / measures for Process and Tool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(Doors) improve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widely varying understanding; limited availability of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Kickoff with Coaches, fix project go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cross functional project setup, fix and rollout meeting an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reporting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x and align first work packages within the areas o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PROCESS, TOOLs and 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8427960" y="3846240"/>
            <a:ext cx="15696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8377200" y="360216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8632800" y="384624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9520" y="5877000"/>
            <a:ext cx="2900520" cy="5810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9320" y="-76680"/>
            <a:ext cx="5802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342720"/>
            <a:ext cx="4077000" cy="65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-37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26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TDD for acceptance test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S25 milestone for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project specific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Unicode MS"/>
              </a:rPr>
              <a:t>Rollout of Testdirector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22720" indent="-5227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:             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80% done, 20% planned 1.6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incl. first roll out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partly done, to be completed 15.6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(done in time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good progress, but delayed due to resources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. incl. first roll out (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no project S25 yet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896040" indent="-4478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Buy decision shifted 20.5.05 due to merge PH, pilot run 30.8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2" name=""/>
          <p:cNvSpPr/>
          <p:nvPr/>
        </p:nvSpPr>
        <p:spPr>
          <a:xfrm>
            <a:off x="4610160" y="2962440"/>
            <a:ext cx="4448160" cy="323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ngoing data collection for all metr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crum teams with TD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in operation and report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eper alignment with RS SW for C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8364240" y="29746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8629560" y="321768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513560" y="809640"/>
            <a:ext cx="1136880" cy="900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58560" y="809280"/>
            <a:ext cx="395892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0" tIns="36000" bIns="0" anchor="t">
            <a:normAutofit/>
          </a:bodyPr>
          <a:p>
            <a:pPr indent="0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Establish integrated SW-Tool Chain to support SW-development, agile programming methods, iterative, time- boxed and test driven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Harmonization of SW-Tool landscape for BenQ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5360" indent="-223920">
              <a:lnSpc>
                <a:spcPct val="80000"/>
              </a:lnSpc>
              <a:spcBef>
                <a:spcPts val="374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Perform Best Practice Sharing and Bench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1st (draft) concep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w team setup available, Kick-Off planned in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w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only 2+1 team members instead of needed 8 (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till no official communication to Taiwan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826400" y="4317480"/>
            <a:ext cx="719280" cy="360360"/>
            <a:chOff x="7826400" y="4317480"/>
            <a:chExt cx="719280" cy="360360"/>
          </a:xfrm>
        </p:grpSpPr>
        <p:sp>
          <p:nvSpPr>
            <p:cNvPr id="419" name=""/>
            <p:cNvSpPr/>
            <p:nvPr/>
          </p:nvSpPr>
          <p:spPr>
            <a:xfrm rot="16200000">
              <a:off x="8005680" y="4137840"/>
              <a:ext cx="360360" cy="719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8096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8312040" y="4407840"/>
              <a:ext cx="179640" cy="17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7878600" y="4407840"/>
              <a:ext cx="179640" cy="179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58920" y="179280"/>
            <a:ext cx="6118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Project       </a:t>
            </a:r>
            <a:r>
              <a:rPr b="1" i="1" lang="en-US" sz="2000" spc="-1" strike="noStrike">
                <a:solidFill>
                  <a:srgbClr val="3a0e66"/>
                </a:solidFill>
                <a:latin typeface="Arial"/>
                <a:ea typeface="新細明體"/>
              </a:rPr>
              <a:t>Best in SW-Tools for BenQ Mobi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rio Topel (Status 26.04.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920" y="1978200"/>
            <a:ext cx="39589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Established SW-Tool Chain including workflow documentation per product line till Q4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Harmonization level 1 (number of different SW-Tool used for same task) per product line in Q3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1 Best Practice Sharing/Benchmarking per hal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Infrastructure costs reduced by 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ositive user feedback &gt;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920" y="3508200"/>
            <a:ext cx="3958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Coach: Dr. S.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Program Manager/Project Lead: M. Topel / W. Hett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78200" y="809640"/>
            <a:ext cx="3959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Tools &amp; T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Requirements Engineering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DOORS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scription Language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TAU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Configuration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lelogic SYNERGY / 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Defect Management: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ational CLEARQUEST / SE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Automated Test:)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 To be decided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Mercury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78200" y="278748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Reporting &amp;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Team Meeting: Weekly (re-start cw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Steering Board: Monthly (re-start cw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78200" y="3508200"/>
            <a:ext cx="3959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a0e66"/>
                </a:solidFill>
                <a:latin typeface="Arial"/>
                <a:ea typeface="新細明體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Restart: cw18  / Tool assessment 05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 indent="-2239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新細明體"/>
              </a:rPr>
              <a:t>Final project plan: cw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8920" y="4227480"/>
            <a:ext cx="4138560" cy="234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source clarification/budget release by R&amp;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ment of new setup incl. globa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communication needed by R&amp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9036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Project plan to be worked out in detail (May 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Best practice sharing /w SIE MED (17./18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Tool / workflow assessment Beijing/Taipei till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 Jun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rot="16200000">
            <a:off x="8086680" y="207792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0160" y="800280"/>
            <a:ext cx="4076640" cy="12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4" name=""/>
          <p:cNvSpPr/>
          <p:nvPr/>
        </p:nvSpPr>
        <p:spPr>
          <a:xfrm>
            <a:off x="4559400" y="1978200"/>
            <a:ext cx="4262400" cy="45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inings done in MCH, KLF, WRO (Scrum Master, Agile C development). High trainee satisf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Various definitions done (Product owner team, Req to use cases, Acceptance tests,..)=&gt;several work products avail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mmunication into projects and R&amp;D improved (bi-weekly newsletter, presentation of agile definition results in prj-meeting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ed prototype for automated simulation and in-target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Gemstone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&gt;20 scrum teams runn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uration of Qualcomm-SW build to long for T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improvement of Q-simulation needed in Qualco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requirements-&gt;use cases-&gt;architecture support for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road training coverage for acceptance testing, agile C, C++, test-drive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800" indent="-95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information to teams about agile transition 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8307360" y="206964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246880" y="182700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8511840" y="206964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-2343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09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crum teams and sprint planning of pilots to be established at PSE and BenQ Po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all 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2460600"/>
            <a:ext cx="4178520" cy="37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 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 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projects added: Philippe, Hawk &amp; Obsidian, O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projects to be added ( Ruby, Falc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Ruby/QCT“: K. Rudolp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velop and test „Agile with Scrum“ as software development process within BenQ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-2160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totype Agile with SCRUM in Ruby and QCT platform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pare organization for Agile process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74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for Ruby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</a:rPr>
              <a:t>Create prioritized transition backlog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crum teams and sprint planning of Ruby pilot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uby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proposal in 07/06 defined for Rub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TM of Ruby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ach: S.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anager full transition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ject lead Ruby transition: K. Rudolp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ithin regular project reviews in the OPC and every months in PLM excellence report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2286000"/>
            <a:ext cx="4262400" cy="41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rchitecture preparation completed, Requirements structure definition ongo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rst 4 Scrum teams in WRO finished their first sprint with excellent results (high motivation, good achievements, positive experience and first results with T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urther 17 Scrum teams in WRO and MCH started for next 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crum Master training for WRO and MCH completed, TDD   trainings started and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requirements structure, complete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fully the architecture of Ruby, complete further sprint planning and setup of all remaining Scrum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TDD and Agile trainings for all involved teams (SW+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mprove Build process and testing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tatus</a:t>
            </a:r>
            <a:br>
              <a:rPr sz="6600"/>
            </a:b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Summary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roducts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ross-organizational workgr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e-use strategy doc: Feb 06 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lanning for 2008 portfolio: 3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4648320"/>
            <a:ext cx="8525160" cy="197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hange process 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etune portfolio along whole new product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orking on re-use strategy and improved platform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sider colocation of Mulholland and Bocion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399160" y="450828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8664480" y="475092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z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4" name=""/>
          <p:cNvSpPr/>
          <p:nvPr/>
        </p:nvSpPr>
        <p:spPr>
          <a:xfrm>
            <a:off x="4610160" y="2962440"/>
            <a:ext cx="4448160" cy="268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presentation prepared by IS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or training to be started top down in RD boar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177040" y="3060720"/>
            <a:ext cx="644760" cy="270000"/>
            <a:chOff x="8177040" y="3060720"/>
            <a:chExt cx="644760" cy="270000"/>
          </a:xfrm>
        </p:grpSpPr>
        <p:sp>
          <p:nvSpPr>
            <p:cNvPr id="476" name=""/>
            <p:cNvSpPr/>
            <p:nvPr/>
          </p:nvSpPr>
          <p:spPr>
            <a:xfrm rot="16200000">
              <a:off x="8364240" y="287316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8426520" y="3116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 and 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10160" y="837720"/>
            <a:ext cx="40766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1" name=""/>
          <p:cNvSpPr/>
          <p:nvPr/>
        </p:nvSpPr>
        <p:spPr>
          <a:xfrm>
            <a:off x="4276800" y="838080"/>
            <a:ext cx="4781520" cy="546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feature definition with CTM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nal project plan fixed (prototyp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ystem supplier selected (Marv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sign proposal for prototype and produc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support for SW realiz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oject can only be continued as produc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kype requests BenQ presentation (incl. BenQ Mobile company presentation, product story, business c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development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gree system deliverables with supplier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Complete component definitio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PCB and Mechanical Design (Apr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esentation at  Skype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cision for product (ASA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177040" y="939600"/>
            <a:ext cx="644760" cy="269640"/>
            <a:chOff x="8177040" y="939600"/>
            <a:chExt cx="644760" cy="269640"/>
          </a:xfrm>
        </p:grpSpPr>
        <p:sp>
          <p:nvSpPr>
            <p:cNvPr id="483" name=""/>
            <p:cNvSpPr/>
            <p:nvPr/>
          </p:nvSpPr>
          <p:spPr>
            <a:xfrm rot="16200000">
              <a:off x="8364600" y="752040"/>
              <a:ext cx="26964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8426520" y="1001520"/>
              <a:ext cx="15696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460600"/>
            <a:ext cx="4178520" cy="263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mi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00ff00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Arial Unicode MS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including all development parties :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7000">
              <a:lnSpc>
                <a:spcPct val="80000"/>
              </a:lnSpc>
              <a:spcBef>
                <a:spcPts val="224"/>
              </a:spcBef>
              <a:buClr>
                <a:srgbClr val="00ff00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81760" y="4138560"/>
            <a:ext cx="3767040" cy="22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ummary</a:t>
            </a: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view of the documentation outlining the results of the FIT 4 APOXI workshop</a:t>
            </a:r>
            <a:r>
              <a:rPr b="0" lang="en-US" sz="2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26.04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 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&amp;D MD restructuring done  ( negative: 5 from 6  Ulm people left after 3 month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to SCM SQA fixed and agreed between R&amp;D and SCM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: detailed project plan for improved integrator supplier concept  ( May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81080" y="1905120"/>
            <a:ext cx="5029200" cy="259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People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M -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rot="16200000">
            <a:off x="6381000" y="2381760"/>
            <a:ext cx="182520" cy="600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6614280" y="2570400"/>
            <a:ext cx="106200" cy="1461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3280" y="19810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066680"/>
          <a:ext cx="8305560" cy="1924200"/>
        </p:xfrm>
        <a:graphic>
          <a:graphicData uri="http://schemas.openxmlformats.org/drawingml/2006/table">
            <a:tbl>
              <a:tblPr/>
              <a:tblGrid>
                <a:gridCol w="1892160"/>
                <a:gridCol w="3593880"/>
                <a:gridCol w="793800"/>
                <a:gridCol w="2025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 Communication in R&amp;D; 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regular all hands communication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Engage in breakfast meetings and other activities (start 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Include PHA R&amp;D in those activities after the PHE/PHA merge (start 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2nd all hands R&amp;D meeting on 31.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breakfast club in Apr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 next all hands R&amp;D meeting (world wide)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ke off from PLM exc.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33520" y="3124080"/>
          <a:ext cx="8366040" cy="160524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High-performing culture &amp; commitment-driven behavior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ocio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repeat every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PI metric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Mgmt Objectives aligned and signed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Balanced Score cards (Feb. 06; moved to Apri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LQA analysis (R&amp;D only: May 06; moved t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b. opinion poll possible in 2Q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Peer Rating in Mgmt (R&amp;D only; Sep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10 Basic Aspects (Oct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7. Feedback rounds, EFA (Nov/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QA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valuation discussion in mgmt team mid 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0" name=""/>
          <p:cNvGrpSpPr/>
          <p:nvPr/>
        </p:nvGrpSpPr>
        <p:grpSpPr>
          <a:xfrm>
            <a:off x="6248520" y="4541400"/>
            <a:ext cx="600120" cy="182520"/>
            <a:chOff x="6248520" y="4541400"/>
            <a:chExt cx="600120" cy="182520"/>
          </a:xfrm>
        </p:grpSpPr>
        <p:sp>
          <p:nvSpPr>
            <p:cNvPr id="311" name=""/>
            <p:cNvSpPr/>
            <p:nvPr/>
          </p:nvSpPr>
          <p:spPr>
            <a:xfrm rot="16200000">
              <a:off x="6457320" y="4332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6493680" y="4610880"/>
              <a:ext cx="12600" cy="1764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6504120" y="4602960"/>
              <a:ext cx="9360" cy="13320"/>
            </a:xfrm>
            <a:prstGeom prst="ellipse">
              <a:avLst/>
            </a:prstGeom>
            <a:solidFill>
              <a:srgbClr val="fff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6689880" y="4558680"/>
              <a:ext cx="106200" cy="1465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"/>
          <p:cNvGraphicFramePr/>
          <p:nvPr/>
        </p:nvGraphicFramePr>
        <p:xfrm>
          <a:off x="533520" y="4962600"/>
          <a:ext cx="8366040" cy="143820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al Model-V: Introduce process culture and discipline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As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Feb. 06) – M. Ass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ducation starts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ternal customer satisfaction metrics se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CIP targets set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Process adaptations completed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MMI baseline available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文鼎中黑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 packages moved due to launch of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ole definitions will be handled within Processes N’Sy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6257880" y="6141600"/>
            <a:ext cx="600120" cy="182520"/>
            <a:chOff x="6257880" y="6141600"/>
            <a:chExt cx="600120" cy="182520"/>
          </a:xfrm>
        </p:grpSpPr>
        <p:sp>
          <p:nvSpPr>
            <p:cNvPr id="317" name=""/>
            <p:cNvSpPr/>
            <p:nvPr/>
          </p:nvSpPr>
          <p:spPr>
            <a:xfrm rot="16200000">
              <a:off x="6466680" y="59328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6562800" y="6159240"/>
              <a:ext cx="106200" cy="147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94504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83808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096960" y="18892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105600" y="2331720"/>
            <a:ext cx="600120" cy="182520"/>
            <a:chOff x="6105600" y="2331720"/>
            <a:chExt cx="600120" cy="182520"/>
          </a:xfrm>
        </p:grpSpPr>
        <p:sp>
          <p:nvSpPr>
            <p:cNvPr id="323" name=""/>
            <p:cNvSpPr/>
            <p:nvPr/>
          </p:nvSpPr>
          <p:spPr>
            <a:xfrm rot="16200000">
              <a:off x="6314400" y="21229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410520" y="2349360"/>
              <a:ext cx="106200" cy="14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457200" y="1828800"/>
          <a:ext cx="8367840" cy="765000"/>
        </p:xfrm>
        <a:graphic>
          <a:graphicData uri="http://schemas.openxmlformats.org/drawingml/2006/table">
            <a:tbl>
              <a:tblPr/>
              <a:tblGrid>
                <a:gridCol w="1938240"/>
                <a:gridCol w="3567240"/>
                <a:gridCol w="849240"/>
                <a:gridCol w="201312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in Requirement Engineering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ar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Sep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Name project lead (Apr. 06) – J. Sarz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x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ccept work plan: May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6096960" y="3013200"/>
            <a:ext cx="529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095880" y="5684400"/>
            <a:ext cx="600120" cy="182520"/>
            <a:chOff x="6095880" y="5684400"/>
            <a:chExt cx="600120" cy="182520"/>
          </a:xfrm>
        </p:grpSpPr>
        <p:sp>
          <p:nvSpPr>
            <p:cNvPr id="328" name=""/>
            <p:cNvSpPr/>
            <p:nvPr/>
          </p:nvSpPr>
          <p:spPr>
            <a:xfrm rot="16200000">
              <a:off x="6304680" y="547560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537600" y="570204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473040" y="2824200"/>
          <a:ext cx="8366040" cy="311940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oing Agil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U. Schmitz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Kick-off for selected projects (01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Broad Introduction of Methodology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Ruby project on Agile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Setup transition team (0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Mentoring by OM starts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Create prioritized transition backlog and transition   plan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Start Gemstone project on Agile (03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Scrum teams and sprint planning of pilots established (05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. Pilot teams trained for TDD and agile principles (06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 New R&amp;D process for Agile development released (09/06)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–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proposal in 07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1. Start full transition program (09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 Organization prepared for full agile transition (12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o implement Scrum based team structure and  requirements handl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requirements-&gt;use cases-&gt;architecture support for proj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ad training coverage for acceptance testing, agile C, C++, test-driven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 information to teams about agile transition achiev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181560" y="3093840"/>
            <a:ext cx="600120" cy="182520"/>
            <a:chOff x="6181560" y="3093840"/>
            <a:chExt cx="600120" cy="182520"/>
          </a:xfrm>
        </p:grpSpPr>
        <p:sp>
          <p:nvSpPr>
            <p:cNvPr id="335" name=""/>
            <p:cNvSpPr/>
            <p:nvPr/>
          </p:nvSpPr>
          <p:spPr>
            <a:xfrm rot="16200000">
              <a:off x="6390360" y="28850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623280" y="311148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533520" y="1600200"/>
          <a:ext cx="8305560" cy="1773360"/>
        </p:xfrm>
        <a:graphic>
          <a:graphicData uri="http://schemas.openxmlformats.org/drawingml/2006/table">
            <a:tbl>
              <a:tblPr/>
              <a:tblGrid>
                <a:gridCol w="1892160"/>
                <a:gridCol w="3601800"/>
                <a:gridCol w="785880"/>
                <a:gridCol w="2025720"/>
              </a:tblGrid>
              <a:tr h="17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Test: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Wa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; continue meas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teams named, tasks are in progres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First metric setup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– 1.5 complete metrics set up (e.g. defect injection analysis) (May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Roll out “new bugs after S4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Test cases for TDD in scrum team in time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Roll out “changed LOC” metric after C3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Roll out “first pass yield” metric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KPI targets ST based on metrics data (Ju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Ongoing data coll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crum teams with TDD (star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ST A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eper alignment with RD SW for CL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81560" y="3779640"/>
            <a:ext cx="600120" cy="182520"/>
            <a:chOff x="6181560" y="3779640"/>
            <a:chExt cx="600120" cy="182520"/>
          </a:xfrm>
        </p:grpSpPr>
        <p:sp>
          <p:nvSpPr>
            <p:cNvPr id="340" name=""/>
            <p:cNvSpPr/>
            <p:nvPr/>
          </p:nvSpPr>
          <p:spPr>
            <a:xfrm rot="16200000">
              <a:off x="6390360" y="357084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6251400" y="3797280"/>
              <a:ext cx="106200" cy="147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473040" y="3621240"/>
          <a:ext cx="8366040" cy="19414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-in-SW Tools</a:t>
                      </a:r>
                      <a:br>
                        <a:rPr sz="1200"/>
                      </a:b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Mario Topel</a:t>
                      </a:r>
                      <a:br>
                        <a:rPr sz="1200"/>
                      </a:b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lfgang Hett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May 06   End: Jun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roject Plan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Tool / Workflow assessment (Ju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Consolidate all teams for PLM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centralizing support infra-structure (Jul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ncrease automation of tool chain (Sep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re-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ject plan to be worked out in detail (May 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est practice sharing /w SIE MED (17./18.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ool / workflow assessment Beijing/Taipei till June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6173280" y="18288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172200" y="2437920"/>
            <a:ext cx="600120" cy="182520"/>
            <a:chOff x="6172200" y="2437920"/>
            <a:chExt cx="600120" cy="182520"/>
          </a:xfrm>
        </p:grpSpPr>
        <p:sp>
          <p:nvSpPr>
            <p:cNvPr id="347" name=""/>
            <p:cNvSpPr/>
            <p:nvPr/>
          </p:nvSpPr>
          <p:spPr>
            <a:xfrm rot="16200000">
              <a:off x="6381000" y="2229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6613920" y="2455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49360" y="1600200"/>
          <a:ext cx="8366040" cy="110016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latform &amp; Portfolio;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SB +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Define alignment &amp; change mgmt process (Feb 06), 2. clarify platform responsibilities/activitie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b. portfolio – budget alignment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efine re-use strategy (Mar 06) is 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H wide portfolio and plan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rtfolio / Roadmap vs R&amp;D budget alignment underway in March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rocess well establis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 wide plan next (June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6249240" y="3092400"/>
            <a:ext cx="529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81560" y="3733560"/>
            <a:ext cx="600120" cy="182520"/>
            <a:chOff x="6181560" y="3733560"/>
            <a:chExt cx="600120" cy="182520"/>
          </a:xfrm>
        </p:grpSpPr>
        <p:sp>
          <p:nvSpPr>
            <p:cNvPr id="353" name=""/>
            <p:cNvSpPr/>
            <p:nvPr/>
          </p:nvSpPr>
          <p:spPr>
            <a:xfrm rot="16200000">
              <a:off x="6390360" y="35247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6623280" y="37512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5" name=""/>
          <p:cNvGraphicFramePr/>
          <p:nvPr/>
        </p:nvGraphicFramePr>
        <p:xfrm>
          <a:off x="549360" y="28954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640"/>
                <a:gridCol w="360180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nvent the future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Bauregger</a:t>
                      </a: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, Hartma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gree on invention disclosure targe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vestigate status and potential measures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Start invention initiative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Implement incentive proposal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. Implement organizational changes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90 invention disclosures filed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180 invention disclosures filed (Dec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lignment with ISR for invention initiativ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ecute organizational chan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249240" y="4632480"/>
            <a:ext cx="529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81560" y="5074920"/>
            <a:ext cx="600120" cy="182520"/>
            <a:chOff x="6181560" y="5074920"/>
            <a:chExt cx="600120" cy="182520"/>
          </a:xfrm>
        </p:grpSpPr>
        <p:sp>
          <p:nvSpPr>
            <p:cNvPr id="358" name=""/>
            <p:cNvSpPr/>
            <p:nvPr/>
          </p:nvSpPr>
          <p:spPr>
            <a:xfrm rot="16200000">
              <a:off x="6390360" y="4866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6623280" y="5092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0" name=""/>
          <p:cNvGraphicFramePr/>
          <p:nvPr/>
        </p:nvGraphicFramePr>
        <p:xfrm>
          <a:off x="549360" y="4495680"/>
          <a:ext cx="8366040" cy="160668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16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leanApoxi platform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Dec 06 (perhaps earli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Align all parties incl. IFX, Teleca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Analysis workshop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Diamond decision (Ma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Publish formal platform concept, incl. 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pecification and usage model (Apr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 Start skills enhancement program (May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 Close gaps in Apoxi (tb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 First Apoxi product (tbd; hopefully Apr 0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Workshop (start 05-Mar-06), Diamond decision (latest EO Mar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685800"/>
          <a:ext cx="8366040" cy="7286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520"/>
                <a:gridCol w="2025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, P-L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Project Plans &amp; Milest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xxMay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  <a:ea typeface="Arial Unicode MS"/>
                        </a:rPr>
                        <a:t>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388800" y="2795760"/>
            <a:ext cx="7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51040" y="1676520"/>
            <a:ext cx="5295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05600" y="2711160"/>
            <a:ext cx="600120" cy="182520"/>
            <a:chOff x="6105600" y="2711160"/>
            <a:chExt cx="600120" cy="182520"/>
          </a:xfrm>
        </p:grpSpPr>
        <p:sp>
          <p:nvSpPr>
            <p:cNvPr id="366" name=""/>
            <p:cNvSpPr/>
            <p:nvPr/>
          </p:nvSpPr>
          <p:spPr>
            <a:xfrm rot="16200000">
              <a:off x="6314400" y="2502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6547320" y="2728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8" name=""/>
          <p:cNvGraphicFramePr/>
          <p:nvPr/>
        </p:nvGraphicFramePr>
        <p:xfrm>
          <a:off x="473040" y="1523880"/>
          <a:ext cx="8366040" cy="143676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2 projects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Faessler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Mar 06; continue from th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Establish weekly reporting of commitment and fulfillment (01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Utilize reporting charts as project/PL control methods (02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Enable team spirit and competition from reported results (03/2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Establish U2 as practice in all projects (04/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projects to be added ( Ruby, Falc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with pract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lish comparable ranking between teams of different platforms (Bundesligatabel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6173280" y="330516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105600" y="3931920"/>
            <a:ext cx="600120" cy="182520"/>
            <a:chOff x="6105600" y="3931920"/>
            <a:chExt cx="600120" cy="182520"/>
          </a:xfrm>
        </p:grpSpPr>
        <p:sp>
          <p:nvSpPr>
            <p:cNvPr id="371" name=""/>
            <p:cNvSpPr/>
            <p:nvPr/>
          </p:nvSpPr>
          <p:spPr>
            <a:xfrm rot="16200000">
              <a:off x="6314400" y="372312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547320" y="394956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3" name=""/>
          <p:cNvGraphicFramePr/>
          <p:nvPr/>
        </p:nvGraphicFramePr>
        <p:xfrm>
          <a:off x="473040" y="3182760"/>
          <a:ext cx="8366040" cy="932040"/>
        </p:xfrm>
        <a:graphic>
          <a:graphicData uri="http://schemas.openxmlformats.org/drawingml/2006/table">
            <a:tbl>
              <a:tblPr/>
              <a:tblGrid>
                <a:gridCol w="1952640"/>
                <a:gridCol w="3602160"/>
                <a:gridCol w="785880"/>
                <a:gridCol w="202536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Quality Up of  MD; </a:t>
                      </a:r>
                      <a:r>
                        <a:rPr b="1" lang="zh-TW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Thonhau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Ju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 PLM MD excellence program and KPI‘s (Jan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 Interdisciplinary Project teams insta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 MD SQA interface fixed and 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 Visible results (Jul 06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rack monthly KPI‘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6249240" y="4371840"/>
            <a:ext cx="529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66"/>
                </a:solidFill>
                <a:latin typeface="Arial"/>
                <a:ea typeface="Times New Roman"/>
              </a:rPr>
              <a:t>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105600" y="5105160"/>
            <a:ext cx="600120" cy="182520"/>
            <a:chOff x="6105600" y="5105160"/>
            <a:chExt cx="600120" cy="182520"/>
          </a:xfrm>
        </p:grpSpPr>
        <p:sp>
          <p:nvSpPr>
            <p:cNvPr id="376" name=""/>
            <p:cNvSpPr/>
            <p:nvPr/>
          </p:nvSpPr>
          <p:spPr>
            <a:xfrm rot="16200000">
              <a:off x="6314400" y="4896360"/>
              <a:ext cx="182520" cy="600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6547320" y="5122800"/>
              <a:ext cx="106200" cy="1472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473040" y="4199040"/>
          <a:ext cx="8366040" cy="2278080"/>
        </p:xfrm>
        <a:graphic>
          <a:graphicData uri="http://schemas.openxmlformats.org/drawingml/2006/table">
            <a:tbl>
              <a:tblPr/>
              <a:tblGrid>
                <a:gridCol w="1952280"/>
                <a:gridCol w="3602160"/>
                <a:gridCol w="785880"/>
                <a:gridCol w="2025720"/>
              </a:tblGrid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n client phone; </a:t>
                      </a:r>
                      <a:r>
                        <a:rPr b="1" lang="de-DE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aure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tart: Jan 06   End: Aug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Start Feature definitions (Jan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Interdisciplinary team starts (Feb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Draft Predevelopment Project Plan (Feb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Final Predevelopment Project Plan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System Supplier selection HW and SW (Ma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System deliverables agreed with supplier (Apr.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Component definition done (e.g. Display, etc.)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Start PCB and Mechanical Design (Apr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Prototype running (Jul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Documentation (Aug.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Product decision (Aug 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stigation of potential platform suppliers (HW/SW) ongo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ailed feature alignment with CT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 Stack up concep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 final project plan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t system supplier (March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Unicode MS"/>
              </a:rPr>
              <a:t>Concept established; Quo Vadis R&amp;D will be ongoing activity; can be taken off the PLM-excellence program after May 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2" name=""/>
          <p:cNvSpPr/>
          <p:nvPr/>
        </p:nvSpPr>
        <p:spPr>
          <a:xfrm>
            <a:off x="380880" y="439740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08-May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breakfast club on 5.Apr. In M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‘l subsequent all hands meetings in KLF, BEJ, HSI, TAI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in May 06 (world-wide, new RD orga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Christa Drescher</cp:lastModifiedBy>
  <dcterms:modified xsi:type="dcterms:W3CDTF">2006-05-11T09:51:45Z</dcterms:modified>
  <cp:revision>157</cp:revision>
  <dc:subject/>
  <dc:title>PowerPoint 簡報</dc:title>
</cp:coreProperties>
</file>