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EF75-491C-464B-86F7-4AA0D0DAC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1A22-2D58-4390-A2E5-72ABBE42E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6482-3F2C-4145-8FBC-0D871EDC4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3A89-462F-488C-B7BC-6CCB5325C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14CE-18F0-46C5-84FE-E1F8F5A4E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F022-93F6-4ABE-A8E2-A4D2301BB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542B-F701-42AF-9E1D-125687DBC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DD15-C237-4889-ACD6-103A5773B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8F83-9396-4586-A5C9-11709F1EC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0F0A-B40D-40D7-8874-2123D99B3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01F4-4ABF-46D7-8497-D115082EF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8E25-AE38-4C76-8EBB-076B7819A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627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DFF2-92E4-47DA-82D5-F4DB4CE2FD7A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6381720"/>
            <a:ext cx="31687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10.05.2006)  RD B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360" y="2637000"/>
            <a:ext cx="787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  <a:ea typeface="文鼎中黑"/>
              </a:rPr>
              <a:t>RD KPI - April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3933720"/>
            <a:ext cx="7010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laus Wingens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BMG PH RD BA</a:t>
            </a:r>
            <a:br>
              <a:rPr sz="2400"/>
            </a:b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10.05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D1A4-2EBF-4478-BDEE-1EAE88F13B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440" y="115560"/>
            <a:ext cx="87631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Commitment defined as PHE RD KPIs: Targets 2006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(signed 6.2.20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933480"/>
            <a:ext cx="1800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1308240"/>
            <a:ext cx="108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6880" y="933480"/>
            <a:ext cx="68421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6560" y="936720"/>
            <a:ext cx="2539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costs (incl VAS, w/o Restr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st  produ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f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DTC (def. at M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NCC  (cost after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Infrastructure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95000"/>
              </a:lnSpc>
              <a:buClr>
                <a:srgbClr val="3a0e66"/>
              </a:buClr>
              <a:buFont typeface="Minion"/>
              <a:buChar char="•"/>
              <a:tabLst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TM cost overrun reduction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098800"/>
            <a:ext cx="1800000" cy="12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20" y="3500280"/>
            <a:ext cx="18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653000"/>
            <a:ext cx="1800000" cy="81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479920"/>
            <a:ext cx="1800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000" y="2492280"/>
            <a:ext cx="96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7880" y="3805200"/>
            <a:ext cx="1352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eople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15080"/>
            <a:ext cx="1192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0560" y="5829480"/>
            <a:ext cx="49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466740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1240" y="4843440"/>
            <a:ext cx="260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satisfaction / result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xternal satisfaction (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3500280"/>
            <a:ext cx="684216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65400" y="354636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ernal / external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igh – low cost country m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ead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vention disclo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103480"/>
            <a:ext cx="6842160" cy="127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2076480"/>
            <a:ext cx="262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ilestones 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Rate in Sy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fect fix cycl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 Volatility (starts April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 TTM (M1 –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buClr>
                <a:srgbClr val="3a0e66"/>
              </a:buClr>
              <a:buFont typeface="Wingdings" charset="2"/>
              <a:buChar char=""/>
              <a:tabLst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maturity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22220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42100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67040"/>
            <a:ext cx="432000" cy="43200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76920"/>
            <a:ext cx="43200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080" y="5740560"/>
            <a:ext cx="431640" cy="4316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520" y="1222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000" y="2435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440" y="3780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5360" y="4876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75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5160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77240" y="90792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923760"/>
            <a:ext cx="0" cy="5761080"/>
          </a:xfrm>
          <a:prstGeom prst="line">
            <a:avLst/>
          </a:prstGeom>
          <a:ln w="25560">
            <a:solidFill>
              <a:srgbClr val="e6e5e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62064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96080" y="620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ase 1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6924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7080" y="620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arget 12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420840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070000"/>
            <a:ext cx="10810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MMI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48560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507348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65278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DTC = Design to Cost     TTM = Time to Market  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  <a:ea typeface="文鼎中黑"/>
              </a:rPr>
              <a:t>FPY = First pass yield  NCC = Non Conformance Costs </a:t>
            </a:r>
            <a:r>
              <a:rPr b="1" lang="de-DE" sz="800" spc="-1" strike="noStrike">
                <a:solidFill>
                  <a:srgbClr val="3a0e66"/>
                </a:solidFill>
                <a:latin typeface="Minion"/>
              </a:rPr>
              <a:t>OTD = On Time 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6760" y="351468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t/temp+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ting 1 ..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goal 0.25/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60960" y="207000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0 days / 4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next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0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8440" y="207648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.5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ase 7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2092320"/>
            <a:ext cx="890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gt; 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2/cK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&lt; 5% / 2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15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60960" y="4886280"/>
            <a:ext cx="81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4873680"/>
            <a:ext cx="81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4861080"/>
            <a:ext cx="815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83120" y="94284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ud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arget in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u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absol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Euro / percent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99040" y="93996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49‘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245‘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2‘1 / 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4‘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1‘4</a:t>
            </a:r>
            <a:br>
              <a:rPr sz="1000"/>
            </a:b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23‘ / 18%/0</a:t>
            </a: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5320" y="936720"/>
            <a:ext cx="95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‘ (FC345‘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43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5‘3/4%/-6‘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3‘5/-1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2/-3‘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8‘/14%/-5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31240" y="933480"/>
            <a:ext cx="957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0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76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-26‘8 - 20‘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0/0%/-12‘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‘6/-0‘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6‘4/-1‘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13‘/10%/-10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ctr">
              <a:lnSpc>
                <a:spcPct val="95000"/>
              </a:lnSpc>
              <a:tabLst>
                <a:tab algn="l" pos="0"/>
                <a:tab algn="l" pos="17928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9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4840" y="3511440"/>
            <a:ext cx="920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3% / 5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3% /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05/626+4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0/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61040" y="3508200"/>
            <a:ext cx="920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2% / 3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52 /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39160" y="3505320"/>
            <a:ext cx="92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0% /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0% /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00 /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2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5516640"/>
            <a:ext cx="6842160" cy="80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e6e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uccessful in 3 projects:    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uby, Jerry, Gemstone start Q1/06; Jerry del. Sept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full Agile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ganization prepared for 80% Agile in Dec.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trategy with CM  + 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Process with CM  + TPM: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greed in Q1/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ADDC-D0E8-4A7C-95A5-9D00DE71249B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Europe RD KPI‘s: Financial Targets 2006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5640" y="126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8120" y="2108160"/>
            <a:ext cx="1055520" cy="432000"/>
          </a:xfrm>
          <a:prstGeom prst="wedgeRoundRectCallout">
            <a:avLst>
              <a:gd name="adj1" fmla="val -16768"/>
              <a:gd name="adj2" fmla="val 69851"/>
              <a:gd name="adj3" fmla="val 16667"/>
            </a:avLst>
          </a:prstGeom>
          <a:solidFill>
            <a:srgbClr val="cc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Missing C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文鼎中黑"/>
              </a:rPr>
              <a:t>(IT Cost  Ger. 3‘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392720" cy="281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5636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68840" y="620640"/>
            <a:ext cx="429732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9280" y="620640"/>
            <a:ext cx="4392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4940-4546-4126-AAF1-FB5135362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Financial Targets 2006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33920" y="620640"/>
            <a:ext cx="4330800" cy="28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4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643280" y="3573360"/>
            <a:ext cx="432144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6C17-0AB4-41A7-8F98-1C2099F32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653000"/>
            <a:ext cx="38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ext update based on ISR reporting figures per May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836640"/>
          <a:ext cx="5400360" cy="33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5400360" cy="33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5A5C-0348-4AB1-A866-8F0EA419F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7316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 Asia KPI‘s: Targets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6094440"/>
            <a:ext cx="38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文鼎中黑"/>
              </a:rPr>
              <a:t>Jan: Condor, Comorant  Istkoste&lt;Plan 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981000"/>
          <a:ext cx="352908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981000"/>
                    <a:ext cx="35290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20647800">
            <a:off x="900000" y="1483920"/>
            <a:ext cx="244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 to be provided nex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sia KPI’s to be provided next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9441-3E60-4428-BDFF-A7646F18D4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-3240"/>
            <a:ext cx="95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11592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RD Europe Capacity and Hourly Rate (Y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0600" y="620640"/>
            <a:ext cx="4110120" cy="2737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1054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319280" cy="289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500720" y="631800"/>
            <a:ext cx="431928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821B-E103-4AB1-9D6B-7FDC8A12C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KPI Definitions (acc. to signed BTA 6.2.2006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Definition: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T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target cost per class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1 in 2006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cost M 3 per class (target lifecycle cost – 5%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ass                             1            2            3         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/product             2’9        6’2        16’8      38’           (in mill. €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CC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st after M3 for all products having a M3 in 2006. Target -25%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TM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viation of actual cost at M3 to cost (M3) agreed at M1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all products having a M3 in 20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5FFA-36CD-46E1-869E-F3B2156AA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laus Wingens</cp:lastModifiedBy>
  <dcterms:modified xsi:type="dcterms:W3CDTF">2006-05-17T11:11:40Z</dcterms:modified>
  <cp:revision>390</cp:revision>
  <dc:subject/>
  <dc:title>PowerPoint 簡報</dc:title>
</cp:coreProperties>
</file>