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3A5E1-E912-433E-AD5C-9AEE6D058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6A049-7BDB-41D8-8392-506BCE729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45B20-E0D3-49A2-B43B-45BE1D9B6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F9ED6-78F4-46FF-A40C-B8C3CA5AF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A4F3E-C7BC-4DC6-9388-FF67EBD579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5A139-41CA-4AF2-AB2B-1F624BDAA8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F1875-3191-4CA3-B8D5-18BE14255A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573CA-760F-4648-9601-B08D535C78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5AB18-AAA1-4102-9DCB-37F95D2956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3486E-79A9-48BE-8C3A-87BCB66B76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EAEBB-E17C-4935-9EEB-3C2CC2B853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81436-1751-4707-923A-E814A40210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44F90-BF02-4062-A1E5-E3B8C8B682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06F64-A186-44CB-84B4-5CFC94EA7C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358D8-E126-4850-A091-8E8FD17FA3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C7861-E831-49D5-B261-44954D4BC6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67478-670B-4372-BFB7-5AED9A490FF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9C60-3873-45A9-B4ED-1A08B191BEA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DA34-044E-48D5-93BE-C7328C7A9E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5EE1-9FD2-47AE-AEBF-6CC17E811C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6C17-81DE-4D32-8450-9E34C0EE39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5569-1E05-4B0F-86F3-52A4ABE27D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B5B79-990A-43AC-8D44-A9BAEAA9EE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8F5B-1F41-49C1-9D62-58F3F8D947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982C-884F-4957-9511-8AFE55DEA1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B615-7328-41D1-972A-C75A74D1A9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51D6-FF03-4B56-85BF-A4295B4235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C52C-EA74-4422-ABC6-271E473A5E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43BB-0153-47DE-8BA7-FACF65B965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577B-A93D-4A83-B10C-BF7BA8443D7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1CAD4-62ED-45AD-B8CF-F361411F8D9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3FB87-823F-4BA0-8279-7DB5B63244F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DD88E-4B13-480F-AC67-C8FEE5E91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1AA88-30F0-4A42-AD3B-B7880BF7DC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FA6BB-89E4-4479-88D2-BE589D730F9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4ED2A-4D7A-4CD8-A2FE-CE77585D721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F46C5-E644-48B9-9FCB-55A429B57F8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CF4AA-F17E-4EAA-AFA1-BB6B8F6D829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3B792-82E3-4158-B454-DA042942D4B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56126-B816-4237-BBFC-C928438818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A9703-A6E1-47BB-81F4-453B666B05F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7AB4A-4B89-4346-AA77-2F48B4188D8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95A6B-7D7B-48E6-AD26-CE1AB96AF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C935B-E674-4667-A243-25E23730F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E4142-E1FB-4E56-9C24-AF96A3286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C0B7F-A2D4-4004-A117-263130D84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30945-D725-491A-8678-736310CD4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498A2-713E-449C-9C18-757AC30DA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43DA-4611-4186-A2E3-647BBD8BEDC3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Jan 06, V.1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rId3" action="ppaction://hlinksldjump"/>
          </p:cNvPr>
          <p:cNvSpPr/>
          <p:nvPr/>
        </p:nvSpPr>
        <p:spPr>
          <a:xfrm>
            <a:off x="8101080" y="5915160"/>
            <a:ext cx="609480" cy="322200"/>
          </a:xfrm>
          <a:custGeom>
            <a:avLst/>
            <a:gdLst>
              <a:gd name="textAreaLeft" fmla="*/ 20880 w 609480"/>
              <a:gd name="textAreaRight" fmla="*/ 588600 w 6094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0838" h="21600">
                <a:moveTo>
                  <a:pt x="0" y="0"/>
                </a:moveTo>
                <a:lnTo>
                  <a:pt x="40838" y="0"/>
                </a:lnTo>
                <a:lnTo>
                  <a:pt x="40838" y="21600"/>
                </a:lnTo>
                <a:lnTo>
                  <a:pt x="0" y="21600"/>
                </a:lnTo>
                <a:close/>
              </a:path>
              <a:path fill="lightenLess" w="40838" h="21600">
                <a:moveTo>
                  <a:pt x="0" y="0"/>
                </a:moveTo>
                <a:lnTo>
                  <a:pt x="40838" y="0"/>
                </a:lnTo>
                <a:lnTo>
                  <a:pt x="39438" y="1400"/>
                </a:lnTo>
                <a:lnTo>
                  <a:pt x="1400" y="1400"/>
                </a:lnTo>
                <a:close/>
              </a:path>
              <a:path fill="darken" w="40838" h="21600">
                <a:moveTo>
                  <a:pt x="40838" y="0"/>
                </a:moveTo>
                <a:lnTo>
                  <a:pt x="40838" y="21600"/>
                </a:lnTo>
                <a:lnTo>
                  <a:pt x="39438" y="20200"/>
                </a:lnTo>
                <a:lnTo>
                  <a:pt x="39438" y="1400"/>
                </a:lnTo>
                <a:close/>
              </a:path>
              <a:path fill="darkenLess" w="40838" h="21600">
                <a:moveTo>
                  <a:pt x="40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38" y="20200"/>
                </a:lnTo>
                <a:close/>
              </a:path>
              <a:path fill="lighten" w="40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38" h="21600">
                <a:moveTo>
                  <a:pt x="13412" y="7493"/>
                </a:moveTo>
                <a:lnTo>
                  <a:pt x="16920" y="7493"/>
                </a:lnTo>
                <a:lnTo>
                  <a:pt x="16920" y="12828"/>
                </a:lnTo>
                <a:cubicBezTo>
                  <a:pt x="16920" y="13751"/>
                  <a:pt x="17721" y="14482"/>
                  <a:pt x="18756" y="14482"/>
                </a:cubicBezTo>
                <a:lnTo>
                  <a:pt x="20419" y="14482"/>
                </a:lnTo>
                <a:cubicBezTo>
                  <a:pt x="21454" y="14482"/>
                  <a:pt x="22255" y="13751"/>
                  <a:pt x="22255" y="12828"/>
                </a:cubicBezTo>
                <a:lnTo>
                  <a:pt x="22255" y="7493"/>
                </a:lnTo>
                <a:lnTo>
                  <a:pt x="20419" y="7493"/>
                </a:lnTo>
                <a:lnTo>
                  <a:pt x="23926" y="3985"/>
                </a:lnTo>
                <a:lnTo>
                  <a:pt x="27599" y="7493"/>
                </a:lnTo>
                <a:lnTo>
                  <a:pt x="25763" y="7493"/>
                </a:lnTo>
                <a:lnTo>
                  <a:pt x="25763" y="12828"/>
                </a:lnTo>
                <a:cubicBezTo>
                  <a:pt x="25763" y="15596"/>
                  <a:pt x="23187" y="18155"/>
                  <a:pt x="20419" y="18155"/>
                </a:cubicBezTo>
                <a:lnTo>
                  <a:pt x="18756" y="18155"/>
                </a:lnTo>
                <a:cubicBezTo>
                  <a:pt x="15989" y="18155"/>
                  <a:pt x="13412" y="15596"/>
                  <a:pt x="13412" y="12828"/>
                </a:cubicBezTo>
                <a:close/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C00B-9EFF-452B-8AF2-05A109B97149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Jan 06, V1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8101080" y="5915160"/>
            <a:ext cx="609480" cy="322200"/>
          </a:xfrm>
          <a:custGeom>
            <a:avLst/>
            <a:gdLst>
              <a:gd name="textAreaLeft" fmla="*/ 20880 w 609480"/>
              <a:gd name="textAreaRight" fmla="*/ 588600 w 6094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0838" h="21600">
                <a:moveTo>
                  <a:pt x="0" y="0"/>
                </a:moveTo>
                <a:lnTo>
                  <a:pt x="40838" y="0"/>
                </a:lnTo>
                <a:lnTo>
                  <a:pt x="40838" y="21600"/>
                </a:lnTo>
                <a:lnTo>
                  <a:pt x="0" y="21600"/>
                </a:lnTo>
                <a:close/>
              </a:path>
              <a:path fill="lightenLess" w="40838" h="21600">
                <a:moveTo>
                  <a:pt x="0" y="0"/>
                </a:moveTo>
                <a:lnTo>
                  <a:pt x="40838" y="0"/>
                </a:lnTo>
                <a:lnTo>
                  <a:pt x="39438" y="1400"/>
                </a:lnTo>
                <a:lnTo>
                  <a:pt x="1400" y="1400"/>
                </a:lnTo>
                <a:close/>
              </a:path>
              <a:path fill="darken" w="40838" h="21600">
                <a:moveTo>
                  <a:pt x="40838" y="0"/>
                </a:moveTo>
                <a:lnTo>
                  <a:pt x="40838" y="21600"/>
                </a:lnTo>
                <a:lnTo>
                  <a:pt x="39438" y="20200"/>
                </a:lnTo>
                <a:lnTo>
                  <a:pt x="39438" y="1400"/>
                </a:lnTo>
                <a:close/>
              </a:path>
              <a:path fill="darkenLess" w="40838" h="21600">
                <a:moveTo>
                  <a:pt x="40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38" y="20200"/>
                </a:lnTo>
                <a:close/>
              </a:path>
              <a:path fill="lighten" w="40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38" h="21600">
                <a:moveTo>
                  <a:pt x="13412" y="7493"/>
                </a:moveTo>
                <a:lnTo>
                  <a:pt x="16920" y="7493"/>
                </a:lnTo>
                <a:lnTo>
                  <a:pt x="16920" y="12828"/>
                </a:lnTo>
                <a:cubicBezTo>
                  <a:pt x="16920" y="13751"/>
                  <a:pt x="17721" y="14482"/>
                  <a:pt x="18756" y="14482"/>
                </a:cubicBezTo>
                <a:lnTo>
                  <a:pt x="20419" y="14482"/>
                </a:lnTo>
                <a:cubicBezTo>
                  <a:pt x="21454" y="14482"/>
                  <a:pt x="22255" y="13751"/>
                  <a:pt x="22255" y="12828"/>
                </a:cubicBezTo>
                <a:lnTo>
                  <a:pt x="22255" y="7493"/>
                </a:lnTo>
                <a:lnTo>
                  <a:pt x="20419" y="7493"/>
                </a:lnTo>
                <a:lnTo>
                  <a:pt x="23926" y="3985"/>
                </a:lnTo>
                <a:lnTo>
                  <a:pt x="27599" y="7493"/>
                </a:lnTo>
                <a:lnTo>
                  <a:pt x="25763" y="7493"/>
                </a:lnTo>
                <a:lnTo>
                  <a:pt x="25763" y="12828"/>
                </a:lnTo>
                <a:cubicBezTo>
                  <a:pt x="25763" y="15596"/>
                  <a:pt x="23187" y="18155"/>
                  <a:pt x="20419" y="18155"/>
                </a:cubicBezTo>
                <a:lnTo>
                  <a:pt x="18756" y="18155"/>
                </a:lnTo>
                <a:cubicBezTo>
                  <a:pt x="15989" y="18155"/>
                  <a:pt x="13412" y="15596"/>
                  <a:pt x="13412" y="12828"/>
                </a:cubicBezTo>
                <a:close/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850000" y="5589720"/>
            <a:ext cx="1601640" cy="792000"/>
            <a:chOff x="5850000" y="5589720"/>
            <a:chExt cx="1601640" cy="792000"/>
          </a:xfrm>
        </p:grpSpPr>
        <p:sp>
          <p:nvSpPr>
            <p:cNvPr id="50" name=""/>
            <p:cNvSpPr/>
            <p:nvPr/>
          </p:nvSpPr>
          <p:spPr>
            <a:xfrm>
              <a:off x="5850000" y="5589720"/>
              <a:ext cx="288720" cy="216000"/>
            </a:xfrm>
            <a:prstGeom prst="rect">
              <a:avLst/>
            </a:prstGeom>
            <a:solidFill>
              <a:srgbClr val="d1c1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134760" y="5589720"/>
              <a:ext cx="1148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R&amp;D Board Mem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850000" y="5878800"/>
              <a:ext cx="288720" cy="215640"/>
            </a:xfrm>
            <a:prstGeom prst="rect">
              <a:avLst/>
            </a:prstGeom>
            <a:solidFill>
              <a:srgbClr val="e9e1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92720" y="5880240"/>
              <a:ext cx="12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epart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50000" y="6166080"/>
              <a:ext cx="288720" cy="215640"/>
            </a:xfrm>
            <a:prstGeom prst="rect">
              <a:avLst/>
            </a:prstGeom>
            <a:solidFill>
              <a:srgbClr val="e5f5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10360" y="6166080"/>
              <a:ext cx="12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Work Top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3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843E-881F-46D1-BBE0-25D1C2158F92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02May06, V1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4"/>
          </p:nvPr>
        </p:nvSpPr>
        <p:spPr>
          <a:xfrm>
            <a:off x="360360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6570-2D00-4989-9894-2AFF321BD068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, 2005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Jan 06, V1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8101080" y="5915160"/>
            <a:ext cx="609480" cy="322200"/>
          </a:xfrm>
          <a:custGeom>
            <a:avLst/>
            <a:gdLst>
              <a:gd name="textAreaLeft" fmla="*/ 20880 w 609480"/>
              <a:gd name="textAreaRight" fmla="*/ 588600 w 6094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0838" h="21600">
                <a:moveTo>
                  <a:pt x="0" y="0"/>
                </a:moveTo>
                <a:lnTo>
                  <a:pt x="40838" y="0"/>
                </a:lnTo>
                <a:lnTo>
                  <a:pt x="40838" y="21600"/>
                </a:lnTo>
                <a:lnTo>
                  <a:pt x="0" y="21600"/>
                </a:lnTo>
                <a:close/>
              </a:path>
              <a:path fill="lightenLess" w="40838" h="21600">
                <a:moveTo>
                  <a:pt x="0" y="0"/>
                </a:moveTo>
                <a:lnTo>
                  <a:pt x="40838" y="0"/>
                </a:lnTo>
                <a:lnTo>
                  <a:pt x="39438" y="1400"/>
                </a:lnTo>
                <a:lnTo>
                  <a:pt x="1400" y="1400"/>
                </a:lnTo>
                <a:close/>
              </a:path>
              <a:path fill="darken" w="40838" h="21600">
                <a:moveTo>
                  <a:pt x="40838" y="0"/>
                </a:moveTo>
                <a:lnTo>
                  <a:pt x="40838" y="21600"/>
                </a:lnTo>
                <a:lnTo>
                  <a:pt x="39438" y="20200"/>
                </a:lnTo>
                <a:lnTo>
                  <a:pt x="39438" y="1400"/>
                </a:lnTo>
                <a:close/>
              </a:path>
              <a:path fill="darkenLess" w="40838" h="21600">
                <a:moveTo>
                  <a:pt x="40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38" y="20200"/>
                </a:lnTo>
                <a:close/>
              </a:path>
              <a:path fill="lighten" w="40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38" h="21600">
                <a:moveTo>
                  <a:pt x="13412" y="7493"/>
                </a:moveTo>
                <a:lnTo>
                  <a:pt x="16920" y="7493"/>
                </a:lnTo>
                <a:lnTo>
                  <a:pt x="16920" y="12828"/>
                </a:lnTo>
                <a:cubicBezTo>
                  <a:pt x="16920" y="13751"/>
                  <a:pt x="17721" y="14482"/>
                  <a:pt x="18756" y="14482"/>
                </a:cubicBezTo>
                <a:lnTo>
                  <a:pt x="20419" y="14482"/>
                </a:lnTo>
                <a:cubicBezTo>
                  <a:pt x="21454" y="14482"/>
                  <a:pt x="22255" y="13751"/>
                  <a:pt x="22255" y="12828"/>
                </a:cubicBezTo>
                <a:lnTo>
                  <a:pt x="22255" y="7493"/>
                </a:lnTo>
                <a:lnTo>
                  <a:pt x="20419" y="7493"/>
                </a:lnTo>
                <a:lnTo>
                  <a:pt x="23926" y="3985"/>
                </a:lnTo>
                <a:lnTo>
                  <a:pt x="27599" y="7493"/>
                </a:lnTo>
                <a:lnTo>
                  <a:pt x="25763" y="7493"/>
                </a:lnTo>
                <a:lnTo>
                  <a:pt x="25763" y="12828"/>
                </a:lnTo>
                <a:cubicBezTo>
                  <a:pt x="25763" y="15596"/>
                  <a:pt x="23187" y="18155"/>
                  <a:pt x="20419" y="18155"/>
                </a:cubicBezTo>
                <a:lnTo>
                  <a:pt x="18756" y="18155"/>
                </a:lnTo>
                <a:cubicBezTo>
                  <a:pt x="15989" y="18155"/>
                  <a:pt x="13412" y="15596"/>
                  <a:pt x="13412" y="12828"/>
                </a:cubicBezTo>
                <a:close/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2234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PHE Research &amp; Development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4573440"/>
            <a:ext cx="5601960" cy="272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nion"/>
                <a:ea typeface="文鼎中黑"/>
              </a:rPr>
              <a:t>S. Bocionek, YC Lee, K. Win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nion"/>
                <a:ea typeface="文鼎中黑"/>
              </a:rPr>
              <a:t>Product House R&amp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nion"/>
                <a:ea typeface="文鼎中黑"/>
              </a:rPr>
              <a:t>Organizational Overview V. 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nion"/>
                <a:ea typeface="文鼎中黑"/>
              </a:rPr>
              <a:t>May, 2nd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E5D48-9975-4CC7-8CB5-57CA3A5161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360" y="15048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BMG PH Research &amp; Development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Organizational Overview – 02. May 2006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8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95640" y="1052640"/>
            <a:ext cx="4249440" cy="863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tabLst>
                <a:tab algn="l" pos="0"/>
                <a:tab algn="l" pos="13413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413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Research &amp;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413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Dr. S. Bocionek     Dr. YC Lee (deputy)      K. Wingens (B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422100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SPC Special Project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Change Mgm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r. R. Schol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1917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95640" y="339408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I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Industria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H. Thonha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WT Liu (liaison Asi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81800" y="2565360"/>
            <a:ext cx="129528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RD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Center Taipei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Hsinchu, Suzh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r. YC L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r. SS Chen (dep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95640" y="256536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RDM </a:t>
            </a: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Center Muni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ac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r. S. Bocione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6000" y="3394080"/>
            <a:ext cx="108108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Suzhou (Chin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HW S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08360" y="256536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RDK </a:t>
            </a: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Kamp-Lintf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r. G. Fäss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044720" y="22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356000" y="22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227640" y="22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8604360" y="2276280"/>
            <a:ext cx="1440" cy="3168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44720" y="2276640"/>
            <a:ext cx="41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08360" y="422100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V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Value Added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. Riesmey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Menzie Liang (dep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219640" y="2276640"/>
            <a:ext cx="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256536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P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rocess,Tools,Met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M. Top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Sumei Lin (dep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95640" y="422100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S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System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. Lefe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Andy T Huang (dep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93080" y="2565360"/>
            <a:ext cx="129528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RD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Center Bej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r. D. Didascal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8388360" y="3789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364000" y="227664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002200" y="378936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843280" y="22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19640" y="227664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740720" y="22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08360" y="339408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System 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r. K. Wac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003280" y="4581360"/>
            <a:ext cx="21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339408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B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us. Oper. Sup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J. Baureg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Yuming J Liu (dep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93080" y="3394080"/>
            <a:ext cx="129528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Manaus (BR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L. Mariano Lu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93080" y="5049720"/>
            <a:ext cx="129528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Aalborg (D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F. Erik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96000" y="4221000"/>
            <a:ext cx="107964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Hsinch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(Taiwa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Dr. SS Ch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&amp; YJ Ch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8388360" y="4581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64000" y="5516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979640" y="2276640"/>
            <a:ext cx="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979640" y="378936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981080" y="458136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763640" y="378936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765440" y="458136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93080" y="4221000"/>
            <a:ext cx="129528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&amp;D Wroclaw (P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O. Dic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8388360" y="5445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80000" y="5049720"/>
            <a:ext cx="129564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ST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System 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  <a:ea typeface="新細明體"/>
              </a:rPr>
              <a:t>A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Norman Ji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508720" y="299700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508720" y="299700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08720" y="3789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2997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0872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F8CE-0CC1-48BB-B9E4-E4215820FD38}" type="slidenum">
              <a:t>2</a:t>
            </a:fld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5360" y="150480"/>
            <a:ext cx="8739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BMG PH R&amp;D Center Kamp-Lintfort 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Organizational Overview – 04. May 2006                               DRAFT            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95640" y="1052640"/>
            <a:ext cx="4249440" cy="863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tabLst>
                <a:tab algn="l" pos="0"/>
                <a:tab algn="l" pos="13413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BMG PH RD RD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413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R&amp;D Center Kamp-Lint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3413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Dr. Georg Fäss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02160" y="389736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C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Core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Günter Sei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81800" y="3897360"/>
            <a:ext cx="129564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UI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User Interface &amp;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Manfred Dietz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59280" y="389736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IM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Integration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alf Weid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942160" y="389736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MW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Middleware &amp;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Stefan Luxenbur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84360" y="2276640"/>
            <a:ext cx="129564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roject L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Ulrich Gei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59280" y="227664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Program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Norbert Haid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00720" y="5194440"/>
            <a:ext cx="129528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C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Core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Leif Sill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370640" y="5159520"/>
            <a:ext cx="1295640" cy="7556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UI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User Interface &amp;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urkhard Düm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26" idx="2"/>
            <a:endCxn id="231" idx="3"/>
          </p:cNvCxnSpPr>
          <p:nvPr/>
        </p:nvCxnSpPr>
        <p:spPr>
          <a:xfrm rot="5400000">
            <a:off x="3680640" y="2014560"/>
            <a:ext cx="738720" cy="541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6" idx="2"/>
            <a:endCxn id="232" idx="1"/>
          </p:cNvCxnSpPr>
          <p:nvPr/>
        </p:nvCxnSpPr>
        <p:spPr>
          <a:xfrm flipH="1" rot="16200000">
            <a:off x="4220280" y="2016000"/>
            <a:ext cx="73872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7" idx="0"/>
            <a:endCxn id="230" idx="0"/>
          </p:cNvCxnSpPr>
          <p:nvPr/>
        </p:nvCxnSpPr>
        <p:spPr>
          <a:xfrm flipH="1" rot="16200000">
            <a:off x="5869080" y="3178080"/>
            <a:ext cx="2160" cy="1440360"/>
          </a:xfrm>
          <a:prstGeom prst="bentConnector3">
            <a:avLst>
              <a:gd name="adj1" fmla="val -295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226" idx="2"/>
            <a:endCxn id="229" idx="0"/>
          </p:cNvCxnSpPr>
          <p:nvPr/>
        </p:nvCxnSpPr>
        <p:spPr>
          <a:xfrm rot="5400000">
            <a:off x="3022920" y="2599560"/>
            <a:ext cx="1981800" cy="614880"/>
          </a:xfrm>
          <a:prstGeom prst="bentConnector3">
            <a:avLst>
              <a:gd name="adj1" fmla="val 7627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30" idx="0"/>
            <a:endCxn id="228" idx="0"/>
          </p:cNvCxnSpPr>
          <p:nvPr/>
        </p:nvCxnSpPr>
        <p:spPr>
          <a:xfrm flipH="1" rot="16200000">
            <a:off x="7308720" y="3178080"/>
            <a:ext cx="2160" cy="1440360"/>
          </a:xfrm>
          <a:prstGeom prst="bentConnector3">
            <a:avLst>
              <a:gd name="adj1" fmla="val -295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0" name=""/>
          <p:cNvCxnSpPr>
            <a:stCxn id="233" idx="0"/>
            <a:endCxn id="234" idx="0"/>
          </p:cNvCxnSpPr>
          <p:nvPr/>
        </p:nvCxnSpPr>
        <p:spPr>
          <a:xfrm flipH="1" flipV="1" rot="5400000">
            <a:off x="6565320" y="3741480"/>
            <a:ext cx="35640" cy="2870640"/>
          </a:xfrm>
          <a:prstGeom prst="bentConnector3">
            <a:avLst>
              <a:gd name="adj1" fmla="val 754081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41" name=""/>
          <p:cNvSpPr/>
          <p:nvPr/>
        </p:nvSpPr>
        <p:spPr>
          <a:xfrm>
            <a:off x="179280" y="3897360"/>
            <a:ext cx="129564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B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Base B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Stefan Albrec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19280" y="3897360"/>
            <a:ext cx="1295280" cy="755640"/>
          </a:xfrm>
          <a:prstGeom prst="rect">
            <a:avLst/>
          </a:prstGeom>
          <a:solidFill>
            <a:srgbClr val="d1c1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F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Radio Frequ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2b5d"/>
                </a:solidFill>
                <a:latin typeface="Arial"/>
                <a:ea typeface="新細明體"/>
              </a:rPr>
              <a:t>Thomas Herman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endCxn id="227" idx="0"/>
          </p:cNvCxnSpPr>
          <p:nvPr/>
        </p:nvCxnSpPr>
        <p:spPr>
          <a:xfrm flipH="1" rot="16200000">
            <a:off x="3707280" y="2453760"/>
            <a:ext cx="2520" cy="2883600"/>
          </a:xfrm>
          <a:prstGeom prst="bentConnector3">
            <a:avLst>
              <a:gd name="adj1" fmla="val -293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" name=""/>
          <p:cNvCxnSpPr/>
          <p:nvPr/>
        </p:nvCxnSpPr>
        <p:spPr>
          <a:xfrm flipH="1" rot="16200000">
            <a:off x="7596720" y="3500640"/>
            <a:ext cx="1369080" cy="1224720"/>
          </a:xfrm>
          <a:prstGeom prst="bentConnector3">
            <a:avLst>
              <a:gd name="adj1" fmla="val 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5" name=""/>
          <p:cNvCxnSpPr/>
          <p:nvPr/>
        </p:nvCxnSpPr>
        <p:spPr>
          <a:xfrm>
            <a:off x="7689960" y="4928760"/>
            <a:ext cx="12247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6" name=""/>
          <p:cNvCxnSpPr>
            <a:stCxn id="241" idx="0"/>
            <a:endCxn id="242" idx="0"/>
          </p:cNvCxnSpPr>
          <p:nvPr/>
        </p:nvCxnSpPr>
        <p:spPr>
          <a:xfrm flipH="1" rot="16200000">
            <a:off x="1546200" y="3178080"/>
            <a:ext cx="2160" cy="1440360"/>
          </a:xfrm>
          <a:prstGeom prst="bentConnector3">
            <a:avLst>
              <a:gd name="adj1" fmla="val -295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DED7-AE04-4F07-A2B5-6C6236E8B076}" type="slidenum">
              <a:t>3</a:t>
            </a:fld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08439-D019-431B-A166-A467D83E955A}" type="slidenum">
              <a:t>4</a:t>
            </a:fld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2:58:53Z</dcterms:created>
  <dc:creator>Selma Samrowski</dc:creator>
  <dc:description/>
  <dc:language>en-US</dc:language>
  <cp:lastModifiedBy>faessler</cp:lastModifiedBy>
  <dcterms:modified xsi:type="dcterms:W3CDTF">2006-05-17T09:14:13Z</dcterms:modified>
  <cp:revision>328</cp:revision>
  <dc:subject/>
  <dc:title>PHE R&amp;D Organization Char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