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14.png" ContentType="image/png"/>
  <Override PartName="/ppt/media/image9.png" ContentType="image/png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10.png" ContentType="image/png"/>
  <Override PartName="/ppt/media/image6.jpeg" ContentType="image/jpeg"/>
  <Override PartName="/ppt/media/image13.png" ContentType="image/png"/>
  <Override PartName="/ppt/media/image7.jpeg" ContentType="image/jpeg"/>
  <Override PartName="/ppt/media/image11.png" ContentType="image/png"/>
  <Override PartName="/ppt/media/image5.png" ContentType="image/pn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zh-TW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zh-TW" sz="1200" spc="-1" strike="noStrike">
                <a:solidFill>
                  <a:srgbClr val="3a0e66"/>
                </a:solidFill>
                <a:latin typeface="Minion"/>
                <a:ea typeface="文鼎中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zh-TW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3560" y="746280"/>
            <a:ext cx="4962600" cy="3722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Click to move the slide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87040" y="4717800"/>
            <a:ext cx="4894200" cy="44622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zh-TW" sz="1200" spc="-1" strike="noStrike">
                <a:solidFill>
                  <a:srgbClr val="3a0e66"/>
                </a:solidFill>
                <a:latin typeface="Minion"/>
                <a:ea typeface="文鼎中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zh-TW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779640" y="942984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zh-TW" sz="1200" spc="-1" strike="noStrike">
                <a:solidFill>
                  <a:srgbClr val="3a0e66"/>
                </a:solidFill>
                <a:latin typeface="Minion"/>
                <a:ea typeface="文鼎中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8272E8E-48F2-4E5E-B6B7-F6C39BC41196}" type="slidenum">
              <a:rPr b="0" lang="zh-TW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3779640" y="942984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0E2FCDF-9920-473A-BC10-B1267F8A6E4D}" type="slidenum">
              <a:rPr b="0" lang="zh-TW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zh-TW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zh-TW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zh-TW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85572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3779640" y="942984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F08A408-A759-4E37-9B9F-229EC8B01130}" type="slidenum">
              <a:rPr b="0" lang="zh-TW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zh-TW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zh-TW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zh-TW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58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 u="sng">
                <a:solidFill>
                  <a:srgbClr val="000000"/>
                </a:solidFill>
                <a:uFillTx/>
                <a:latin typeface="Times New Roman"/>
              </a:rPr>
              <a:t>BUILDING A SUSTAINABLE FU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gt;&gt;Clemens walks on stage, lapel microphone&lt;&l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gt;&gt;Laptop set up on stage lectern, slides controlled by gallery – to be tested at rehearsal&lt;&l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BenQ-Siemens, our new brand has been launched.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East meets West, Square meets Round, Design meets Technology.  </a:t>
            </a:r>
            <a:r>
              <a:rPr b="0" lang="en-GB" sz="1400" spc="-1" strike="noStrike" u="sng">
                <a:solidFill>
                  <a:srgbClr val="000000"/>
                </a:solidFill>
                <a:uFillTx/>
                <a:latin typeface="Times New Roman"/>
              </a:rPr>
              <a:t>It is our belief that opposites can create new ideas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Good afternoon, Ladies and Gentlemen, my name is Clemens Joos, CEO of BenQ Mob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Built upon the strong heritage of two companies: BenQ and Siemens - BenQ Mobile is </a:t>
            </a:r>
            <a:r>
              <a:rPr b="0" lang="en-GB" sz="1400" spc="-1" strike="noStrike" u="sng">
                <a:solidFill>
                  <a:srgbClr val="000000"/>
                </a:solidFill>
                <a:uFillTx/>
                <a:latin typeface="Times New Roman"/>
              </a:rPr>
              <a:t>creating the foundation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 for a </a:t>
            </a:r>
            <a:r>
              <a:rPr b="0" lang="en-GB" sz="1400" spc="-1" strike="noStrike" u="sng">
                <a:solidFill>
                  <a:srgbClr val="000000"/>
                </a:solidFill>
                <a:uFillTx/>
                <a:latin typeface="Times New Roman"/>
              </a:rPr>
              <a:t>sustainable future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 txBox="1"/>
          <p:nvPr/>
        </p:nvSpPr>
        <p:spPr>
          <a:xfrm>
            <a:off x="3779640" y="942984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740688E-BEDB-4AEC-8CB2-D4D2CA898F34}" type="slidenum">
              <a:rPr b="0" lang="zh-TW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zh-TW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zh-TW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zh-TW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779640" y="942984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E5A264B-3847-4114-8647-A84E47052CFF}" type="slidenum">
              <a:rPr b="0" lang="zh-TW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zh-TW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zh-TW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zh-TW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60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9796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60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9796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262080"/>
            <a:ext cx="8553600" cy="198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Click to edit the title text format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lick to edit the outline text forma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99"/>
              </a:spcBef>
              <a:buClr>
                <a:srgbClr val="3a0e66"/>
              </a:buClr>
              <a:buFont typeface="Wingdings" charset="2"/>
              <a:buChar char="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con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3004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Thir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our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4" marL="2057400" indent="-228600">
              <a:spcBef>
                <a:spcPts val="799"/>
              </a:spcBef>
              <a:buClr>
                <a:srgbClr val="3a0e66"/>
              </a:buClr>
              <a:buFont typeface="Minion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if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ix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ven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"/>
          <p:cNvSpPr/>
          <p:nvPr/>
        </p:nvSpPr>
        <p:spPr>
          <a:xfrm>
            <a:off x="371520" y="6481800"/>
            <a:ext cx="506556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Confidential (2006/03/21; SvS) </a:t>
            </a:r>
            <a:r>
              <a:rPr b="0" lang="en-US" sz="1000" spc="-1" strike="noStrike">
                <a:solidFill>
                  <a:srgbClr val="3a0e66"/>
                </a:solidFill>
                <a:latin typeface="Symbol"/>
                <a:ea typeface="Symbol"/>
              </a:rPr>
              <a:t></a:t>
            </a: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2006, BenQ Corporatio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996240" y="6481800"/>
            <a:ext cx="65376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 algn="r"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fld id="{DE4AC974-A8A3-4DD9-A541-D813D95E7996}" type="slidenum"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5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5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9320" y="3968640"/>
            <a:ext cx="8458200" cy="975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Minion"/>
              </a:rPr>
              <a:t>Supporting Messages for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Minion"/>
              </a:rPr>
              <a:t>Managers' Communication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9" name=""/>
          <p:cNvSpPr/>
          <p:nvPr/>
        </p:nvSpPr>
        <p:spPr>
          <a:xfrm>
            <a:off x="409680" y="5095800"/>
            <a:ext cx="4572000" cy="305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March 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414680" y="1576440"/>
            <a:ext cx="3421080" cy="16081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324000" y="1179360"/>
            <a:ext cx="8569080" cy="3418200"/>
          </a:xfrm>
          <a:prstGeom prst="roundRect">
            <a:avLst>
              <a:gd name="adj" fmla="val 6181"/>
            </a:avLst>
          </a:prstGeom>
          <a:solidFill>
            <a:srgbClr val="cfcddf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79280" y="48960"/>
            <a:ext cx="8553600" cy="85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Our formula of competitiveness sets the priorities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53" name=""/>
          <p:cNvSpPr/>
          <p:nvPr/>
        </p:nvSpPr>
        <p:spPr>
          <a:xfrm>
            <a:off x="4716360" y="2979720"/>
            <a:ext cx="2016360" cy="0"/>
          </a:xfrm>
          <a:prstGeom prst="line">
            <a:avLst/>
          </a:prstGeom>
          <a:ln w="28440">
            <a:solidFill>
              <a:srgbClr val="3a0e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438120" y="2593800"/>
            <a:ext cx="4086360" cy="1315080"/>
            <a:chOff x="438120" y="2593800"/>
            <a:chExt cx="4086360" cy="1315080"/>
          </a:xfrm>
        </p:grpSpPr>
        <p:sp>
          <p:nvSpPr>
            <p:cNvPr id="155" name=""/>
            <p:cNvSpPr/>
            <p:nvPr/>
          </p:nvSpPr>
          <p:spPr>
            <a:xfrm>
              <a:off x="438120" y="2593800"/>
              <a:ext cx="3746520" cy="131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r>
                <a:rPr b="0" lang="en-US" sz="4000" spc="-1" strike="noStrike">
                  <a:solidFill>
                    <a:srgbClr val="3a0e66"/>
                  </a:solidFill>
                  <a:latin typeface="Minion"/>
                </a:rPr>
                <a:t>Competitiveness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6" name=""/>
            <p:cNvGrpSpPr/>
            <p:nvPr/>
          </p:nvGrpSpPr>
          <p:grpSpPr>
            <a:xfrm>
              <a:off x="4098960" y="2908440"/>
              <a:ext cx="425520" cy="142560"/>
              <a:chOff x="4098960" y="2908440"/>
              <a:chExt cx="425520" cy="142560"/>
            </a:xfrm>
          </p:grpSpPr>
          <p:sp>
            <p:nvSpPr>
              <p:cNvPr id="157" name=""/>
              <p:cNvSpPr/>
              <p:nvPr/>
            </p:nvSpPr>
            <p:spPr>
              <a:xfrm>
                <a:off x="4098960" y="2908440"/>
                <a:ext cx="4255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4098960" y="3051000"/>
                <a:ext cx="4255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9" name=""/>
          <p:cNvSpPr/>
          <p:nvPr/>
        </p:nvSpPr>
        <p:spPr>
          <a:xfrm>
            <a:off x="4932360" y="1900080"/>
            <a:ext cx="1584360" cy="936720"/>
          </a:xfrm>
          <a:prstGeom prst="roundRect">
            <a:avLst>
              <a:gd name="adj" fmla="val 16667"/>
            </a:avLst>
          </a:prstGeom>
          <a:solidFill>
            <a:srgbClr val="8076a8"/>
          </a:solidFill>
          <a:ln w="0">
            <a:noFill/>
          </a:ln>
          <a:effectLst>
            <a:outerShdw dist="40186" dir="1096358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Minion"/>
              </a:rPr>
              <a:t>Val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932360" y="3124080"/>
            <a:ext cx="1584360" cy="936720"/>
          </a:xfrm>
          <a:prstGeom prst="roundRect">
            <a:avLst>
              <a:gd name="adj" fmla="val 16667"/>
            </a:avLst>
          </a:prstGeom>
          <a:solidFill>
            <a:srgbClr val="a6a0c2"/>
          </a:solidFill>
          <a:ln w="0">
            <a:noFill/>
          </a:ln>
          <a:effectLst>
            <a:outerShdw dist="40186" dir="1096358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Minion"/>
              </a:rPr>
              <a:t>Cos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631560" y="2577960"/>
            <a:ext cx="2091240" cy="70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4000" spc="-1" strike="noStrike">
                <a:solidFill>
                  <a:srgbClr val="3a0e66"/>
                </a:solidFill>
                <a:latin typeface="Minion"/>
                <a:ea typeface="文鼎中黑"/>
              </a:rPr>
              <a:t>× Spe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572000" y="1989000"/>
            <a:ext cx="727200" cy="85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n-US" sz="5000" spc="-1" strike="noStrike">
                <a:solidFill>
                  <a:srgbClr val="3a0e66"/>
                </a:solidFill>
                <a:latin typeface="Wingdings 2"/>
                <a:ea typeface="Wingdings 2"/>
              </a:rPr>
              <a:t>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217720" y="2895480"/>
            <a:ext cx="759240" cy="85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n-US" sz="5000" spc="-1" strike="noStrike">
                <a:solidFill>
                  <a:srgbClr val="3a0e66"/>
                </a:solidFill>
                <a:latin typeface="Wingdings 2"/>
                <a:ea typeface="Wingdings 2"/>
              </a:rPr>
              <a:t>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541760" y="3252960"/>
            <a:ext cx="759240" cy="85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n-US" sz="5000" spc="-1" strike="noStrike">
                <a:solidFill>
                  <a:srgbClr val="3a0e66"/>
                </a:solidFill>
                <a:latin typeface="Wingdings 2"/>
                <a:ea typeface="Wingdings 2"/>
              </a:rPr>
              <a:t>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252440" y="5076720"/>
            <a:ext cx="66423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  <a:ea typeface="文鼎中黑"/>
              </a:rPr>
              <a:t>Ask yourself, whether you can do it </a:t>
            </a:r>
            <a:br>
              <a:rPr sz="2800"/>
            </a:br>
            <a:r>
              <a:rPr b="1" lang="en-US" sz="3200" spc="-1" strike="noStrike">
                <a:solidFill>
                  <a:srgbClr val="3a0e66"/>
                </a:solidFill>
                <a:latin typeface="Minion"/>
                <a:ea typeface="文鼎中黑"/>
              </a:rPr>
              <a:t>better, faster, and cheaper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443720" y="236520"/>
            <a:ext cx="1424160" cy="341280"/>
          </a:xfrm>
          <a:prstGeom prst="rect">
            <a:avLst/>
          </a:prstGeom>
          <a:solidFill>
            <a:srgbClr val="3a0e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ctr" anchorCtr="1">
            <a:normAutofit fontScale="87000"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Minion"/>
                <a:ea typeface="文鼎中黑"/>
              </a:rPr>
              <a:t>Our Formula of competitive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63360" y="5832360"/>
            <a:ext cx="8810640" cy="333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36600" y="2011320"/>
            <a:ext cx="8464680" cy="3824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340080" y="1758960"/>
            <a:ext cx="5470560" cy="4076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995640" y="1758960"/>
            <a:ext cx="0" cy="4076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6070320" y="2030400"/>
            <a:ext cx="14040" cy="3774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04000" y="1758960"/>
            <a:ext cx="0" cy="4076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92240" y="1989000"/>
            <a:ext cx="792000" cy="1440000"/>
          </a:xfrm>
          <a:custGeom>
            <a:avLst/>
            <a:gdLst>
              <a:gd name="textAreaLeft" fmla="*/ 0 w 792000"/>
              <a:gd name="textAreaRight" fmla="*/ 792360 w 792000"/>
              <a:gd name="textAreaTop" fmla="*/ 0 h 1440000"/>
              <a:gd name="textAreaBottom" fmla="*/ 1440000 h 144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076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rot="16200000">
            <a:off x="-154440" y="2588040"/>
            <a:ext cx="127476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Minion"/>
              </a:rPr>
              <a:t>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79280" y="3483000"/>
            <a:ext cx="792360" cy="1116000"/>
          </a:xfrm>
          <a:custGeom>
            <a:avLst/>
            <a:gdLst>
              <a:gd name="textAreaLeft" fmla="*/ 0 w 792360"/>
              <a:gd name="textAreaRight" fmla="*/ 792720 w 792360"/>
              <a:gd name="textAreaTop" fmla="*/ 0 h 1116000"/>
              <a:gd name="textAreaBottom" fmla="*/ 1116360 h 11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076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rot="16200000">
            <a:off x="-129240" y="3931200"/>
            <a:ext cx="12240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Minion"/>
              </a:rPr>
              <a:t>Spe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168560" y="458136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340080" y="1788840"/>
            <a:ext cx="635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101520" indent="-1015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3a0e66"/>
                </a:solidFill>
                <a:latin typeface="Minion"/>
              </a:rPr>
              <a:t>CY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219560" y="1788840"/>
            <a:ext cx="1432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101520" indent="-1015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3a0e66"/>
                </a:solidFill>
                <a:latin typeface="Minion"/>
              </a:rPr>
              <a:t>CY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236000" y="1788840"/>
            <a:ext cx="13014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101520" indent="-1015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3a0e66"/>
                </a:solidFill>
                <a:latin typeface="Minion"/>
              </a:rPr>
              <a:t>CY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276640" y="5881680"/>
            <a:ext cx="183960" cy="228600"/>
          </a:xfrm>
          <a:prstGeom prst="rightArrow">
            <a:avLst>
              <a:gd name="adj1" fmla="val 52944"/>
              <a:gd name="adj2" fmla="val 42500"/>
            </a:avLst>
          </a:prstGeom>
          <a:solidFill>
            <a:srgbClr val="cc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454840" y="5943600"/>
            <a:ext cx="92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3a0e66"/>
                </a:solidFill>
                <a:latin typeface="Minion"/>
              </a:rPr>
              <a:t>Start of activity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600720" y="5943600"/>
            <a:ext cx="1710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3a0e66"/>
                </a:solidFill>
                <a:latin typeface="Minion"/>
              </a:rPr>
              <a:t>Concept definition milest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479760" y="5927760"/>
            <a:ext cx="193680" cy="141120"/>
          </a:xfrm>
          <a:prstGeom prst="triangle">
            <a:avLst>
              <a:gd name="adj" fmla="val 50000"/>
            </a:avLst>
          </a:prstGeom>
          <a:solidFill>
            <a:srgbClr val="8076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056080" y="5943600"/>
            <a:ext cx="648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3a0e66"/>
                </a:solidFill>
                <a:latin typeface="Minion"/>
              </a:rPr>
              <a:t>Full impac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740640" y="5880240"/>
            <a:ext cx="228600" cy="217440"/>
          </a:xfrm>
          <a:prstGeom prst="star5">
            <a:avLst/>
          </a:prstGeom>
          <a:solidFill>
            <a:srgbClr val="cc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968160" y="5943600"/>
            <a:ext cx="697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3a0e66"/>
                </a:solidFill>
                <a:latin typeface="Minion"/>
              </a:rPr>
              <a:t>First impac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63040" y="5900760"/>
            <a:ext cx="228600" cy="193680"/>
          </a:xfrm>
          <a:prstGeom prst="star5">
            <a:avLst/>
          </a:prstGeom>
          <a:solidFill>
            <a:srgbClr val="a6a0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236000" y="620640"/>
            <a:ext cx="1908000" cy="333360"/>
          </a:xfrm>
          <a:custGeom>
            <a:avLst/>
            <a:gdLst/>
            <a:ahLst/>
            <a:rect l="l" t="t" r="r" b="b"/>
            <a:pathLst>
              <a:path w="1392" h="567">
                <a:moveTo>
                  <a:pt x="0" y="567"/>
                </a:moveTo>
                <a:cubicBezTo>
                  <a:pt x="108" y="420"/>
                  <a:pt x="216" y="274"/>
                  <a:pt x="360" y="183"/>
                </a:cubicBezTo>
                <a:cubicBezTo>
                  <a:pt x="504" y="92"/>
                  <a:pt x="692" y="46"/>
                  <a:pt x="864" y="23"/>
                </a:cubicBezTo>
                <a:cubicBezTo>
                  <a:pt x="1036" y="0"/>
                  <a:pt x="1214" y="23"/>
                  <a:pt x="1392" y="47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596360" y="620640"/>
            <a:ext cx="131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a0e66"/>
                </a:solidFill>
                <a:latin typeface="Minion"/>
              </a:rPr>
              <a:t>Expand territ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732720" y="1041480"/>
            <a:ext cx="2062080" cy="712800"/>
          </a:xfrm>
          <a:custGeom>
            <a:avLst/>
            <a:gdLst/>
            <a:ahLst/>
            <a:rect l="l" t="t" r="r" b="b"/>
            <a:pathLst>
              <a:path w="1472" h="536">
                <a:moveTo>
                  <a:pt x="1472" y="0"/>
                </a:moveTo>
                <a:lnTo>
                  <a:pt x="1472" y="536"/>
                </a:lnTo>
                <a:lnTo>
                  <a:pt x="0" y="536"/>
                </a:lnTo>
                <a:lnTo>
                  <a:pt x="1472" y="0"/>
                </a:lnTo>
                <a:close/>
              </a:path>
            </a:pathLst>
          </a:custGeom>
          <a:gradFill rotWithShape="0">
            <a:gsLst>
              <a:gs pos="0">
                <a:srgbClr val="999999"/>
              </a:gs>
              <a:gs pos="100000">
                <a:srgbClr val="fefefe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153200" y="1278000"/>
            <a:ext cx="1692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3a0e66"/>
                </a:solidFill>
                <a:latin typeface="Minion"/>
              </a:rPr>
              <a:t>Sustainable</a:t>
            </a:r>
            <a:br>
              <a:rPr sz="1400"/>
            </a:br>
            <a:r>
              <a:rPr b="1" i="1" lang="en-GB" sz="1400" spc="-1" strike="noStrike">
                <a:solidFill>
                  <a:srgbClr val="3a0e66"/>
                </a:solidFill>
                <a:latin typeface="Minion"/>
              </a:rPr>
              <a:t>turnarou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09360" y="5904000"/>
            <a:ext cx="168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25320"/>
                <a:tab algn="l" pos="1679400"/>
                <a:tab algn="l" pos="2695680"/>
                <a:tab algn="l" pos="3228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a0e66"/>
                </a:solidFill>
                <a:latin typeface="Wingdings"/>
                <a:ea typeface="Wingdings"/>
              </a:rPr>
              <a:t>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541480" y="5943600"/>
            <a:ext cx="1099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3a0e66"/>
                </a:solidFill>
                <a:latin typeface="Minion"/>
              </a:rPr>
              <a:t>Milestone reach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348000" y="1009800"/>
            <a:ext cx="4248360" cy="749160"/>
          </a:xfrm>
          <a:custGeom>
            <a:avLst/>
            <a:gdLst/>
            <a:ahLst/>
            <a:rect l="l" t="t" r="r" b="b"/>
            <a:pathLst>
              <a:path w="1392" h="567">
                <a:moveTo>
                  <a:pt x="0" y="567"/>
                </a:moveTo>
                <a:cubicBezTo>
                  <a:pt x="108" y="420"/>
                  <a:pt x="216" y="274"/>
                  <a:pt x="360" y="183"/>
                </a:cubicBezTo>
                <a:cubicBezTo>
                  <a:pt x="504" y="92"/>
                  <a:pt x="692" y="46"/>
                  <a:pt x="864" y="23"/>
                </a:cubicBezTo>
                <a:cubicBezTo>
                  <a:pt x="1036" y="0"/>
                  <a:pt x="1214" y="23"/>
                  <a:pt x="1392" y="47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847040" y="1360440"/>
            <a:ext cx="705600" cy="27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8000" bIns="18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a0e66"/>
                </a:solidFill>
                <a:latin typeface="Minion"/>
              </a:rPr>
              <a:t>Get 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971640" y="2171880"/>
            <a:ext cx="2376360" cy="18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79280" indent="-177840">
              <a:lnSpc>
                <a:spcPct val="100000"/>
              </a:lnSpc>
              <a:spcBef>
                <a:spcPts val="488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3a0e66"/>
                </a:solidFill>
                <a:latin typeface="Minion"/>
                <a:ea typeface="新細明體"/>
              </a:rPr>
              <a:t>CM Implementation*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488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3a0e66"/>
                </a:solidFill>
                <a:latin typeface="Minion"/>
                <a:ea typeface="新細明體"/>
              </a:rPr>
              <a:t>WE Sales Projec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488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3a0e66"/>
                </a:solidFill>
                <a:latin typeface="Minion"/>
                <a:ea typeface="新細明體"/>
              </a:rPr>
              <a:t>Improve EE Market Intima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488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3a0e66"/>
                </a:solidFill>
                <a:latin typeface="Minion"/>
                <a:ea typeface="新細明體"/>
              </a:rPr>
              <a:t>Improve LAM Market Intimacy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488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3a0e66"/>
                </a:solidFill>
                <a:latin typeface="Minion"/>
                <a:ea typeface="新細明體"/>
              </a:rPr>
              <a:t>Improve Asia Market Intimacy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116000" y="357336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79280" y="4638600"/>
            <a:ext cx="792360" cy="1181160"/>
          </a:xfrm>
          <a:custGeom>
            <a:avLst/>
            <a:gdLst>
              <a:gd name="textAreaLeft" fmla="*/ 0 w 792360"/>
              <a:gd name="textAreaRight" fmla="*/ 792720 w 792360"/>
              <a:gd name="textAreaTop" fmla="*/ 0 h 1181160"/>
              <a:gd name="textAreaBottom" fmla="*/ 1181520 h 1181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076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rot="16200000">
            <a:off x="92160" y="5119200"/>
            <a:ext cx="78084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Minion"/>
              </a:rPr>
              <a:t>Co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5240" y="42480"/>
            <a:ext cx="784692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  <a:ea typeface="文鼎中黑"/>
              </a:rPr>
              <a:t>Ten key initiatives are driving the turnarou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7320" y="1017720"/>
            <a:ext cx="36828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800" spc="-1" strike="noStrike">
                <a:solidFill>
                  <a:srgbClr val="5f5f5f"/>
                </a:solidFill>
                <a:latin typeface="Minion"/>
                <a:ea typeface="文鼎中黑"/>
              </a:rPr>
              <a:t>BenQ Mobile turnaround master pl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6804000" y="1989000"/>
            <a:ext cx="14400" cy="384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5349600" y="2030400"/>
            <a:ext cx="14040" cy="384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492360" y="5148360"/>
            <a:ext cx="184320" cy="228600"/>
          </a:xfrm>
          <a:prstGeom prst="rightArrow">
            <a:avLst>
              <a:gd name="adj1" fmla="val 52944"/>
              <a:gd name="adj2" fmla="val 42500"/>
            </a:avLst>
          </a:prstGeom>
          <a:solidFill>
            <a:srgbClr val="cc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71640" y="3832200"/>
            <a:ext cx="2255760" cy="49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79280" indent="-177840">
              <a:lnSpc>
                <a:spcPct val="100000"/>
              </a:lnSpc>
              <a:spcBef>
                <a:spcPts val="814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3a0e66"/>
                </a:solidFill>
                <a:latin typeface="Minion"/>
                <a:ea typeface="新細明體"/>
              </a:rPr>
              <a:t>PLM Excell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814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3a0e66"/>
                </a:solidFill>
                <a:latin typeface="Minion"/>
                <a:ea typeface="新細明體"/>
              </a:rPr>
              <a:t>Mobilize collaboratio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971640" y="4838760"/>
            <a:ext cx="2255760" cy="13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79280" indent="-177840">
              <a:lnSpc>
                <a:spcPct val="100000"/>
              </a:lnSpc>
              <a:spcBef>
                <a:spcPts val="814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3a0e66"/>
                </a:solidFill>
                <a:latin typeface="Minion"/>
                <a:ea typeface="新細明體"/>
              </a:rPr>
              <a:t>Improve cost sensitiv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814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3a0e66"/>
                </a:solidFill>
                <a:latin typeface="Minion"/>
                <a:ea typeface="新細明體"/>
              </a:rPr>
              <a:t>Improve product cost positio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814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3a0e66"/>
                </a:solidFill>
                <a:latin typeface="Minion"/>
                <a:ea typeface="新細明體"/>
              </a:rPr>
              <a:t>Reduce non-conformance </a:t>
            </a:r>
            <a:br>
              <a:rPr sz="1300"/>
            </a:br>
            <a:r>
              <a:rPr b="1" lang="en-GB" sz="1300" spc="-1" strike="noStrike">
                <a:solidFill>
                  <a:srgbClr val="3a0e66"/>
                </a:solidFill>
                <a:latin typeface="Minion"/>
                <a:ea typeface="新細明體"/>
              </a:rPr>
              <a:t>cost (NCC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252480" y="1103400"/>
            <a:ext cx="545760" cy="27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8000" bIns="18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a0e66"/>
                </a:solidFill>
                <a:latin typeface="Minion"/>
              </a:rPr>
              <a:t>H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708360" y="2395440"/>
            <a:ext cx="184320" cy="228600"/>
          </a:xfrm>
          <a:prstGeom prst="rightArrow">
            <a:avLst>
              <a:gd name="adj1" fmla="val 52944"/>
              <a:gd name="adj2" fmla="val 42500"/>
            </a:avLst>
          </a:prstGeom>
          <a:solidFill>
            <a:srgbClr val="cc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659720" y="2430360"/>
            <a:ext cx="228600" cy="193680"/>
          </a:xfrm>
          <a:prstGeom prst="star5">
            <a:avLst/>
          </a:prstGeom>
          <a:solidFill>
            <a:srgbClr val="a6a0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708360" y="2670120"/>
            <a:ext cx="184320" cy="228600"/>
          </a:xfrm>
          <a:prstGeom prst="rightArrow">
            <a:avLst>
              <a:gd name="adj1" fmla="val 52944"/>
              <a:gd name="adj2" fmla="val 42500"/>
            </a:avLst>
          </a:prstGeom>
          <a:solidFill>
            <a:srgbClr val="cc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696000" y="2690640"/>
            <a:ext cx="228600" cy="193680"/>
          </a:xfrm>
          <a:prstGeom prst="star5">
            <a:avLst/>
          </a:prstGeom>
          <a:solidFill>
            <a:srgbClr val="a6a0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672240" y="3814920"/>
            <a:ext cx="228600" cy="193680"/>
          </a:xfrm>
          <a:prstGeom prst="star5">
            <a:avLst/>
          </a:prstGeom>
          <a:solidFill>
            <a:srgbClr val="a6a0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801960" y="3843360"/>
            <a:ext cx="193680" cy="141120"/>
          </a:xfrm>
          <a:prstGeom prst="triangle">
            <a:avLst>
              <a:gd name="adj" fmla="val 50000"/>
            </a:avLst>
          </a:prstGeom>
          <a:solidFill>
            <a:srgbClr val="8076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780000" y="2276640"/>
            <a:ext cx="4032000" cy="0"/>
          </a:xfrm>
          <a:prstGeom prst="line">
            <a:avLst/>
          </a:prstGeom>
          <a:ln w="9360">
            <a:solidFill>
              <a:srgbClr val="8076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4628880" y="1989000"/>
            <a:ext cx="14040" cy="384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992840" y="2143080"/>
            <a:ext cx="228600" cy="217440"/>
          </a:xfrm>
          <a:prstGeom prst="star5">
            <a:avLst/>
          </a:prstGeom>
          <a:solidFill>
            <a:srgbClr val="cc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72240" y="4159080"/>
            <a:ext cx="228600" cy="193680"/>
          </a:xfrm>
          <a:prstGeom prst="star5">
            <a:avLst/>
          </a:prstGeom>
          <a:solidFill>
            <a:srgbClr val="a6a0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017960" y="4202280"/>
            <a:ext cx="193680" cy="141120"/>
          </a:xfrm>
          <a:prstGeom prst="triangle">
            <a:avLst>
              <a:gd name="adj" fmla="val 50000"/>
            </a:avLst>
          </a:prstGeom>
          <a:solidFill>
            <a:srgbClr val="8076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564000" y="3916440"/>
            <a:ext cx="3240000" cy="0"/>
          </a:xfrm>
          <a:prstGeom prst="line">
            <a:avLst/>
          </a:prstGeom>
          <a:ln w="9360">
            <a:solidFill>
              <a:srgbClr val="8076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667640" y="2155680"/>
            <a:ext cx="228600" cy="193680"/>
          </a:xfrm>
          <a:prstGeom prst="star5">
            <a:avLst/>
          </a:prstGeom>
          <a:solidFill>
            <a:srgbClr val="a6a0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419640" y="4281480"/>
            <a:ext cx="3313080" cy="0"/>
          </a:xfrm>
          <a:prstGeom prst="line">
            <a:avLst/>
          </a:prstGeom>
          <a:ln w="9360">
            <a:solidFill>
              <a:srgbClr val="8076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500720" y="4146480"/>
            <a:ext cx="228600" cy="217440"/>
          </a:xfrm>
          <a:prstGeom prst="star5">
            <a:avLst/>
          </a:prstGeom>
          <a:solidFill>
            <a:srgbClr val="cc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924360" y="3795840"/>
            <a:ext cx="228600" cy="217440"/>
          </a:xfrm>
          <a:prstGeom prst="star5">
            <a:avLst/>
          </a:prstGeom>
          <a:solidFill>
            <a:srgbClr val="cc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564000" y="4888080"/>
            <a:ext cx="32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672240" y="4797360"/>
            <a:ext cx="228600" cy="193680"/>
          </a:xfrm>
          <a:prstGeom prst="star5">
            <a:avLst/>
          </a:prstGeom>
          <a:solidFill>
            <a:srgbClr val="a6a0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487760" y="4802040"/>
            <a:ext cx="228600" cy="217800"/>
          </a:xfrm>
          <a:prstGeom prst="star5">
            <a:avLst/>
          </a:prstGeom>
          <a:solidFill>
            <a:srgbClr val="cc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514680" y="4815000"/>
            <a:ext cx="193680" cy="141120"/>
          </a:xfrm>
          <a:prstGeom prst="triangle">
            <a:avLst>
              <a:gd name="adj" fmla="val 50000"/>
            </a:avLst>
          </a:prstGeom>
          <a:solidFill>
            <a:srgbClr val="8076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708360" y="5232240"/>
            <a:ext cx="309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662880" y="5119560"/>
            <a:ext cx="228600" cy="193680"/>
          </a:xfrm>
          <a:prstGeom prst="star5">
            <a:avLst/>
          </a:prstGeom>
          <a:solidFill>
            <a:srgbClr val="a6a0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780000" y="5162400"/>
            <a:ext cx="193680" cy="141480"/>
          </a:xfrm>
          <a:prstGeom prst="triangle">
            <a:avLst>
              <a:gd name="adj" fmla="val 50000"/>
            </a:avLst>
          </a:prstGeom>
          <a:solidFill>
            <a:srgbClr val="8076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491000" y="5097600"/>
            <a:ext cx="228600" cy="217440"/>
          </a:xfrm>
          <a:prstGeom prst="star5">
            <a:avLst/>
          </a:prstGeom>
          <a:solidFill>
            <a:srgbClr val="cc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924360" y="2554200"/>
            <a:ext cx="3838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243400" y="2408400"/>
            <a:ext cx="228600" cy="217440"/>
          </a:xfrm>
          <a:prstGeom prst="star5">
            <a:avLst/>
          </a:prstGeom>
          <a:solidFill>
            <a:srgbClr val="cc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167360" y="2441520"/>
            <a:ext cx="193680" cy="141480"/>
          </a:xfrm>
          <a:prstGeom prst="triangle">
            <a:avLst>
              <a:gd name="adj" fmla="val 50000"/>
            </a:avLst>
          </a:prstGeom>
          <a:solidFill>
            <a:srgbClr val="8076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924360" y="2784600"/>
            <a:ext cx="2849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559400" y="2668680"/>
            <a:ext cx="228600" cy="217440"/>
          </a:xfrm>
          <a:prstGeom prst="star5">
            <a:avLst/>
          </a:prstGeom>
          <a:solidFill>
            <a:srgbClr val="cc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890880" y="2716200"/>
            <a:ext cx="193680" cy="141480"/>
          </a:xfrm>
          <a:prstGeom prst="triangle">
            <a:avLst>
              <a:gd name="adj" fmla="val 50000"/>
            </a:avLst>
          </a:prstGeom>
          <a:solidFill>
            <a:srgbClr val="8076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519200" y="1684440"/>
            <a:ext cx="134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Initi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35080" y="1684440"/>
            <a:ext cx="103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1600" spc="-1" strike="noStrike">
                <a:solidFill>
                  <a:srgbClr val="8076a8"/>
                </a:solidFill>
                <a:latin typeface="Minion"/>
                <a:ea typeface="文鼎中黑"/>
              </a:rPr>
              <a:t>Lev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697280" y="2495520"/>
            <a:ext cx="520920" cy="57240"/>
          </a:xfrm>
          <a:prstGeom prst="rightArrow">
            <a:avLst>
              <a:gd name="adj1" fmla="val 50000"/>
              <a:gd name="adj2" fmla="val 227516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104240" y="2495520"/>
            <a:ext cx="520560" cy="57240"/>
          </a:xfrm>
          <a:prstGeom prst="rightArrow">
            <a:avLst>
              <a:gd name="adj1" fmla="val 50000"/>
              <a:gd name="adj2" fmla="val 227358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699000" y="2946240"/>
            <a:ext cx="183960" cy="228600"/>
          </a:xfrm>
          <a:prstGeom prst="rightArrow">
            <a:avLst>
              <a:gd name="adj1" fmla="val 52944"/>
              <a:gd name="adj2" fmla="val 42500"/>
            </a:avLst>
          </a:prstGeom>
          <a:solidFill>
            <a:srgbClr val="cc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696000" y="2967120"/>
            <a:ext cx="228600" cy="193680"/>
          </a:xfrm>
          <a:prstGeom prst="star5">
            <a:avLst/>
          </a:prstGeom>
          <a:solidFill>
            <a:srgbClr val="a6a0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914640" y="3060720"/>
            <a:ext cx="289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224240" y="2944800"/>
            <a:ext cx="228600" cy="217440"/>
          </a:xfrm>
          <a:prstGeom prst="star5">
            <a:avLst/>
          </a:prstGeom>
          <a:solidFill>
            <a:srgbClr val="cc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881520" y="2992320"/>
            <a:ext cx="193680" cy="141480"/>
          </a:xfrm>
          <a:prstGeom prst="triangle">
            <a:avLst>
              <a:gd name="adj" fmla="val 50000"/>
            </a:avLst>
          </a:prstGeom>
          <a:solidFill>
            <a:srgbClr val="8076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699000" y="3213000"/>
            <a:ext cx="183960" cy="228600"/>
          </a:xfrm>
          <a:prstGeom prst="rightArrow">
            <a:avLst>
              <a:gd name="adj1" fmla="val 52944"/>
              <a:gd name="adj2" fmla="val 42500"/>
            </a:avLst>
          </a:prstGeom>
          <a:solidFill>
            <a:srgbClr val="cc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8582040" y="3205080"/>
            <a:ext cx="228600" cy="193680"/>
          </a:xfrm>
          <a:prstGeom prst="star5">
            <a:avLst/>
          </a:prstGeom>
          <a:solidFill>
            <a:srgbClr val="a6a0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914640" y="3327480"/>
            <a:ext cx="4754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53120" y="3201840"/>
            <a:ext cx="228600" cy="217800"/>
          </a:xfrm>
          <a:prstGeom prst="star5">
            <a:avLst/>
          </a:prstGeom>
          <a:solidFill>
            <a:srgbClr val="cc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529160" y="3259080"/>
            <a:ext cx="193680" cy="141480"/>
          </a:xfrm>
          <a:prstGeom prst="triangle">
            <a:avLst>
              <a:gd name="adj" fmla="val 50000"/>
            </a:avLst>
          </a:prstGeom>
          <a:solidFill>
            <a:srgbClr val="8076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030560" y="3257640"/>
            <a:ext cx="520920" cy="57240"/>
          </a:xfrm>
          <a:prstGeom prst="rightArrow">
            <a:avLst>
              <a:gd name="adj1" fmla="val 50000"/>
              <a:gd name="adj2" fmla="val 227516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716360" y="3247920"/>
            <a:ext cx="520920" cy="57240"/>
          </a:xfrm>
          <a:prstGeom prst="rightArrow">
            <a:avLst>
              <a:gd name="adj1" fmla="val 50000"/>
              <a:gd name="adj2" fmla="val 227516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06720" y="2197080"/>
            <a:ext cx="520920" cy="57240"/>
          </a:xfrm>
          <a:prstGeom prst="rightArrow">
            <a:avLst>
              <a:gd name="adj1" fmla="val 50000"/>
              <a:gd name="adj2" fmla="val 227516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736800" y="5622840"/>
            <a:ext cx="309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8012160" y="3238560"/>
            <a:ext cx="520560" cy="57240"/>
          </a:xfrm>
          <a:prstGeom prst="rightArrow">
            <a:avLst>
              <a:gd name="adj1" fmla="val 50000"/>
              <a:gd name="adj2" fmla="val 227358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65120" y="6226200"/>
            <a:ext cx="1758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3a0e66"/>
                </a:solidFill>
                <a:latin typeface="Minion"/>
              </a:rPr>
              <a:t>* Includes Sales Margin+ Initiativ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708360" y="2133720"/>
            <a:ext cx="184320" cy="228600"/>
          </a:xfrm>
          <a:prstGeom prst="rightArrow">
            <a:avLst>
              <a:gd name="adj1" fmla="val 52944"/>
              <a:gd name="adj2" fmla="val 42500"/>
            </a:avLst>
          </a:prstGeom>
          <a:solidFill>
            <a:srgbClr val="cc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459320" y="2197080"/>
            <a:ext cx="520560" cy="57240"/>
          </a:xfrm>
          <a:prstGeom prst="rightArrow">
            <a:avLst>
              <a:gd name="adj1" fmla="val 50000"/>
              <a:gd name="adj2" fmla="val 227358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378320" y="2208240"/>
            <a:ext cx="193680" cy="141120"/>
          </a:xfrm>
          <a:prstGeom prst="triangle">
            <a:avLst>
              <a:gd name="adj" fmla="val 50000"/>
            </a:avLst>
          </a:prstGeom>
          <a:solidFill>
            <a:srgbClr val="8076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379680" y="4137120"/>
            <a:ext cx="184320" cy="228600"/>
          </a:xfrm>
          <a:prstGeom prst="rightArrow">
            <a:avLst>
              <a:gd name="adj1" fmla="val 52944"/>
              <a:gd name="adj2" fmla="val 42500"/>
            </a:avLst>
          </a:prstGeom>
          <a:solidFill>
            <a:srgbClr val="cc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79680" y="3772080"/>
            <a:ext cx="184320" cy="228600"/>
          </a:xfrm>
          <a:prstGeom prst="rightArrow">
            <a:avLst>
              <a:gd name="adj1" fmla="val 52944"/>
              <a:gd name="adj2" fmla="val 42500"/>
            </a:avLst>
          </a:prstGeom>
          <a:solidFill>
            <a:srgbClr val="cc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379680" y="4803840"/>
            <a:ext cx="184320" cy="228600"/>
          </a:xfrm>
          <a:prstGeom prst="rightArrow">
            <a:avLst>
              <a:gd name="adj1" fmla="val 52944"/>
              <a:gd name="adj2" fmla="val 42500"/>
            </a:avLst>
          </a:prstGeom>
          <a:solidFill>
            <a:srgbClr val="cc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17360" y="1928880"/>
            <a:ext cx="727200" cy="40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Wingdings 2"/>
                <a:ea typeface="Wingdings 2"/>
              </a:rPr>
              <a:t>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00800" y="3432240"/>
            <a:ext cx="419400" cy="40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Wingdings 2"/>
                <a:ea typeface="Wingdings 2"/>
              </a:rPr>
              <a:t>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19880" y="4587840"/>
            <a:ext cx="419400" cy="40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Wingdings 2"/>
                <a:ea typeface="Wingdings 2"/>
              </a:rPr>
              <a:t>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443720" y="147600"/>
            <a:ext cx="1424160" cy="341280"/>
          </a:xfrm>
          <a:prstGeom prst="rect">
            <a:avLst/>
          </a:prstGeom>
          <a:solidFill>
            <a:srgbClr val="3a0e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ctr" anchorCtr="1">
            <a:norm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Minion"/>
                <a:ea typeface="文鼎中黑"/>
              </a:rPr>
              <a:t>Ten Key Initiati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79280" y="48960"/>
            <a:ext cx="8437680" cy="85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Our behavior is guided by common values (PEC)</a:t>
            </a:r>
            <a:r>
              <a:rPr b="1" lang="en-US" sz="2800" spc="-1" strike="noStrike" baseline="30000">
                <a:solidFill>
                  <a:srgbClr val="3a0e66"/>
                </a:solidFill>
                <a:latin typeface="Minion"/>
              </a:rPr>
              <a:t>2</a:t>
            </a: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…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71" name=""/>
          <p:cNvSpPr/>
          <p:nvPr/>
        </p:nvSpPr>
        <p:spPr>
          <a:xfrm>
            <a:off x="7596360" y="141120"/>
            <a:ext cx="1423800" cy="341640"/>
          </a:xfrm>
          <a:prstGeom prst="rect">
            <a:avLst/>
          </a:prstGeom>
          <a:solidFill>
            <a:srgbClr val="3a0e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ctr" anchorCtr="1">
            <a:normAutofit fontScale="87000"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Minion"/>
                <a:ea typeface="文鼎中黑"/>
              </a:rPr>
              <a:t>Our Values and Spir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2175480" y="1018440"/>
            <a:ext cx="4610880" cy="3968640"/>
            <a:chOff x="2175480" y="1018440"/>
            <a:chExt cx="4610880" cy="3968640"/>
          </a:xfrm>
        </p:grpSpPr>
        <p:sp>
          <p:nvSpPr>
            <p:cNvPr id="273" name=""/>
            <p:cNvSpPr/>
            <p:nvPr/>
          </p:nvSpPr>
          <p:spPr>
            <a:xfrm>
              <a:off x="2562120" y="1084320"/>
              <a:ext cx="3856320" cy="3335040"/>
            </a:xfrm>
            <a:prstGeom prst="triangle">
              <a:avLst>
                <a:gd name="adj" fmla="val 50000"/>
              </a:avLst>
            </a:prstGeom>
            <a:noFill/>
            <a:ln w="38160">
              <a:solidFill>
                <a:srgbClr val="3a0e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446640" y="2337120"/>
              <a:ext cx="2087280" cy="168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Value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Uncompromising</a:t>
              </a:r>
              <a:br>
                <a:rPr sz="2000"/>
              </a:br>
              <a:r>
                <a:rPr b="1" lang="en-US" sz="36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Integrity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543480" y="3038400"/>
              <a:ext cx="1892160" cy="0"/>
            </a:xfrm>
            <a:prstGeom prst="line">
              <a:avLst/>
            </a:prstGeom>
            <a:ln w="19080">
              <a:solidFill>
                <a:srgbClr val="3a0e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8000000">
              <a:off x="1663560" y="2280240"/>
              <a:ext cx="331488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Passion &amp; Professionalis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3600000">
              <a:off x="3983040" y="2270520"/>
              <a:ext cx="331452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Caring &amp; Contribu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833560" y="4255200"/>
              <a:ext cx="331488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Execution &amp; Excellen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9" name=""/>
          <p:cNvSpPr/>
          <p:nvPr/>
        </p:nvSpPr>
        <p:spPr>
          <a:xfrm>
            <a:off x="2919240" y="4951440"/>
            <a:ext cx="3499200" cy="194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79280" indent="-17784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Maximizing customer satisf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Model corporate citizensh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Protecting and preserving the n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Conserving energy &amp; resource recyc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Caring for employe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Cultivating human tal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68440" y="1647720"/>
            <a:ext cx="2465280" cy="17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79280" indent="-17784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Taking ownership of dut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Team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Discip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Fulfilling commit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Truth seek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Persever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72280" y="1647720"/>
            <a:ext cx="2485800" cy="21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79280" indent="-17784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Innov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Self-improv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Continuous improv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Efficient time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Quality fir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Upgrading quality of lif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500"/>
                            </p:stCondLst>
                            <p:childTnLst>
                              <p:par>
                                <p:cTn id="7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"/>
                            </p:stCondLst>
                            <p:childTnLst>
                              <p:par>
                                <p:cTn id="7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193680" y="51120"/>
            <a:ext cx="876600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  <a:ea typeface="文鼎中黑"/>
              </a:rPr>
              <a:t>… </a:t>
            </a:r>
            <a:r>
              <a:rPr b="1" lang="en-US" sz="2800" spc="-1" strike="noStrike">
                <a:solidFill>
                  <a:srgbClr val="3a0e66"/>
                </a:solidFill>
                <a:latin typeface="Minion"/>
                <a:ea typeface="文鼎中黑"/>
              </a:rPr>
              <a:t>and spirits for a challenging business </a:t>
            </a:r>
            <a:br>
              <a:rPr sz="2800"/>
            </a:br>
            <a:r>
              <a:rPr b="1" lang="en-US" sz="2800" spc="-1" strike="noStrike">
                <a:solidFill>
                  <a:srgbClr val="3a0e66"/>
                </a:solidFill>
                <a:latin typeface="Minion"/>
                <a:ea typeface="文鼎中黑"/>
              </a:rPr>
              <a:t>environ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1"/>
          <a:stretch/>
        </p:blipFill>
        <p:spPr>
          <a:xfrm>
            <a:off x="777960" y="2508120"/>
            <a:ext cx="2490840" cy="88128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2"/>
          <a:stretch/>
        </p:blipFill>
        <p:spPr>
          <a:xfrm>
            <a:off x="4734000" y="2573280"/>
            <a:ext cx="2490840" cy="881280"/>
          </a:xfrm>
          <a:prstGeom prst="rect">
            <a:avLst/>
          </a:prstGeom>
          <a:ln w="0">
            <a:noFill/>
          </a:ln>
        </p:spPr>
      </p:pic>
      <p:pic>
        <p:nvPicPr>
          <p:cNvPr id="285" name="" descr=""/>
          <p:cNvPicPr/>
          <p:nvPr/>
        </p:nvPicPr>
        <p:blipFill>
          <a:blip r:embed="rId3"/>
          <a:stretch/>
        </p:blipFill>
        <p:spPr>
          <a:xfrm>
            <a:off x="843120" y="3938760"/>
            <a:ext cx="3289320" cy="880920"/>
          </a:xfrm>
          <a:prstGeom prst="rect">
            <a:avLst/>
          </a:prstGeom>
          <a:ln w="0">
            <a:noFill/>
          </a:ln>
        </p:spPr>
      </p:pic>
      <p:pic>
        <p:nvPicPr>
          <p:cNvPr id="286" name="" descr=""/>
          <p:cNvPicPr/>
          <p:nvPr/>
        </p:nvPicPr>
        <p:blipFill>
          <a:blip r:embed="rId4"/>
          <a:stretch/>
        </p:blipFill>
        <p:spPr>
          <a:xfrm>
            <a:off x="4734000" y="3903840"/>
            <a:ext cx="2754360" cy="880920"/>
          </a:xfrm>
          <a:prstGeom prst="rect">
            <a:avLst/>
          </a:prstGeom>
          <a:ln w="0">
            <a:noFill/>
          </a:ln>
        </p:spPr>
      </p:pic>
      <p:sp>
        <p:nvSpPr>
          <p:cNvPr id="287" name=""/>
          <p:cNvSpPr/>
          <p:nvPr/>
        </p:nvSpPr>
        <p:spPr>
          <a:xfrm>
            <a:off x="405360" y="1558800"/>
            <a:ext cx="4656600" cy="4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7760" rIns="77760" tIns="38880" bIns="38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Minion"/>
              </a:rPr>
              <a:t>Behaviors / Actions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7443720" y="236520"/>
            <a:ext cx="1424160" cy="341280"/>
          </a:xfrm>
          <a:prstGeom prst="rect">
            <a:avLst/>
          </a:prstGeom>
          <a:solidFill>
            <a:srgbClr val="3a0e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ctr" anchorCtr="1">
            <a:normAutofit fontScale="87000"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Minion"/>
                <a:ea typeface="文鼎中黑"/>
              </a:rPr>
              <a:t>Our Values and Spir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3262320" y="1073160"/>
            <a:ext cx="2563920" cy="10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Minion"/>
              </a:rPr>
              <a:t>Intrapreneurship</a:t>
            </a:r>
            <a:br>
              <a:rPr sz="2400"/>
            </a:b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manag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2918880" y="1780560"/>
            <a:ext cx="4877280" cy="3643200"/>
            <a:chOff x="2918880" y="1780560"/>
            <a:chExt cx="4877280" cy="3643200"/>
          </a:xfrm>
        </p:grpSpPr>
        <p:sp>
          <p:nvSpPr>
            <p:cNvPr id="291" name=""/>
            <p:cNvSpPr/>
            <p:nvPr/>
          </p:nvSpPr>
          <p:spPr>
            <a:xfrm>
              <a:off x="5214960" y="2114640"/>
              <a:ext cx="2581200" cy="69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a0e66"/>
                  </a:solidFill>
                  <a:latin typeface="Minion"/>
                </a:rPr>
                <a:t> </a:t>
              </a:r>
              <a:r>
                <a:rPr b="1" lang="en-US" sz="2400" spc="-1" strike="noStrike">
                  <a:solidFill>
                    <a:srgbClr val="3a0e66"/>
                  </a:solidFill>
                  <a:latin typeface="Minion"/>
                </a:rPr>
                <a:t>Judgment</a:t>
              </a:r>
              <a:r>
                <a:rPr b="0" lang="en-US" sz="2000" spc="-1" strike="noStrike">
                  <a:solidFill>
                    <a:srgbClr val="3a0e66"/>
                  </a:solidFill>
                  <a:latin typeface="Minion"/>
                </a:rPr>
                <a:t> </a:t>
              </a:r>
              <a:br>
                <a:rPr sz="2000"/>
              </a:br>
              <a:r>
                <a:rPr b="0" lang="en-US" sz="2000" spc="-1" strike="noStrike">
                  <a:solidFill>
                    <a:srgbClr val="3a0e66"/>
                  </a:solidFill>
                  <a:latin typeface="Minion"/>
                </a:rPr>
                <a:t>with logi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918880" y="1780560"/>
              <a:ext cx="3443040" cy="3643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44" y="409"/>
                  </a:moveTo>
                  <a:arcTo wR="10800" hR="10800" stAng="-4450963" swAng="1597982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44" y="409"/>
                  </a:moveTo>
                  <a:arcTo wR="10800" hR="10800" stAng="-4450963" swAng="1597982"/>
                </a:path>
              </a:pathLst>
            </a:custGeom>
            <a:noFill/>
            <a:ln cap="rnd" w="57240">
              <a:solidFill>
                <a:srgbClr val="85372e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3" name=""/>
          <p:cNvGrpSpPr/>
          <p:nvPr/>
        </p:nvGrpSpPr>
        <p:grpSpPr>
          <a:xfrm>
            <a:off x="2951280" y="1769400"/>
            <a:ext cx="5254560" cy="3642480"/>
            <a:chOff x="2951280" y="1769400"/>
            <a:chExt cx="5254560" cy="3642480"/>
          </a:xfrm>
        </p:grpSpPr>
        <p:sp>
          <p:nvSpPr>
            <p:cNvPr id="294" name=""/>
            <p:cNvSpPr/>
            <p:nvPr/>
          </p:nvSpPr>
          <p:spPr>
            <a:xfrm>
              <a:off x="5780160" y="3863880"/>
              <a:ext cx="2425680" cy="66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a0e66"/>
                  </a:solidFill>
                  <a:latin typeface="Minion"/>
                </a:rPr>
                <a:t>Seek success</a:t>
              </a:r>
              <a:br>
                <a:rPr sz="2400"/>
              </a:br>
              <a:r>
                <a:rPr b="0" lang="en-US" sz="1800" spc="-1" strike="noStrike">
                  <a:solidFill>
                    <a:srgbClr val="3a0e66"/>
                  </a:solidFill>
                  <a:latin typeface="Minion"/>
                </a:rPr>
                <a:t>with managed risk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951280" y="1769400"/>
              <a:ext cx="3441240" cy="3642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731" y="6557"/>
                  </a:moveTo>
                  <a:arcTo wR="10800" hR="10800" stAng="-1388128" swAng="1848069"/>
                  <a:lnTo>
                    <a:pt x="10800" y="10800"/>
                  </a:lnTo>
                  <a:close/>
                </a:path>
                <a:path fill="none" w="21600" h="21600">
                  <a:moveTo>
                    <a:pt x="20731" y="6557"/>
                  </a:moveTo>
                  <a:arcTo wR="10800" hR="10800" stAng="-1388128" swAng="1848069"/>
                </a:path>
              </a:pathLst>
            </a:custGeom>
            <a:noFill/>
            <a:ln cap="rnd" w="57240">
              <a:solidFill>
                <a:srgbClr val="85372e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2931120" y="1792800"/>
            <a:ext cx="3437280" cy="4679280"/>
            <a:chOff x="2931120" y="1792800"/>
            <a:chExt cx="3437280" cy="4679280"/>
          </a:xfrm>
        </p:grpSpPr>
        <p:sp>
          <p:nvSpPr>
            <p:cNvPr id="297" name=""/>
            <p:cNvSpPr/>
            <p:nvPr/>
          </p:nvSpPr>
          <p:spPr>
            <a:xfrm>
              <a:off x="3224160" y="5478480"/>
              <a:ext cx="2990880" cy="99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a0e66"/>
                  </a:solidFill>
                  <a:latin typeface="Minion"/>
                </a:rPr>
                <a:t>Perpetual improvem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a0e66"/>
                  </a:solidFill>
                  <a:latin typeface="Minion"/>
                </a:rPr>
                <a:t>with a sound bas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931120" y="1792800"/>
              <a:ext cx="3437280" cy="3643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067" y="16346"/>
                  </a:moveTo>
                  <a:arcTo wR="10800" hR="10800" stAng="1854026" swAng="2200915"/>
                  <a:lnTo>
                    <a:pt x="10800" y="10800"/>
                  </a:lnTo>
                  <a:close/>
                </a:path>
                <a:path fill="none" w="21600" h="21600">
                  <a:moveTo>
                    <a:pt x="20067" y="16346"/>
                  </a:moveTo>
                  <a:arcTo wR="10800" hR="10800" stAng="1854026" swAng="2200915"/>
                </a:path>
              </a:pathLst>
            </a:custGeom>
            <a:noFill/>
            <a:ln cap="rnd" w="57240">
              <a:solidFill>
                <a:srgbClr val="85372e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9" name=""/>
          <p:cNvGrpSpPr/>
          <p:nvPr/>
        </p:nvGrpSpPr>
        <p:grpSpPr>
          <a:xfrm>
            <a:off x="849240" y="1807920"/>
            <a:ext cx="5953680" cy="3642120"/>
            <a:chOff x="849240" y="1807920"/>
            <a:chExt cx="5953680" cy="3642120"/>
          </a:xfrm>
        </p:grpSpPr>
        <p:sp>
          <p:nvSpPr>
            <p:cNvPr id="300" name=""/>
            <p:cNvSpPr/>
            <p:nvPr/>
          </p:nvSpPr>
          <p:spPr>
            <a:xfrm>
              <a:off x="849240" y="4116240"/>
              <a:ext cx="2566080" cy="102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a0e66"/>
                  </a:solidFill>
                  <a:latin typeface="Minion"/>
                </a:rPr>
                <a:t>Multi-functionalists</a:t>
              </a:r>
              <a:br>
                <a:rPr sz="2000"/>
              </a:br>
              <a:r>
                <a:rPr b="0" lang="en-US" sz="2000" spc="-1" strike="noStrike">
                  <a:solidFill>
                    <a:srgbClr val="3a0e66"/>
                  </a:solidFill>
                  <a:latin typeface="Minion"/>
                </a:rPr>
                <a:t>with specialis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33320" y="1807920"/>
              <a:ext cx="4269600" cy="3642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7510" y="21087"/>
                  </a:moveTo>
                  <a:arcTo wR="10800" hR="10800" stAng="6464106" swAng="1793168"/>
                  <a:lnTo>
                    <a:pt x="10800" y="10800"/>
                  </a:lnTo>
                  <a:close/>
                </a:path>
                <a:path fill="none" w="21600" h="21600">
                  <a:moveTo>
                    <a:pt x="7510" y="21087"/>
                  </a:moveTo>
                  <a:arcTo wR="10800" hR="10800" stAng="6464106" swAng="1793168"/>
                </a:path>
              </a:pathLst>
            </a:custGeom>
            <a:noFill/>
            <a:ln cap="rnd" w="57240">
              <a:solidFill>
                <a:srgbClr val="85372e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2" name=""/>
          <p:cNvGrpSpPr/>
          <p:nvPr/>
        </p:nvGrpSpPr>
        <p:grpSpPr>
          <a:xfrm>
            <a:off x="927000" y="1698480"/>
            <a:ext cx="5298840" cy="3751200"/>
            <a:chOff x="927000" y="1698480"/>
            <a:chExt cx="5298840" cy="3751200"/>
          </a:xfrm>
        </p:grpSpPr>
        <p:sp>
          <p:nvSpPr>
            <p:cNvPr id="303" name=""/>
            <p:cNvSpPr/>
            <p:nvPr/>
          </p:nvSpPr>
          <p:spPr>
            <a:xfrm>
              <a:off x="2765520" y="1805040"/>
              <a:ext cx="3434760" cy="3644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89" y="13284"/>
                  </a:moveTo>
                  <a:arcTo wR="10800" hR="10800" stAng="10002241" swAng="18153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89" y="13284"/>
                  </a:moveTo>
                  <a:arcTo wR="10800" hR="10800" stAng="10002241" swAng="1815300"/>
                </a:path>
              </a:pathLst>
            </a:custGeom>
            <a:noFill/>
            <a:ln cap="rnd" w="57240">
              <a:solidFill>
                <a:srgbClr val="85372e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927000" y="2319480"/>
              <a:ext cx="2738520" cy="69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Ownership</a:t>
              </a:r>
              <a:br>
                <a:rPr sz="2400"/>
              </a:br>
              <a:r>
                <a:rPr b="0" lang="en-US" sz="20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 with engagemen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797200" y="1698480"/>
              <a:ext cx="3428640" cy="3645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661" y="3701"/>
                  </a:moveTo>
                  <a:arcTo wR="10800" hR="10800" stAng="-8334094" swAng="1744698"/>
                  <a:lnTo>
                    <a:pt x="10800" y="10800"/>
                  </a:lnTo>
                  <a:close/>
                </a:path>
                <a:path fill="none" w="21600" h="21600">
                  <a:moveTo>
                    <a:pt x="2661" y="3701"/>
                  </a:moveTo>
                  <a:arcTo wR="10800" hR="10800" stAng="-8334094" swAng="1744698"/>
                </a:path>
              </a:pathLst>
            </a:custGeom>
            <a:noFill/>
            <a:ln cap="rnd" w="57240">
              <a:solidFill>
                <a:srgbClr val="85372e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6" name=""/>
          <p:cNvSpPr/>
          <p:nvPr/>
        </p:nvSpPr>
        <p:spPr>
          <a:xfrm>
            <a:off x="3289320" y="2460600"/>
            <a:ext cx="2625840" cy="27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Right tim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</a:rPr>
              <a:t>Right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a0e66"/>
                </a:solidFill>
                <a:latin typeface="Minion"/>
              </a:rPr>
              <a:t>Best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a0e66"/>
                </a:solidFill>
                <a:latin typeface="Minion"/>
              </a:rPr>
              <a:t>Cost conscious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a0e66"/>
                </a:solidFill>
                <a:latin typeface="Minion"/>
              </a:rPr>
              <a:t>My business</a:t>
            </a:r>
            <a:br>
              <a:rPr sz="2400"/>
            </a:br>
            <a:r>
              <a:rPr b="0" lang="de-DE" sz="2400" spc="-1" strike="noStrike">
                <a:solidFill>
                  <a:srgbClr val="3a0e66"/>
                </a:solidFill>
                <a:latin typeface="Minion"/>
              </a:rPr>
              <a:t>...</a:t>
            </a:r>
            <a:r>
              <a:rPr b="0" lang="de-DE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79280" y="-163800"/>
            <a:ext cx="8312400" cy="128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We strive towards a Winning Culture combining </a:t>
            </a:r>
            <a:br>
              <a:rPr sz="2800"/>
            </a:b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the best of both worlds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08" name=""/>
          <p:cNvSpPr/>
          <p:nvPr/>
        </p:nvSpPr>
        <p:spPr>
          <a:xfrm>
            <a:off x="7443720" y="236520"/>
            <a:ext cx="1424160" cy="341280"/>
          </a:xfrm>
          <a:prstGeom prst="rect">
            <a:avLst/>
          </a:prstGeom>
          <a:solidFill>
            <a:srgbClr val="3a0e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ctr" anchorCtr="1">
            <a:norm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Minion"/>
                <a:ea typeface="文鼎中黑"/>
              </a:rPr>
              <a:t>Winning Cul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500"/>
                            </p:stCondLst>
                            <p:childTnLst>
                              <p:par>
                                <p:cTn id="9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500"/>
                            </p:stCondLst>
                            <p:childTnLst>
                              <p:par>
                                <p:cTn id="10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500"/>
                            </p:stCondLst>
                            <p:childTnLst>
                              <p:par>
                                <p:cTn id="11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3000"/>
                            </p:stCondLst>
                            <p:childTnLst>
                              <p:par>
                                <p:cTn id="11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1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" descr=""/>
          <p:cNvPicPr/>
          <p:nvPr/>
        </p:nvPicPr>
        <p:blipFill>
          <a:blip r:embed="rId1"/>
          <a:stretch/>
        </p:blipFill>
        <p:spPr>
          <a:xfrm>
            <a:off x="128520" y="1203480"/>
            <a:ext cx="6215040" cy="4421160"/>
          </a:xfrm>
          <a:prstGeom prst="rect">
            <a:avLst/>
          </a:prstGeom>
          <a:ln w="0">
            <a:noFill/>
          </a:ln>
        </p:spPr>
      </p:pic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78920" y="262080"/>
            <a:ext cx="845676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Let’s apply BED 2 BED and …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11" name=""/>
          <p:cNvSpPr/>
          <p:nvPr/>
        </p:nvSpPr>
        <p:spPr>
          <a:xfrm>
            <a:off x="2119320" y="5813280"/>
            <a:ext cx="494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  <a:ea typeface="文鼎中黑"/>
              </a:rPr>
              <a:t>… </a:t>
            </a:r>
            <a:r>
              <a:rPr b="1" lang="en-US" sz="2800" spc="-1" strike="noStrike">
                <a:solidFill>
                  <a:srgbClr val="3a0e66"/>
                </a:solidFill>
                <a:latin typeface="Minion"/>
                <a:ea typeface="文鼎中黑"/>
              </a:rPr>
              <a:t>let's enterprise, again 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781280"/>
            <a:ext cx="3457440" cy="954000"/>
          </a:xfrm>
          <a:prstGeom prst="rect">
            <a:avLst/>
          </a:prstGeom>
          <a:solidFill>
            <a:srgbClr val="3a0e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Minion"/>
                <a:ea typeface="文鼎中黑"/>
              </a:rPr>
              <a:t>Back 2 Basic</a:t>
            </a:r>
            <a:r>
              <a:rPr b="0" lang="en-US" sz="1800" spc="-1" strike="noStrike">
                <a:solidFill>
                  <a:srgbClr val="ffffff"/>
                </a:solidFill>
                <a:latin typeface="Minion"/>
                <a:ea typeface="文鼎中黑"/>
              </a:rPr>
              <a:t> – have a keen eye on what's relevant and don't waste time for triv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486400" y="2905200"/>
            <a:ext cx="3457440" cy="954000"/>
          </a:xfrm>
          <a:prstGeom prst="rect">
            <a:avLst/>
          </a:prstGeom>
          <a:solidFill>
            <a:srgbClr val="3a0e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 fontScale="94000"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Minion"/>
                <a:ea typeface="文鼎中黑"/>
              </a:rPr>
              <a:t>Execute 2 Excellence</a:t>
            </a:r>
            <a:r>
              <a:rPr b="0" lang="en-US" sz="1800" spc="-1" strike="noStrike">
                <a:solidFill>
                  <a:srgbClr val="ffffff"/>
                </a:solidFill>
                <a:latin typeface="Minion"/>
                <a:ea typeface="文鼎中黑"/>
              </a:rPr>
              <a:t> – improve your skills and talents and always act together as a te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486400" y="4052880"/>
            <a:ext cx="3457440" cy="954000"/>
          </a:xfrm>
          <a:prstGeom prst="rect">
            <a:avLst/>
          </a:prstGeom>
          <a:solidFill>
            <a:srgbClr val="3a0e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Minion"/>
                <a:ea typeface="文鼎中黑"/>
              </a:rPr>
              <a:t>Down 2 Details</a:t>
            </a:r>
            <a:r>
              <a:rPr b="0" lang="en-US" sz="1800" spc="-1" strike="noStrike">
                <a:solidFill>
                  <a:srgbClr val="ffffff"/>
                </a:solidFill>
                <a:latin typeface="Minion"/>
                <a:ea typeface="文鼎中黑"/>
              </a:rPr>
              <a:t> – discuss the details to avoid unnecessary 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7443720" y="236520"/>
            <a:ext cx="1424160" cy="341280"/>
          </a:xfrm>
          <a:prstGeom prst="rect">
            <a:avLst/>
          </a:prstGeom>
          <a:solidFill>
            <a:srgbClr val="3a0e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ctr" anchorCtr="1">
            <a:norm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Minion"/>
                <a:ea typeface="文鼎中黑"/>
              </a:rPr>
              <a:t>Winning Cul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413480" y="244440"/>
            <a:ext cx="1452600" cy="800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74400" y="2149560"/>
            <a:ext cx="279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Minion"/>
              </a:rPr>
              <a:t>Keep explor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270160" y="5784840"/>
            <a:ext cx="451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Minion"/>
              </a:rPr>
              <a:t>www.BenQ-Siemens.c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1"/>
          <a:srcRect l="18524" t="0" r="0" b="0"/>
          <a:stretch/>
        </p:blipFill>
        <p:spPr>
          <a:xfrm>
            <a:off x="1681200" y="2824200"/>
            <a:ext cx="6111720" cy="12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14200" y="260280"/>
            <a:ext cx="862344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Overview of elements to communicate regularly 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2" name="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385920" y="993600"/>
            <a:ext cx="8418240" cy="3218760"/>
            <a:chOff x="385920" y="993600"/>
            <a:chExt cx="8418240" cy="3218760"/>
          </a:xfrm>
        </p:grpSpPr>
        <p:sp>
          <p:nvSpPr>
            <p:cNvPr id="54" name=""/>
            <p:cNvSpPr/>
            <p:nvPr/>
          </p:nvSpPr>
          <p:spPr>
            <a:xfrm>
              <a:off x="2544840" y="1056960"/>
              <a:ext cx="6259320" cy="31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lvl="1" marL="179280" indent="-177840">
                <a:lnSpc>
                  <a:spcPct val="100000"/>
                </a:lnSpc>
                <a:spcAft>
                  <a:spcPts val="451"/>
                </a:spcAft>
                <a:buClr>
                  <a:srgbClr val="3a0e66"/>
                </a:buClr>
                <a:buFont typeface="Minion"/>
                <a:buChar char="•"/>
                <a:tabLst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2400" spc="-1" strike="noStrike">
                  <a:solidFill>
                    <a:srgbClr val="3a0e66"/>
                  </a:solidFill>
                  <a:latin typeface="Minion"/>
                  <a:ea typeface="新細明體"/>
                </a:rPr>
                <a:t>BenQ Mobile has formulated a clear </a:t>
              </a:r>
              <a:r>
                <a:rPr b="0" lang="en-US" sz="2400" spc="-1" strike="noStrike">
                  <a:solidFill>
                    <a:srgbClr val="ff0000"/>
                  </a:solidFill>
                  <a:latin typeface="Minion"/>
                  <a:ea typeface="新細明體"/>
                </a:rPr>
                <a:t>vis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79280" indent="-177840">
                <a:lnSpc>
                  <a:spcPct val="100000"/>
                </a:lnSpc>
                <a:spcAft>
                  <a:spcPts val="451"/>
                </a:spcAft>
                <a:buClr>
                  <a:srgbClr val="3a0e66"/>
                </a:buClr>
                <a:buFont typeface="Minion"/>
                <a:buChar char="•"/>
                <a:tabLst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2400" spc="-1" strike="noStrike">
                  <a:solidFill>
                    <a:srgbClr val="3a0e66"/>
                  </a:solidFill>
                  <a:latin typeface="Minion"/>
                  <a:ea typeface="新細明體"/>
                </a:rPr>
                <a:t>This vision is expressed by our </a:t>
              </a:r>
              <a:r>
                <a:rPr b="0" lang="en-US" sz="2400" spc="-1" strike="noStrike">
                  <a:solidFill>
                    <a:srgbClr val="ff0000"/>
                  </a:solidFill>
                  <a:latin typeface="Minion"/>
                  <a:ea typeface="新細明體"/>
                </a:rPr>
                <a:t>bran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79280" indent="-177840">
                <a:lnSpc>
                  <a:spcPct val="100000"/>
                </a:lnSpc>
                <a:spcAft>
                  <a:spcPts val="451"/>
                </a:spcAft>
                <a:buClr>
                  <a:srgbClr val="3a0e66"/>
                </a:buClr>
                <a:buFont typeface="Minion"/>
                <a:buChar char="•"/>
                <a:tabLst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2400" spc="-1" strike="noStrike">
                  <a:solidFill>
                    <a:srgbClr val="3a0e66"/>
                  </a:solidFill>
                  <a:latin typeface="Minion"/>
                  <a:ea typeface="新細明體"/>
                </a:rPr>
                <a:t>A </a:t>
              </a:r>
              <a:r>
                <a:rPr b="0" lang="en-US" sz="2400" spc="-1" strike="noStrike">
                  <a:solidFill>
                    <a:srgbClr val="ff0000"/>
                  </a:solidFill>
                  <a:latin typeface="Minion"/>
                  <a:ea typeface="新細明體"/>
                </a:rPr>
                <a:t>ten point master plan</a:t>
              </a:r>
              <a:r>
                <a:rPr b="0" lang="en-US" sz="2400" spc="-1" strike="noStrike">
                  <a:solidFill>
                    <a:srgbClr val="3a0e66"/>
                  </a:solidFill>
                  <a:latin typeface="Minion"/>
                  <a:ea typeface="新細明體"/>
                </a:rPr>
                <a:t> sets the cornerston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79280" indent="-177840">
                <a:lnSpc>
                  <a:spcPct val="100000"/>
                </a:lnSpc>
                <a:spcAft>
                  <a:spcPts val="451"/>
                </a:spcAft>
                <a:buClr>
                  <a:srgbClr val="3a0e66"/>
                </a:buClr>
                <a:buFont typeface="Minion"/>
                <a:buChar char="•"/>
                <a:tabLst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2400" spc="-1" strike="noStrike">
                  <a:solidFill>
                    <a:srgbClr val="3a0e66"/>
                  </a:solidFill>
                  <a:latin typeface="Minion"/>
                  <a:ea typeface="新細明體"/>
                </a:rPr>
                <a:t>Our </a:t>
              </a:r>
              <a:r>
                <a:rPr b="0" lang="en-US" sz="2400" spc="-1" strike="noStrike">
                  <a:solidFill>
                    <a:srgbClr val="ff0000"/>
                  </a:solidFill>
                  <a:latin typeface="Minion"/>
                  <a:ea typeface="新細明體"/>
                </a:rPr>
                <a:t>formula of competitiveness</a:t>
              </a:r>
              <a:r>
                <a:rPr b="0" lang="en-US" sz="2400" spc="-1" strike="noStrike">
                  <a:solidFill>
                    <a:srgbClr val="3a0e66"/>
                  </a:solidFill>
                  <a:latin typeface="Minion"/>
                  <a:ea typeface="新細明體"/>
                </a:rPr>
                <a:t> sets the prioriti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79280" indent="-177840">
                <a:lnSpc>
                  <a:spcPct val="100000"/>
                </a:lnSpc>
                <a:spcAft>
                  <a:spcPts val="451"/>
                </a:spcAft>
                <a:buClr>
                  <a:srgbClr val="3a0e66"/>
                </a:buClr>
                <a:buFont typeface="Minion"/>
                <a:buChar char="•"/>
                <a:tabLst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2400" spc="-1" strike="noStrike">
                  <a:solidFill>
                    <a:srgbClr val="3a0e66"/>
                  </a:solidFill>
                  <a:latin typeface="Minion"/>
                  <a:ea typeface="新細明體"/>
                </a:rPr>
                <a:t>With </a:t>
              </a:r>
              <a:r>
                <a:rPr b="0" lang="en-US" sz="2400" spc="-1" strike="noStrike">
                  <a:solidFill>
                    <a:srgbClr val="ff0000"/>
                  </a:solidFill>
                  <a:latin typeface="Minion"/>
                  <a:ea typeface="新細明體"/>
                </a:rPr>
                <a:t>ten key initiatives</a:t>
              </a:r>
              <a:r>
                <a:rPr b="0" lang="en-US" sz="2400" spc="-1" strike="noStrike">
                  <a:solidFill>
                    <a:srgbClr val="3a0e66"/>
                  </a:solidFill>
                  <a:latin typeface="Minion"/>
                  <a:ea typeface="新細明體"/>
                </a:rPr>
                <a:t> driving the turnaroun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85920" y="993600"/>
              <a:ext cx="2016000" cy="2174760"/>
            </a:xfrm>
            <a:custGeom>
              <a:avLst/>
              <a:gdLst>
                <a:gd name="textAreaLeft" fmla="*/ 0 w 2016000"/>
                <a:gd name="textAreaRight" fmla="*/ 2016360 w 2016000"/>
                <a:gd name="textAreaTop" fmla="*/ 0 h 2174760"/>
                <a:gd name="textAreaBottom" fmla="*/ 2175120 h 2174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a6a0c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Direc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385920" y="5924520"/>
            <a:ext cx="86230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Minion"/>
                <a:ea typeface="文鼎中黑"/>
              </a:rPr>
              <a:t>Let’s enterprise, again !</a:t>
            </a:r>
            <a:r>
              <a:rPr b="1" lang="en-US" sz="2800" spc="-1" strike="noStrike">
                <a:solidFill>
                  <a:srgbClr val="3a0e66"/>
                </a:solidFill>
                <a:latin typeface="Minion"/>
                <a:ea typeface="文鼎中黑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385920" y="3382920"/>
            <a:ext cx="8418240" cy="2130480"/>
            <a:chOff x="385920" y="3382920"/>
            <a:chExt cx="8418240" cy="2130480"/>
          </a:xfrm>
        </p:grpSpPr>
        <p:sp>
          <p:nvSpPr>
            <p:cNvPr id="58" name=""/>
            <p:cNvSpPr/>
            <p:nvPr/>
          </p:nvSpPr>
          <p:spPr>
            <a:xfrm>
              <a:off x="2544840" y="3681360"/>
              <a:ext cx="6259320" cy="152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lvl="1" marL="179280" indent="-177840">
                <a:lnSpc>
                  <a:spcPct val="100000"/>
                </a:lnSpc>
                <a:spcAft>
                  <a:spcPts val="451"/>
                </a:spcAft>
                <a:buClr>
                  <a:srgbClr val="3a0e66"/>
                </a:buClr>
                <a:buFont typeface="Minion"/>
                <a:buChar char="•"/>
                <a:tabLst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2400" spc="-1" strike="noStrike">
                  <a:solidFill>
                    <a:srgbClr val="3a0e66"/>
                  </a:solidFill>
                  <a:latin typeface="Minion"/>
                  <a:ea typeface="新細明體"/>
                </a:rPr>
                <a:t>Our behavior is guided by common </a:t>
              </a:r>
              <a:r>
                <a:rPr b="0" lang="en-US" sz="2400" spc="-1" strike="noStrike">
                  <a:solidFill>
                    <a:srgbClr val="ff0000"/>
                  </a:solidFill>
                  <a:latin typeface="Minion"/>
                  <a:ea typeface="新細明體"/>
                </a:rPr>
                <a:t>values</a:t>
              </a:r>
              <a:r>
                <a:rPr b="0" lang="en-US" sz="2400" spc="-1" strike="noStrike">
                  <a:solidFill>
                    <a:srgbClr val="3a0e66"/>
                  </a:solidFill>
                  <a:latin typeface="Minion"/>
                  <a:ea typeface="新細明體"/>
                </a:rPr>
                <a:t> and </a:t>
              </a:r>
              <a:r>
                <a:rPr b="0" lang="en-US" sz="2400" spc="-1" strike="noStrike">
                  <a:solidFill>
                    <a:srgbClr val="ff0000"/>
                  </a:solidFill>
                  <a:latin typeface="Minion"/>
                  <a:ea typeface="新細明體"/>
                </a:rPr>
                <a:t>spirits</a:t>
              </a:r>
              <a:r>
                <a:rPr b="0" lang="en-US" sz="2400" spc="-1" strike="noStrike">
                  <a:solidFill>
                    <a:srgbClr val="3a0e66"/>
                  </a:solidFill>
                  <a:latin typeface="Minion"/>
                  <a:ea typeface="新細明體"/>
                </a:rPr>
                <a:t>, and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79280" indent="-177840">
                <a:lnSpc>
                  <a:spcPct val="100000"/>
                </a:lnSpc>
                <a:spcAft>
                  <a:spcPts val="451"/>
                </a:spcAft>
                <a:buClr>
                  <a:srgbClr val="3a0e66"/>
                </a:buClr>
                <a:buFont typeface="Minion"/>
                <a:buChar char="•"/>
                <a:tabLst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2400" spc="-1" strike="noStrike">
                  <a:solidFill>
                    <a:srgbClr val="3a0e66"/>
                  </a:solidFill>
                  <a:latin typeface="Minion"/>
                  <a:ea typeface="新細明體"/>
                </a:rPr>
                <a:t>We strive towards a </a:t>
              </a:r>
              <a:r>
                <a:rPr b="0" lang="en-US" sz="2400" spc="-1" strike="noStrike">
                  <a:solidFill>
                    <a:srgbClr val="ff0000"/>
                  </a:solidFill>
                  <a:latin typeface="Minion"/>
                  <a:ea typeface="新細明體"/>
                </a:rPr>
                <a:t>Winning Culture</a:t>
              </a:r>
              <a:r>
                <a:rPr b="0" lang="en-US" sz="2400" spc="-1" strike="noStrike">
                  <a:solidFill>
                    <a:srgbClr val="3a0e66"/>
                  </a:solidFill>
                  <a:latin typeface="Minion"/>
                  <a:ea typeface="新細明體"/>
                </a:rPr>
                <a:t> combining the best of both world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85920" y="3382920"/>
              <a:ext cx="2016000" cy="2130480"/>
            </a:xfrm>
            <a:custGeom>
              <a:avLst/>
              <a:gdLst>
                <a:gd name="textAreaLeft" fmla="*/ 0 w 2016000"/>
                <a:gd name="textAreaRight" fmla="*/ 2016360 w 2016000"/>
                <a:gd name="textAreaTop" fmla="*/ 0 h 2130480"/>
                <a:gd name="textAreaBottom" fmla="*/ 2130840 h 2130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a6a0c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Behavio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380880" y="2346480"/>
            <a:ext cx="8305920" cy="17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3a0e66"/>
                </a:solidFill>
                <a:latin typeface="Minion"/>
              </a:rPr>
              <a:t>Leading the Way to a New Mobile Lifestyle:</a:t>
            </a:r>
            <a:endParaRPr b="0" lang="en-US" sz="3600" spc="-1" strike="noStrike">
              <a:solidFill>
                <a:srgbClr val="3a0e66"/>
              </a:solidFill>
              <a:latin typeface="Minio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3a0e66"/>
                </a:solidFill>
                <a:latin typeface="Minion"/>
              </a:rPr>
              <a:t>Keep Exploring.</a:t>
            </a:r>
            <a:endParaRPr b="0" lang="en-US" sz="36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BenQ Mobile has formulated a clear vision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2" name=""/>
          <p:cNvSpPr/>
          <p:nvPr/>
        </p:nvSpPr>
        <p:spPr>
          <a:xfrm>
            <a:off x="7443720" y="236520"/>
            <a:ext cx="1424160" cy="341280"/>
          </a:xfrm>
          <a:prstGeom prst="rect">
            <a:avLst/>
          </a:prstGeom>
          <a:solidFill>
            <a:srgbClr val="3a0e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ctr" anchorCtr="1">
            <a:norm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Minion"/>
                <a:ea typeface="文鼎中黑"/>
              </a:rPr>
              <a:t>Our V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The vision is expressed by our brand positioning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4" name=""/>
          <p:cNvSpPr/>
          <p:nvPr/>
        </p:nvSpPr>
        <p:spPr>
          <a:xfrm>
            <a:off x="584280" y="1614600"/>
            <a:ext cx="7645320" cy="38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349200" indent="-347760">
              <a:lnSpc>
                <a:spcPct val="100000"/>
              </a:lnSpc>
              <a:spcBef>
                <a:spcPts val="601"/>
              </a:spcBef>
              <a:buClr>
                <a:srgbClr val="3a0e66"/>
              </a:buClr>
              <a:buFont typeface="Wingdings" charset="2"/>
              <a:buChar char="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BenQ-Siemens is a fusion of engineering competence with consumer lifestyle and design</a:t>
            </a:r>
            <a:br>
              <a:rPr sz="2400"/>
            </a:br>
            <a:r>
              <a:rPr b="0" lang="en-US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49200" indent="-347760">
              <a:lnSpc>
                <a:spcPct val="100000"/>
              </a:lnSpc>
              <a:spcBef>
                <a:spcPts val="601"/>
              </a:spcBef>
              <a:buClr>
                <a:srgbClr val="3a0e66"/>
              </a:buClr>
              <a:buFont typeface="Wingdings" charset="2"/>
              <a:buChar char="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BenQ-Siemens offers surprising, innovative, and elegant solutions that expand ones possibilities </a:t>
            </a:r>
            <a:br>
              <a:rPr sz="2400"/>
            </a:br>
            <a:r>
              <a:rPr b="0" lang="en-US" sz="2400" spc="-1" strike="noStrike">
                <a:solidFill>
                  <a:srgbClr val="3a0e66"/>
                </a:solidFill>
                <a:latin typeface="Minio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49200" indent="-347760">
              <a:lnSpc>
                <a:spcPct val="100000"/>
              </a:lnSpc>
              <a:spcBef>
                <a:spcPts val="601"/>
              </a:spcBef>
              <a:buClr>
                <a:srgbClr val="3a0e66"/>
              </a:buClr>
              <a:buFont typeface="Wingdings" charset="2"/>
              <a:buChar char="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With design and style, dynamic and powerful performance or truly amazing, unusual new mobile ideas – BenQ-Siemens sets out to let consumers explore new wa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43720" y="236520"/>
            <a:ext cx="1424160" cy="341280"/>
          </a:xfrm>
          <a:prstGeom prst="rect">
            <a:avLst/>
          </a:prstGeom>
          <a:solidFill>
            <a:srgbClr val="3a0e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ctr" anchorCtr="1">
            <a:norm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Minion"/>
                <a:ea typeface="文鼎中黑"/>
              </a:rPr>
              <a:t>Our Br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BenQ-Siemens is…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792680" y="1500120"/>
            <a:ext cx="4374360" cy="4492440"/>
            <a:chOff x="4792680" y="1500120"/>
            <a:chExt cx="4374360" cy="4492440"/>
          </a:xfrm>
        </p:grpSpPr>
        <p:sp>
          <p:nvSpPr>
            <p:cNvPr id="68" name=""/>
            <p:cNvSpPr/>
            <p:nvPr/>
          </p:nvSpPr>
          <p:spPr>
            <a:xfrm>
              <a:off x="5056200" y="5383080"/>
              <a:ext cx="218124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H="1">
              <a:off x="4984560" y="1500120"/>
              <a:ext cx="2327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a0e66"/>
                  </a:solidFill>
                  <a:latin typeface="Minion"/>
                </a:rPr>
                <a:t>Network know-how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H="1">
              <a:off x="7489800" y="1707840"/>
              <a:ext cx="164808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a0e66"/>
                  </a:solidFill>
                  <a:latin typeface="Minion"/>
                </a:rPr>
                <a:t>Technological</a:t>
              </a:r>
              <a:br>
                <a:rPr sz="2000"/>
              </a:br>
              <a:r>
                <a:rPr b="0" lang="en-US" sz="2000" spc="-1" strike="noStrike">
                  <a:solidFill>
                    <a:srgbClr val="3a0e66"/>
                  </a:solidFill>
                  <a:latin typeface="Minion"/>
                </a:rPr>
                <a:t>compete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>
              <a:off x="7486560" y="2531880"/>
              <a:ext cx="168012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a0e66"/>
                  </a:solidFill>
                  <a:latin typeface="Minion"/>
                </a:rPr>
                <a:t>SW</a:t>
              </a:r>
              <a:br>
                <a:rPr sz="2000"/>
              </a:br>
              <a:r>
                <a:rPr b="0" lang="en-US" sz="2000" spc="-1" strike="noStrike">
                  <a:solidFill>
                    <a:srgbClr val="3a0e66"/>
                  </a:solidFill>
                  <a:latin typeface="Minion"/>
                </a:rPr>
                <a:t>customiz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H="1">
              <a:off x="7542000" y="3960720"/>
              <a:ext cx="11512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a0e66"/>
                  </a:solidFill>
                  <a:latin typeface="Minion"/>
                </a:rPr>
                <a:t>Reliabili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7534080" y="4565520"/>
              <a:ext cx="954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a0e66"/>
                  </a:solidFill>
                  <a:latin typeface="Minion"/>
                </a:rPr>
                <a:t>Securi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>
              <a:off x="5723640" y="4921200"/>
              <a:ext cx="851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a0e66"/>
                  </a:solidFill>
                  <a:latin typeface="Minion"/>
                </a:rPr>
                <a:t>Quali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7503480" y="3357360"/>
              <a:ext cx="1312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a0e66"/>
                  </a:solidFill>
                  <a:latin typeface="Minion"/>
                </a:rPr>
                <a:t>Experie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6" name="" descr=""/>
            <p:cNvPicPr/>
            <p:nvPr/>
          </p:nvPicPr>
          <p:blipFill>
            <a:blip r:embed="rId1"/>
            <a:stretch/>
          </p:blipFill>
          <p:spPr>
            <a:xfrm>
              <a:off x="5243400" y="5549760"/>
              <a:ext cx="1770120" cy="277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7" name=""/>
            <p:cNvGrpSpPr/>
            <p:nvPr/>
          </p:nvGrpSpPr>
          <p:grpSpPr>
            <a:xfrm>
              <a:off x="4792680" y="1946160"/>
              <a:ext cx="2708280" cy="2708280"/>
              <a:chOff x="4792680" y="1946160"/>
              <a:chExt cx="2708280" cy="2708280"/>
            </a:xfrm>
          </p:grpSpPr>
          <p:sp>
            <p:nvSpPr>
              <p:cNvPr id="78" name=""/>
              <p:cNvSpPr/>
              <p:nvPr/>
            </p:nvSpPr>
            <p:spPr>
              <a:xfrm>
                <a:off x="4792680" y="1946160"/>
                <a:ext cx="2708280" cy="2708280"/>
              </a:xfrm>
              <a:prstGeom prst="rect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792680" y="1946160"/>
                <a:ext cx="2708280" cy="2708280"/>
              </a:xfrm>
              <a:prstGeom prst="rect">
                <a:avLst/>
              </a:prstGeom>
              <a:solidFill>
                <a:srgbClr val="3366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0" name=""/>
          <p:cNvGrpSpPr/>
          <p:nvPr/>
        </p:nvGrpSpPr>
        <p:grpSpPr>
          <a:xfrm>
            <a:off x="335880" y="1279440"/>
            <a:ext cx="4240800" cy="4713120"/>
            <a:chOff x="335880" y="1279440"/>
            <a:chExt cx="4240800" cy="4713120"/>
          </a:xfrm>
        </p:grpSpPr>
        <p:sp>
          <p:nvSpPr>
            <p:cNvPr id="81" name=""/>
            <p:cNvSpPr/>
            <p:nvPr/>
          </p:nvSpPr>
          <p:spPr>
            <a:xfrm>
              <a:off x="2064960" y="5383080"/>
              <a:ext cx="218124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2" name="" descr=""/>
            <p:cNvPicPr/>
            <p:nvPr/>
          </p:nvPicPr>
          <p:blipFill>
            <a:blip r:embed="rId3"/>
            <a:srcRect l="0" t="6721" r="0" b="0"/>
            <a:stretch/>
          </p:blipFill>
          <p:spPr>
            <a:xfrm>
              <a:off x="2334960" y="5421240"/>
              <a:ext cx="1641600" cy="52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"/>
            <p:cNvSpPr/>
            <p:nvPr/>
          </p:nvSpPr>
          <p:spPr>
            <a:xfrm flipH="1">
              <a:off x="2261520" y="1279440"/>
              <a:ext cx="179280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a0e66"/>
                  </a:solidFill>
                  <a:latin typeface="Minion"/>
                </a:rPr>
                <a:t>Award winning</a:t>
              </a:r>
              <a:br>
                <a:rPr sz="2000"/>
              </a:br>
              <a:r>
                <a:rPr b="0" lang="en-US" sz="2000" spc="-1" strike="noStrike">
                  <a:solidFill>
                    <a:srgbClr val="3a0e66"/>
                  </a:solidFill>
                  <a:latin typeface="Minion"/>
                </a:rPr>
                <a:t>desig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4" name=""/>
            <p:cNvGrpSpPr/>
            <p:nvPr/>
          </p:nvGrpSpPr>
          <p:grpSpPr>
            <a:xfrm>
              <a:off x="335880" y="1707840"/>
              <a:ext cx="2095200" cy="3132360"/>
              <a:chOff x="335880" y="1707840"/>
              <a:chExt cx="2095200" cy="3132360"/>
            </a:xfrm>
          </p:grpSpPr>
          <p:sp>
            <p:nvSpPr>
              <p:cNvPr id="85" name=""/>
              <p:cNvSpPr/>
              <p:nvPr/>
            </p:nvSpPr>
            <p:spPr>
              <a:xfrm flipH="1">
                <a:off x="562680" y="3978000"/>
                <a:ext cx="14562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3a0e66"/>
                    </a:solidFill>
                    <a:latin typeface="Minion"/>
                  </a:rPr>
                  <a:t>Fast moving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>
                <a:off x="1416600" y="4565520"/>
                <a:ext cx="101412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3a0e66"/>
                    </a:solidFill>
                    <a:latin typeface="Minion"/>
                  </a:rPr>
                  <a:t>Youthful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H="1">
                <a:off x="406800" y="3317760"/>
                <a:ext cx="12582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3a0e66"/>
                    </a:solidFill>
                    <a:latin typeface="Minion"/>
                  </a:rPr>
                  <a:t>Innovativ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H="1">
                <a:off x="335520" y="2619360"/>
                <a:ext cx="14684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3a0e66"/>
                    </a:solidFill>
                    <a:latin typeface="Minion"/>
                  </a:rPr>
                  <a:t>Connectivity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H="1">
                <a:off x="813960" y="1707840"/>
                <a:ext cx="147132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3a0e66"/>
                    </a:solidFill>
                    <a:latin typeface="Minion"/>
                  </a:rPr>
                  <a:t>Multimedia</a:t>
                </a:r>
                <a:br>
                  <a:rPr sz="2000"/>
                </a:br>
                <a:r>
                  <a:rPr b="0" lang="en-US" sz="2000" spc="-1" strike="noStrike">
                    <a:solidFill>
                      <a:srgbClr val="3a0e66"/>
                    </a:solidFill>
                    <a:latin typeface="Minion"/>
                  </a:rPr>
                  <a:t>competenc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0" name=""/>
            <p:cNvSpPr/>
            <p:nvPr/>
          </p:nvSpPr>
          <p:spPr>
            <a:xfrm flipH="1">
              <a:off x="2890080" y="4921200"/>
              <a:ext cx="535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a0e66"/>
                  </a:solidFill>
                  <a:latin typeface="Minion"/>
                </a:rPr>
                <a:t>Coo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1" name=""/>
            <p:cNvGrpSpPr/>
            <p:nvPr/>
          </p:nvGrpSpPr>
          <p:grpSpPr>
            <a:xfrm>
              <a:off x="1734840" y="1879560"/>
              <a:ext cx="2841840" cy="2841480"/>
              <a:chOff x="1734840" y="1879560"/>
              <a:chExt cx="2841840" cy="2841480"/>
            </a:xfrm>
          </p:grpSpPr>
          <p:sp>
            <p:nvSpPr>
              <p:cNvPr id="92" name=""/>
              <p:cNvSpPr/>
              <p:nvPr/>
            </p:nvSpPr>
            <p:spPr>
              <a:xfrm>
                <a:off x="1734840" y="1879560"/>
                <a:ext cx="2841840" cy="2841480"/>
              </a:xfrm>
              <a:prstGeom prst="ellipse">
                <a:avLst/>
              </a:prstGeom>
              <a:blipFill rotWithShape="0">
                <a:blip r:embed="rId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34840" y="1879560"/>
                <a:ext cx="2841840" cy="2841480"/>
              </a:xfrm>
              <a:prstGeom prst="ellipse">
                <a:avLst/>
              </a:prstGeom>
              <a:solidFill>
                <a:srgbClr val="ff000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4" name=""/>
          <p:cNvSpPr/>
          <p:nvPr/>
        </p:nvSpPr>
        <p:spPr>
          <a:xfrm>
            <a:off x="7443720" y="236520"/>
            <a:ext cx="1424160" cy="341280"/>
          </a:xfrm>
          <a:prstGeom prst="rect">
            <a:avLst/>
          </a:prstGeom>
          <a:solidFill>
            <a:srgbClr val="3a0e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ctr" anchorCtr="1">
            <a:norm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Minion"/>
                <a:ea typeface="文鼎中黑"/>
              </a:rPr>
              <a:t>Our Br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8920" y="49320"/>
            <a:ext cx="8589960" cy="85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… </a:t>
            </a: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a fusion of engineering competence with </a:t>
            </a:r>
            <a:br>
              <a:rPr sz="2800"/>
            </a:b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lifestyle and design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1243800" y="1600200"/>
            <a:ext cx="6861600" cy="4492440"/>
            <a:chOff x="1243800" y="1600200"/>
            <a:chExt cx="6861600" cy="4492440"/>
          </a:xfrm>
        </p:grpSpPr>
        <p:sp>
          <p:nvSpPr>
            <p:cNvPr id="97" name=""/>
            <p:cNvSpPr/>
            <p:nvPr/>
          </p:nvSpPr>
          <p:spPr>
            <a:xfrm>
              <a:off x="2085840" y="5483160"/>
              <a:ext cx="46008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8" name="" descr=""/>
            <p:cNvPicPr/>
            <p:nvPr/>
          </p:nvPicPr>
          <p:blipFill>
            <a:blip r:embed="rId1"/>
            <a:srcRect l="21358" t="14029" r="0" b="30220"/>
            <a:stretch/>
          </p:blipFill>
          <p:spPr>
            <a:xfrm>
              <a:off x="2370240" y="5541840"/>
              <a:ext cx="4033800" cy="49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flipH="1">
              <a:off x="4557240" y="1600200"/>
              <a:ext cx="2327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a0e66"/>
                  </a:solidFill>
                  <a:latin typeface="Minion"/>
                </a:rPr>
                <a:t>Network know-how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5873400" y="2109600"/>
              <a:ext cx="164808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a0e66"/>
                  </a:solidFill>
                  <a:latin typeface="Minion"/>
                </a:rPr>
                <a:t>Technological</a:t>
              </a:r>
              <a:br>
                <a:rPr sz="2000"/>
              </a:br>
              <a:r>
                <a:rPr b="0" lang="en-US" sz="2000" spc="-1" strike="noStrike">
                  <a:solidFill>
                    <a:srgbClr val="3a0e66"/>
                  </a:solidFill>
                  <a:latin typeface="Minion"/>
                </a:rPr>
                <a:t>compete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5982840" y="2887560"/>
              <a:ext cx="2122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a0e66"/>
                  </a:solidFill>
                  <a:latin typeface="Minion"/>
                </a:rPr>
                <a:t>SW customiz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>
              <a:off x="6190920" y="3954240"/>
              <a:ext cx="11512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a0e66"/>
                  </a:solidFill>
                  <a:latin typeface="Minion"/>
                </a:rPr>
                <a:t>Reliabili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flipH="1">
              <a:off x="5911560" y="4487760"/>
              <a:ext cx="954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a0e66"/>
                  </a:solidFill>
                  <a:latin typeface="Minion"/>
                </a:rPr>
                <a:t>Securi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flipH="1">
              <a:off x="4755240" y="5021280"/>
              <a:ext cx="851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a0e66"/>
                  </a:solidFill>
                  <a:latin typeface="Minion"/>
                </a:rPr>
                <a:t>Quali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flipH="1">
              <a:off x="6190560" y="3421080"/>
              <a:ext cx="1312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a0e66"/>
                  </a:solidFill>
                  <a:latin typeface="Minion"/>
                </a:rPr>
                <a:t>Experie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flipH="1">
              <a:off x="1573560" y="1600200"/>
              <a:ext cx="2660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a0e66"/>
                  </a:solidFill>
                  <a:latin typeface="Minion"/>
                </a:rPr>
                <a:t>Award winning desig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flipH="1">
              <a:off x="1243440" y="3954240"/>
              <a:ext cx="1456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a0e66"/>
                  </a:solidFill>
                  <a:latin typeface="Minion"/>
                </a:rPr>
                <a:t>Fast mov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3414240" y="5021280"/>
              <a:ext cx="535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a0e66"/>
                  </a:solidFill>
                  <a:latin typeface="Minion"/>
                </a:rPr>
                <a:t>Coo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flipH="1">
              <a:off x="1394280" y="3421080"/>
              <a:ext cx="1258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a0e66"/>
                  </a:solidFill>
                  <a:latin typeface="Minion"/>
                </a:rPr>
                <a:t>Innovati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 flipH="1">
              <a:off x="1374480" y="2887560"/>
              <a:ext cx="1468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a0e66"/>
                  </a:solidFill>
                  <a:latin typeface="Minion"/>
                </a:rPr>
                <a:t>Connectivi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flipH="1">
              <a:off x="1442160" y="2109600"/>
              <a:ext cx="147132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a0e66"/>
                  </a:solidFill>
                  <a:latin typeface="Minion"/>
                </a:rPr>
                <a:t>Multimedia</a:t>
              </a:r>
              <a:br>
                <a:rPr sz="2000"/>
              </a:br>
              <a:r>
                <a:rPr b="0" lang="en-US" sz="2000" spc="-1" strike="noStrike">
                  <a:solidFill>
                    <a:srgbClr val="3a0e66"/>
                  </a:solidFill>
                  <a:latin typeface="Minion"/>
                </a:rPr>
                <a:t>compete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2" name=""/>
            <p:cNvGrpSpPr/>
            <p:nvPr/>
          </p:nvGrpSpPr>
          <p:grpSpPr>
            <a:xfrm>
              <a:off x="2890800" y="1960560"/>
              <a:ext cx="2990880" cy="2992320"/>
              <a:chOff x="2890800" y="1960560"/>
              <a:chExt cx="2990880" cy="2992320"/>
            </a:xfrm>
          </p:grpSpPr>
          <p:sp>
            <p:nvSpPr>
              <p:cNvPr id="113" name=""/>
              <p:cNvSpPr/>
              <p:nvPr/>
            </p:nvSpPr>
            <p:spPr>
              <a:xfrm>
                <a:off x="2890800" y="1960560"/>
                <a:ext cx="2990880" cy="2992320"/>
              </a:xfrm>
              <a:custGeom>
                <a:avLst/>
                <a:gdLst/>
                <a:ahLst/>
                <a:rect l="l" t="t" r="r" b="b"/>
                <a:pathLst>
                  <a:path w="1008" h="1006">
                    <a:moveTo>
                      <a:pt x="504" y="0"/>
                    </a:moveTo>
                    <a:cubicBezTo>
                      <a:pt x="641" y="0"/>
                      <a:pt x="910" y="47"/>
                      <a:pt x="935" y="72"/>
                    </a:cubicBezTo>
                    <a:cubicBezTo>
                      <a:pt x="960" y="97"/>
                      <a:pt x="1008" y="369"/>
                      <a:pt x="1008" y="504"/>
                    </a:cubicBezTo>
                    <a:cubicBezTo>
                      <a:pt x="1008" y="639"/>
                      <a:pt x="963" y="909"/>
                      <a:pt x="938" y="934"/>
                    </a:cubicBezTo>
                    <a:cubicBezTo>
                      <a:pt x="913" y="959"/>
                      <a:pt x="639" y="1006"/>
                      <a:pt x="504" y="1006"/>
                    </a:cubicBezTo>
                    <a:cubicBezTo>
                      <a:pt x="369" y="1006"/>
                      <a:pt x="100" y="961"/>
                      <a:pt x="75" y="936"/>
                    </a:cubicBezTo>
                    <a:cubicBezTo>
                      <a:pt x="50" y="911"/>
                      <a:pt x="0" y="638"/>
                      <a:pt x="0" y="504"/>
                    </a:cubicBezTo>
                    <a:cubicBezTo>
                      <a:pt x="0" y="370"/>
                      <a:pt x="49" y="98"/>
                      <a:pt x="74" y="72"/>
                    </a:cubicBezTo>
                    <a:cubicBezTo>
                      <a:pt x="99" y="46"/>
                      <a:pt x="367" y="0"/>
                      <a:pt x="504" y="0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2890800" y="1960560"/>
                <a:ext cx="2990880" cy="2992320"/>
              </a:xfrm>
              <a:custGeom>
                <a:avLst/>
                <a:gdLst/>
                <a:ahLst/>
                <a:rect l="l" t="t" r="r" b="b"/>
                <a:pathLst>
                  <a:path w="1008" h="1006">
                    <a:moveTo>
                      <a:pt x="504" y="0"/>
                    </a:moveTo>
                    <a:cubicBezTo>
                      <a:pt x="641" y="0"/>
                      <a:pt x="910" y="47"/>
                      <a:pt x="935" y="72"/>
                    </a:cubicBezTo>
                    <a:cubicBezTo>
                      <a:pt x="960" y="97"/>
                      <a:pt x="1008" y="369"/>
                      <a:pt x="1008" y="504"/>
                    </a:cubicBezTo>
                    <a:cubicBezTo>
                      <a:pt x="1008" y="639"/>
                      <a:pt x="963" y="909"/>
                      <a:pt x="938" y="934"/>
                    </a:cubicBezTo>
                    <a:cubicBezTo>
                      <a:pt x="913" y="959"/>
                      <a:pt x="639" y="1006"/>
                      <a:pt x="504" y="1006"/>
                    </a:cubicBezTo>
                    <a:cubicBezTo>
                      <a:pt x="369" y="1006"/>
                      <a:pt x="100" y="961"/>
                      <a:pt x="75" y="936"/>
                    </a:cubicBezTo>
                    <a:cubicBezTo>
                      <a:pt x="50" y="911"/>
                      <a:pt x="0" y="638"/>
                      <a:pt x="0" y="504"/>
                    </a:cubicBezTo>
                    <a:cubicBezTo>
                      <a:pt x="0" y="370"/>
                      <a:pt x="49" y="98"/>
                      <a:pt x="74" y="72"/>
                    </a:cubicBezTo>
                    <a:cubicBezTo>
                      <a:pt x="99" y="46"/>
                      <a:pt x="367" y="0"/>
                      <a:pt x="504" y="0"/>
                    </a:cubicBezTo>
                    <a:close/>
                  </a:path>
                </a:pathLst>
              </a:custGeom>
              <a:solidFill>
                <a:srgbClr val="cc99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5" name=""/>
            <p:cNvSpPr/>
            <p:nvPr/>
          </p:nvSpPr>
          <p:spPr>
            <a:xfrm flipH="1">
              <a:off x="1914480" y="4487760"/>
              <a:ext cx="10141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a0e66"/>
                  </a:solidFill>
                  <a:latin typeface="Minion"/>
                </a:rPr>
                <a:t>Youthf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7443720" y="236520"/>
            <a:ext cx="1424160" cy="341280"/>
          </a:xfrm>
          <a:prstGeom prst="rect">
            <a:avLst/>
          </a:prstGeom>
          <a:solidFill>
            <a:srgbClr val="3a0e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ctr" anchorCtr="1">
            <a:norm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Minion"/>
                <a:ea typeface="文鼎中黑"/>
              </a:rPr>
              <a:t>Our Br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79280" y="124920"/>
            <a:ext cx="8678880" cy="8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EXPLORATION is the opportunity space that </a:t>
            </a:r>
            <a:br>
              <a:rPr sz="2800"/>
            </a:b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we build our brand on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18" name=""/>
          <p:cNvSpPr/>
          <p:nvPr/>
        </p:nvSpPr>
        <p:spPr>
          <a:xfrm>
            <a:off x="1449360" y="1487520"/>
            <a:ext cx="6326280" cy="4668840"/>
          </a:xfrm>
          <a:prstGeom prst="ellipse">
            <a:avLst/>
          </a:prstGeom>
          <a:noFill/>
          <a:ln w="19080">
            <a:solidFill>
              <a:srgbClr val="cfcd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21560" y="1160640"/>
            <a:ext cx="1184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1" lang="en-US" sz="2000" spc="-1" strike="noStrike">
                <a:solidFill>
                  <a:srgbClr val="3a0e66"/>
                </a:solidFill>
                <a:latin typeface="Minion"/>
              </a:rPr>
              <a:t>Harmo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55840" y="3697200"/>
            <a:ext cx="947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1" lang="en-US" sz="2000" spc="-1" strike="noStrike">
                <a:solidFill>
                  <a:srgbClr val="3a0e66"/>
                </a:solidFill>
                <a:latin typeface="Minion"/>
              </a:rPr>
              <a:t>Contr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819920" y="3697200"/>
            <a:ext cx="547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1" lang="en-US" sz="2000" spc="-1" strike="noStrike">
                <a:solidFill>
                  <a:srgbClr val="3a0e66"/>
                </a:solidFill>
                <a:latin typeface="Minion"/>
              </a:rPr>
              <a:t>Lu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122360" y="6195960"/>
            <a:ext cx="9820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1" lang="en-US" sz="2000" spc="-1" strike="noStrike">
                <a:solidFill>
                  <a:srgbClr val="3a0e66"/>
                </a:solidFill>
                <a:latin typeface="Minion"/>
              </a:rPr>
              <a:t>Confli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180800" y="5486400"/>
            <a:ext cx="13294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1" lang="en-US" sz="2000" spc="-1" strike="noStrike">
                <a:solidFill>
                  <a:srgbClr val="3a0e66"/>
                </a:solidFill>
                <a:latin typeface="Minion"/>
              </a:rPr>
              <a:t>Form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861240" y="1938240"/>
            <a:ext cx="1317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1" lang="en-US" sz="2000" spc="-1" strike="noStrike">
                <a:solidFill>
                  <a:srgbClr val="3a0e66"/>
                </a:solidFill>
                <a:latin typeface="Minion"/>
              </a:rPr>
              <a:t>Sensua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65840" y="1938240"/>
            <a:ext cx="1038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1" lang="en-US" sz="2000" spc="-1" strike="noStrike">
                <a:solidFill>
                  <a:srgbClr val="3a0e66"/>
                </a:solidFill>
                <a:latin typeface="Minion"/>
              </a:rPr>
              <a:t>Secu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777000" y="5486400"/>
            <a:ext cx="15721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1" lang="en-US" sz="2000" spc="-1" strike="noStrike">
                <a:solidFill>
                  <a:srgbClr val="3a0e66"/>
                </a:solidFill>
                <a:latin typeface="Minion"/>
              </a:rPr>
              <a:t>Strang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14840" y="1441440"/>
            <a:ext cx="0" cy="4789440"/>
          </a:xfrm>
          <a:prstGeom prst="line">
            <a:avLst/>
          </a:prstGeom>
          <a:ln w="9360">
            <a:solidFill>
              <a:srgbClr val="cfcd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906800" y="5556240"/>
            <a:ext cx="1132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Minion"/>
              </a:rPr>
              <a:t>Obsession Sta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51120" y="4924440"/>
            <a:ext cx="942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Minion"/>
              </a:rPr>
              <a:t>Rich W&amp;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368520" y="3313080"/>
            <a:ext cx="887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Minion"/>
              </a:rPr>
              <a:t>Life Efficien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043080" y="3992400"/>
            <a:ext cx="944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Minion"/>
              </a:rPr>
              <a:t>Cultivated W&amp;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738840" y="4637160"/>
            <a:ext cx="76680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Minion"/>
              </a:rPr>
              <a:t>Obsession </a:t>
            </a:r>
            <a:br>
              <a:rPr sz="1200"/>
            </a:br>
            <a:r>
              <a:rPr b="1" lang="en-US" sz="1200" spc="-1" strike="noStrike">
                <a:solidFill>
                  <a:srgbClr val="5f5f5f"/>
                </a:solidFill>
                <a:latin typeface="Minion"/>
              </a:rPr>
              <a:t>Innov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371600" y="3814920"/>
            <a:ext cx="6473880" cy="0"/>
          </a:xfrm>
          <a:prstGeom prst="line">
            <a:avLst/>
          </a:prstGeom>
          <a:ln w="9360">
            <a:solidFill>
              <a:srgbClr val="cfcd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784760" y="4533840"/>
            <a:ext cx="1932120" cy="930240"/>
          </a:xfrm>
          <a:custGeom>
            <a:avLst/>
            <a:gdLst/>
            <a:ahLst/>
            <a:rect l="l" t="t" r="r" b="b"/>
            <a:pathLst>
              <a:path w="1141" h="574">
                <a:moveTo>
                  <a:pt x="722" y="56"/>
                </a:moveTo>
                <a:cubicBezTo>
                  <a:pt x="810" y="65"/>
                  <a:pt x="849" y="53"/>
                  <a:pt x="914" y="56"/>
                </a:cubicBezTo>
                <a:cubicBezTo>
                  <a:pt x="979" y="59"/>
                  <a:pt x="1089" y="50"/>
                  <a:pt x="1115" y="74"/>
                </a:cubicBezTo>
                <a:cubicBezTo>
                  <a:pt x="1141" y="98"/>
                  <a:pt x="1086" y="159"/>
                  <a:pt x="1069" y="202"/>
                </a:cubicBezTo>
                <a:cubicBezTo>
                  <a:pt x="1052" y="245"/>
                  <a:pt x="1057" y="286"/>
                  <a:pt x="1015" y="330"/>
                </a:cubicBezTo>
                <a:cubicBezTo>
                  <a:pt x="973" y="374"/>
                  <a:pt x="914" y="444"/>
                  <a:pt x="813" y="467"/>
                </a:cubicBezTo>
                <a:cubicBezTo>
                  <a:pt x="712" y="490"/>
                  <a:pt x="533" y="456"/>
                  <a:pt x="411" y="467"/>
                </a:cubicBezTo>
                <a:cubicBezTo>
                  <a:pt x="289" y="478"/>
                  <a:pt x="149" y="574"/>
                  <a:pt x="82" y="531"/>
                </a:cubicBezTo>
                <a:cubicBezTo>
                  <a:pt x="15" y="488"/>
                  <a:pt x="0" y="292"/>
                  <a:pt x="9" y="211"/>
                </a:cubicBezTo>
                <a:cubicBezTo>
                  <a:pt x="18" y="130"/>
                  <a:pt x="74" y="82"/>
                  <a:pt x="137" y="47"/>
                </a:cubicBezTo>
                <a:cubicBezTo>
                  <a:pt x="200" y="12"/>
                  <a:pt x="287" y="0"/>
                  <a:pt x="384" y="1"/>
                </a:cubicBezTo>
                <a:cubicBezTo>
                  <a:pt x="481" y="2"/>
                  <a:pt x="634" y="47"/>
                  <a:pt x="722" y="56"/>
                </a:cubicBezTo>
                <a:close/>
              </a:path>
            </a:pathLst>
          </a:custGeom>
          <a:solidFill>
            <a:srgbClr val="b82a3d"/>
          </a:solidFill>
          <a:ln w="19080">
            <a:solidFill>
              <a:srgbClr val="b82a3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930920" y="4656240"/>
            <a:ext cx="1454040" cy="536400"/>
          </a:xfrm>
          <a:prstGeom prst="rect">
            <a:avLst/>
          </a:prstGeom>
          <a:solidFill>
            <a:srgbClr val="b82a3d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720" rIns="36720" tIns="47880" bIns="4788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Minion"/>
              </a:rPr>
              <a:t>Explore Pas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38200" y="1503360"/>
            <a:ext cx="5489640" cy="3660840"/>
          </a:xfrm>
          <a:custGeom>
            <a:avLst/>
            <a:gdLst/>
            <a:ahLst/>
            <a:rect l="l" t="t" r="r" b="b"/>
            <a:pathLst>
              <a:path w="3458" h="2306">
                <a:moveTo>
                  <a:pt x="340" y="2270"/>
                </a:moveTo>
                <a:cubicBezTo>
                  <a:pt x="378" y="2286"/>
                  <a:pt x="411" y="2306"/>
                  <a:pt x="478" y="2264"/>
                </a:cubicBezTo>
                <a:cubicBezTo>
                  <a:pt x="545" y="2222"/>
                  <a:pt x="665" y="2156"/>
                  <a:pt x="742" y="2018"/>
                </a:cubicBezTo>
                <a:cubicBezTo>
                  <a:pt x="819" y="1880"/>
                  <a:pt x="870" y="1581"/>
                  <a:pt x="940" y="1436"/>
                </a:cubicBezTo>
                <a:cubicBezTo>
                  <a:pt x="1010" y="1291"/>
                  <a:pt x="1006" y="1221"/>
                  <a:pt x="1162" y="1148"/>
                </a:cubicBezTo>
                <a:cubicBezTo>
                  <a:pt x="1318" y="1075"/>
                  <a:pt x="1708" y="1038"/>
                  <a:pt x="1876" y="998"/>
                </a:cubicBezTo>
                <a:cubicBezTo>
                  <a:pt x="2044" y="958"/>
                  <a:pt x="2090" y="947"/>
                  <a:pt x="2170" y="908"/>
                </a:cubicBezTo>
                <a:cubicBezTo>
                  <a:pt x="2250" y="869"/>
                  <a:pt x="2252" y="801"/>
                  <a:pt x="2356" y="764"/>
                </a:cubicBezTo>
                <a:cubicBezTo>
                  <a:pt x="2460" y="727"/>
                  <a:pt x="2668" y="698"/>
                  <a:pt x="2794" y="686"/>
                </a:cubicBezTo>
                <a:cubicBezTo>
                  <a:pt x="2920" y="674"/>
                  <a:pt x="3015" y="705"/>
                  <a:pt x="3112" y="692"/>
                </a:cubicBezTo>
                <a:cubicBezTo>
                  <a:pt x="3209" y="679"/>
                  <a:pt x="3324" y="645"/>
                  <a:pt x="3376" y="608"/>
                </a:cubicBezTo>
                <a:cubicBezTo>
                  <a:pt x="3428" y="571"/>
                  <a:pt x="3458" y="522"/>
                  <a:pt x="3424" y="470"/>
                </a:cubicBezTo>
                <a:cubicBezTo>
                  <a:pt x="3390" y="418"/>
                  <a:pt x="3276" y="352"/>
                  <a:pt x="3172" y="296"/>
                </a:cubicBezTo>
                <a:cubicBezTo>
                  <a:pt x="3068" y="240"/>
                  <a:pt x="2920" y="176"/>
                  <a:pt x="2800" y="134"/>
                </a:cubicBezTo>
                <a:cubicBezTo>
                  <a:pt x="2680" y="92"/>
                  <a:pt x="2578" y="66"/>
                  <a:pt x="2452" y="44"/>
                </a:cubicBezTo>
                <a:cubicBezTo>
                  <a:pt x="2326" y="22"/>
                  <a:pt x="2187" y="4"/>
                  <a:pt x="2044" y="2"/>
                </a:cubicBezTo>
                <a:cubicBezTo>
                  <a:pt x="1901" y="0"/>
                  <a:pt x="1737" y="10"/>
                  <a:pt x="1594" y="32"/>
                </a:cubicBezTo>
                <a:cubicBezTo>
                  <a:pt x="1451" y="54"/>
                  <a:pt x="1312" y="92"/>
                  <a:pt x="1186" y="134"/>
                </a:cubicBezTo>
                <a:cubicBezTo>
                  <a:pt x="1060" y="176"/>
                  <a:pt x="943" y="230"/>
                  <a:pt x="838" y="284"/>
                </a:cubicBezTo>
                <a:cubicBezTo>
                  <a:pt x="733" y="338"/>
                  <a:pt x="655" y="376"/>
                  <a:pt x="556" y="458"/>
                </a:cubicBezTo>
                <a:cubicBezTo>
                  <a:pt x="457" y="540"/>
                  <a:pt x="316" y="686"/>
                  <a:pt x="244" y="776"/>
                </a:cubicBezTo>
                <a:cubicBezTo>
                  <a:pt x="172" y="866"/>
                  <a:pt x="160" y="907"/>
                  <a:pt x="124" y="998"/>
                </a:cubicBezTo>
                <a:cubicBezTo>
                  <a:pt x="88" y="1089"/>
                  <a:pt x="47" y="1215"/>
                  <a:pt x="28" y="1322"/>
                </a:cubicBezTo>
                <a:cubicBezTo>
                  <a:pt x="9" y="1429"/>
                  <a:pt x="0" y="1541"/>
                  <a:pt x="10" y="1640"/>
                </a:cubicBezTo>
                <a:cubicBezTo>
                  <a:pt x="20" y="1739"/>
                  <a:pt x="48" y="1828"/>
                  <a:pt x="88" y="1916"/>
                </a:cubicBezTo>
                <a:cubicBezTo>
                  <a:pt x="128" y="2004"/>
                  <a:pt x="203" y="2107"/>
                  <a:pt x="250" y="2168"/>
                </a:cubicBezTo>
                <a:cubicBezTo>
                  <a:pt x="297" y="2229"/>
                  <a:pt x="302" y="2254"/>
                  <a:pt x="340" y="2270"/>
                </a:cubicBezTo>
                <a:close/>
              </a:path>
            </a:pathLst>
          </a:custGeom>
          <a:solidFill>
            <a:srgbClr val="94c43a"/>
          </a:solidFill>
          <a:ln w="19080">
            <a:solidFill>
              <a:srgbClr val="94c43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876920" y="2400480"/>
            <a:ext cx="2921040" cy="1742760"/>
          </a:xfrm>
          <a:custGeom>
            <a:avLst/>
            <a:gdLst/>
            <a:ahLst/>
            <a:rect l="l" t="t" r="r" b="b"/>
            <a:pathLst>
              <a:path w="1840" h="1098">
                <a:moveTo>
                  <a:pt x="424" y="775"/>
                </a:moveTo>
                <a:cubicBezTo>
                  <a:pt x="302" y="762"/>
                  <a:pt x="227" y="778"/>
                  <a:pt x="166" y="745"/>
                </a:cubicBezTo>
                <a:cubicBezTo>
                  <a:pt x="105" y="712"/>
                  <a:pt x="84" y="624"/>
                  <a:pt x="58" y="577"/>
                </a:cubicBezTo>
                <a:cubicBezTo>
                  <a:pt x="32" y="530"/>
                  <a:pt x="15" y="509"/>
                  <a:pt x="10" y="463"/>
                </a:cubicBezTo>
                <a:cubicBezTo>
                  <a:pt x="5" y="417"/>
                  <a:pt x="0" y="356"/>
                  <a:pt x="28" y="301"/>
                </a:cubicBezTo>
                <a:cubicBezTo>
                  <a:pt x="56" y="246"/>
                  <a:pt x="65" y="172"/>
                  <a:pt x="178" y="133"/>
                </a:cubicBezTo>
                <a:cubicBezTo>
                  <a:pt x="291" y="94"/>
                  <a:pt x="586" y="85"/>
                  <a:pt x="706" y="67"/>
                </a:cubicBezTo>
                <a:cubicBezTo>
                  <a:pt x="826" y="49"/>
                  <a:pt x="832" y="36"/>
                  <a:pt x="898" y="25"/>
                </a:cubicBezTo>
                <a:cubicBezTo>
                  <a:pt x="964" y="14"/>
                  <a:pt x="1029" y="2"/>
                  <a:pt x="1102" y="1"/>
                </a:cubicBezTo>
                <a:cubicBezTo>
                  <a:pt x="1175" y="0"/>
                  <a:pt x="1269" y="2"/>
                  <a:pt x="1336" y="19"/>
                </a:cubicBezTo>
                <a:cubicBezTo>
                  <a:pt x="1403" y="36"/>
                  <a:pt x="1453" y="56"/>
                  <a:pt x="1504" y="103"/>
                </a:cubicBezTo>
                <a:cubicBezTo>
                  <a:pt x="1555" y="150"/>
                  <a:pt x="1603" y="237"/>
                  <a:pt x="1642" y="301"/>
                </a:cubicBezTo>
                <a:cubicBezTo>
                  <a:pt x="1681" y="365"/>
                  <a:pt x="1711" y="411"/>
                  <a:pt x="1738" y="487"/>
                </a:cubicBezTo>
                <a:cubicBezTo>
                  <a:pt x="1765" y="563"/>
                  <a:pt x="1792" y="673"/>
                  <a:pt x="1804" y="757"/>
                </a:cubicBezTo>
                <a:cubicBezTo>
                  <a:pt x="1816" y="841"/>
                  <a:pt x="1840" y="940"/>
                  <a:pt x="1810" y="991"/>
                </a:cubicBezTo>
                <a:cubicBezTo>
                  <a:pt x="1780" y="1042"/>
                  <a:pt x="1708" y="1049"/>
                  <a:pt x="1624" y="1063"/>
                </a:cubicBezTo>
                <a:cubicBezTo>
                  <a:pt x="1540" y="1077"/>
                  <a:pt x="1395" y="1098"/>
                  <a:pt x="1306" y="1075"/>
                </a:cubicBezTo>
                <a:cubicBezTo>
                  <a:pt x="1217" y="1052"/>
                  <a:pt x="1158" y="967"/>
                  <a:pt x="1090" y="925"/>
                </a:cubicBezTo>
                <a:cubicBezTo>
                  <a:pt x="1022" y="883"/>
                  <a:pt x="1008" y="847"/>
                  <a:pt x="898" y="823"/>
                </a:cubicBezTo>
                <a:cubicBezTo>
                  <a:pt x="788" y="799"/>
                  <a:pt x="546" y="788"/>
                  <a:pt x="424" y="775"/>
                </a:cubicBezTo>
                <a:close/>
              </a:path>
            </a:pathLst>
          </a:custGeom>
          <a:solidFill>
            <a:srgbClr val="d7d427"/>
          </a:solidFill>
          <a:ln w="19080">
            <a:solidFill>
              <a:srgbClr val="d7d42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781600" y="2776680"/>
            <a:ext cx="1454400" cy="536400"/>
          </a:xfrm>
          <a:prstGeom prst="rect">
            <a:avLst/>
          </a:prstGeom>
          <a:solidFill>
            <a:srgbClr val="d7d427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720" rIns="36720" tIns="47880" bIns="4788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600" spc="-1" strike="noStrike">
                <a:solidFill>
                  <a:srgbClr val="3a0e66"/>
                </a:solidFill>
                <a:latin typeface="Minion"/>
              </a:rPr>
              <a:t>Explore</a:t>
            </a:r>
            <a:br>
              <a:rPr sz="1600"/>
            </a:br>
            <a:r>
              <a:rPr b="1" lang="en-US" sz="1600" spc="-1" strike="noStrike">
                <a:solidFill>
                  <a:srgbClr val="3a0e66"/>
                </a:solidFill>
                <a:latin typeface="Minion"/>
              </a:rPr>
              <a:t>Image &amp; Stat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687840" y="3578400"/>
            <a:ext cx="3348000" cy="2089080"/>
          </a:xfrm>
          <a:custGeom>
            <a:avLst/>
            <a:gdLst/>
            <a:ahLst/>
            <a:rect l="l" t="t" r="r" b="b"/>
            <a:pathLst>
              <a:path w="1997" h="1201">
                <a:moveTo>
                  <a:pt x="1482" y="110"/>
                </a:moveTo>
                <a:cubicBezTo>
                  <a:pt x="1583" y="130"/>
                  <a:pt x="1628" y="157"/>
                  <a:pt x="1692" y="192"/>
                </a:cubicBezTo>
                <a:cubicBezTo>
                  <a:pt x="1756" y="227"/>
                  <a:pt x="1816" y="279"/>
                  <a:pt x="1866" y="320"/>
                </a:cubicBezTo>
                <a:cubicBezTo>
                  <a:pt x="1916" y="361"/>
                  <a:pt x="1997" y="392"/>
                  <a:pt x="1994" y="439"/>
                </a:cubicBezTo>
                <a:cubicBezTo>
                  <a:pt x="1991" y="486"/>
                  <a:pt x="1893" y="584"/>
                  <a:pt x="1847" y="604"/>
                </a:cubicBezTo>
                <a:cubicBezTo>
                  <a:pt x="1801" y="624"/>
                  <a:pt x="1804" y="566"/>
                  <a:pt x="1719" y="558"/>
                </a:cubicBezTo>
                <a:cubicBezTo>
                  <a:pt x="1634" y="550"/>
                  <a:pt x="1442" y="564"/>
                  <a:pt x="1335" y="558"/>
                </a:cubicBezTo>
                <a:cubicBezTo>
                  <a:pt x="1228" y="552"/>
                  <a:pt x="1166" y="524"/>
                  <a:pt x="1079" y="521"/>
                </a:cubicBezTo>
                <a:cubicBezTo>
                  <a:pt x="992" y="518"/>
                  <a:pt x="884" y="519"/>
                  <a:pt x="814" y="540"/>
                </a:cubicBezTo>
                <a:cubicBezTo>
                  <a:pt x="744" y="561"/>
                  <a:pt x="691" y="600"/>
                  <a:pt x="659" y="649"/>
                </a:cubicBezTo>
                <a:cubicBezTo>
                  <a:pt x="627" y="698"/>
                  <a:pt x="636" y="763"/>
                  <a:pt x="622" y="832"/>
                </a:cubicBezTo>
                <a:cubicBezTo>
                  <a:pt x="608" y="901"/>
                  <a:pt x="611" y="1001"/>
                  <a:pt x="576" y="1061"/>
                </a:cubicBezTo>
                <a:cubicBezTo>
                  <a:pt x="541" y="1121"/>
                  <a:pt x="500" y="1201"/>
                  <a:pt x="412" y="1189"/>
                </a:cubicBezTo>
                <a:cubicBezTo>
                  <a:pt x="324" y="1177"/>
                  <a:pt x="92" y="1075"/>
                  <a:pt x="46" y="988"/>
                </a:cubicBezTo>
                <a:cubicBezTo>
                  <a:pt x="0" y="901"/>
                  <a:pt x="112" y="766"/>
                  <a:pt x="138" y="668"/>
                </a:cubicBezTo>
                <a:cubicBezTo>
                  <a:pt x="164" y="570"/>
                  <a:pt x="185" y="492"/>
                  <a:pt x="202" y="402"/>
                </a:cubicBezTo>
                <a:cubicBezTo>
                  <a:pt x="219" y="312"/>
                  <a:pt x="180" y="193"/>
                  <a:pt x="238" y="128"/>
                </a:cubicBezTo>
                <a:cubicBezTo>
                  <a:pt x="296" y="63"/>
                  <a:pt x="407" y="18"/>
                  <a:pt x="549" y="9"/>
                </a:cubicBezTo>
                <a:cubicBezTo>
                  <a:pt x="691" y="0"/>
                  <a:pt x="933" y="56"/>
                  <a:pt x="1088" y="73"/>
                </a:cubicBezTo>
                <a:cubicBezTo>
                  <a:pt x="1243" y="90"/>
                  <a:pt x="1403" y="64"/>
                  <a:pt x="1482" y="110"/>
                </a:cubicBezTo>
                <a:close/>
              </a:path>
            </a:pathLst>
          </a:custGeom>
          <a:solidFill>
            <a:srgbClr val="9cb0cc"/>
          </a:solidFill>
          <a:ln w="19080">
            <a:solidFill>
              <a:srgbClr val="9cb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614840" y="3860640"/>
            <a:ext cx="1454040" cy="536760"/>
          </a:xfrm>
          <a:prstGeom prst="rect">
            <a:avLst/>
          </a:prstGeom>
          <a:solidFill>
            <a:srgbClr val="9cb0cc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720" rIns="36720" tIns="47880" bIns="4788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600" spc="-1" strike="noStrike">
                <a:solidFill>
                  <a:srgbClr val="3a0e66"/>
                </a:solidFill>
                <a:latin typeface="Minion"/>
              </a:rPr>
              <a:t>Explore 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11480" y="2378160"/>
            <a:ext cx="1454040" cy="580680"/>
          </a:xfrm>
          <a:prstGeom prst="rect">
            <a:avLst/>
          </a:prstGeom>
          <a:solidFill>
            <a:srgbClr val="94c43a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600" spc="-1" strike="noStrike">
                <a:solidFill>
                  <a:srgbClr val="3a0e66"/>
                </a:solidFill>
                <a:latin typeface="Minion"/>
              </a:rPr>
              <a:t>Affordable</a:t>
            </a:r>
            <a:br>
              <a:rPr sz="1600"/>
            </a:br>
            <a:r>
              <a:rPr b="1" lang="en-US" sz="1600" spc="-1" strike="noStrike">
                <a:solidFill>
                  <a:srgbClr val="3a0e66"/>
                </a:solidFill>
                <a:latin typeface="Minion"/>
              </a:rPr>
              <a:t>Qual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443720" y="236520"/>
            <a:ext cx="1424160" cy="341280"/>
          </a:xfrm>
          <a:prstGeom prst="rect">
            <a:avLst/>
          </a:prstGeom>
          <a:solidFill>
            <a:srgbClr val="3a0e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ctr" anchorCtr="1">
            <a:norm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Minion"/>
                <a:ea typeface="文鼎中黑"/>
              </a:rPr>
              <a:t>Our Br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0600" y="254160"/>
            <a:ext cx="836784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What substantiates our Brand Identity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44" name=""/>
          <p:cNvSpPr/>
          <p:nvPr/>
        </p:nvSpPr>
        <p:spPr>
          <a:xfrm>
            <a:off x="1871640" y="3170160"/>
            <a:ext cx="5457960" cy="1562040"/>
          </a:xfrm>
          <a:prstGeom prst="rect">
            <a:avLst/>
          </a:prstGeom>
          <a:noFill/>
          <a:ln w="9360">
            <a:solidFill>
              <a:srgbClr val="5815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Brand as an organiz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Constant exploration of new ways and ide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Love of technology in the benefits it bring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Dedication to customers and consum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Fast, focused, no complex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871640" y="4948200"/>
            <a:ext cx="5467320" cy="1424160"/>
          </a:xfrm>
          <a:prstGeom prst="rect">
            <a:avLst/>
          </a:prstGeom>
          <a:noFill/>
          <a:ln w="9360">
            <a:solidFill>
              <a:srgbClr val="5815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Brand as a produ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Surprising user experi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Elegant, smart &amp; simple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Excellent qual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871640" y="1076400"/>
            <a:ext cx="5467320" cy="1888920"/>
          </a:xfrm>
          <a:prstGeom prst="rect">
            <a:avLst/>
          </a:prstGeom>
          <a:noFill/>
          <a:ln w="9360">
            <a:solidFill>
              <a:srgbClr val="5815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Brand as a pers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a0e66"/>
                </a:solidFill>
                <a:latin typeface="Minion"/>
                <a:ea typeface="新細明體"/>
              </a:rPr>
              <a:t>Challenging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新細明體"/>
              </a:rPr>
              <a:t>  (fighting, breaking out of conventions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a0e66"/>
                </a:solidFill>
                <a:latin typeface="Minion"/>
                <a:ea typeface="新細明體"/>
              </a:rPr>
              <a:t>Original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新細明體"/>
              </a:rPr>
              <a:t>  (unique, unexpected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a0e66"/>
                </a:solidFill>
                <a:latin typeface="Minion"/>
                <a:ea typeface="新細明體"/>
              </a:rPr>
              <a:t>Authentic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新細明體"/>
              </a:rPr>
              <a:t>  (offering simplicity and reliability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a0e66"/>
                </a:solidFill>
                <a:latin typeface="Minion"/>
                <a:ea typeface="新細明體"/>
              </a:rPr>
              <a:t>Vibrant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新細明體"/>
              </a:rPr>
              <a:t>  (youthful, vivid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a0e66"/>
                </a:solidFill>
                <a:latin typeface="Minion"/>
                <a:ea typeface="新細明體"/>
              </a:rPr>
              <a:t>Joyful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新細明體"/>
              </a:rPr>
              <a:t>  (optimistic, creating a smile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443720" y="236520"/>
            <a:ext cx="1424160" cy="341280"/>
          </a:xfrm>
          <a:prstGeom prst="rect">
            <a:avLst/>
          </a:prstGeom>
          <a:solidFill>
            <a:srgbClr val="3a0e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ctr" anchorCtr="1">
            <a:norm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Minion"/>
                <a:ea typeface="文鼎中黑"/>
              </a:rPr>
              <a:t>Our Br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A ten point master plan sets the cornerstones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49" name=""/>
          <p:cNvSpPr/>
          <p:nvPr/>
        </p:nvSpPr>
        <p:spPr>
          <a:xfrm>
            <a:off x="380880" y="1254240"/>
            <a:ext cx="8305920" cy="49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349200" indent="-347760">
              <a:lnSpc>
                <a:spcPct val="100000"/>
              </a:lnSpc>
              <a:spcBef>
                <a:spcPts val="1599"/>
              </a:spcBef>
              <a:buClr>
                <a:srgbClr val="3a0e66"/>
              </a:buClr>
              <a:buFont typeface="Minio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BenQ Mobile will become a consumer compan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49200" indent="-347760">
              <a:lnSpc>
                <a:spcPct val="100000"/>
              </a:lnSpc>
              <a:spcBef>
                <a:spcPts val="1599"/>
              </a:spcBef>
              <a:buClr>
                <a:srgbClr val="3a0e66"/>
              </a:buClr>
              <a:buFont typeface="Minio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We will adopt BenQ's 3C Strateg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49200" indent="-347760">
              <a:lnSpc>
                <a:spcPct val="100000"/>
              </a:lnSpc>
              <a:spcBef>
                <a:spcPts val="1599"/>
              </a:spcBef>
              <a:buClr>
                <a:srgbClr val="3a0e66"/>
              </a:buClr>
              <a:buFont typeface="Minio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EXPLORATION is the opportunity space that we will build our brand on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49200" indent="-347760">
              <a:lnSpc>
                <a:spcPct val="100000"/>
              </a:lnSpc>
              <a:spcBef>
                <a:spcPts val="1599"/>
              </a:spcBef>
              <a:buClr>
                <a:srgbClr val="3a0e66"/>
              </a:buClr>
              <a:buFont typeface="Minio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We will adopt new organizational principles: Focus and Simplif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49200" indent="-347760">
              <a:lnSpc>
                <a:spcPct val="100000"/>
              </a:lnSpc>
              <a:spcBef>
                <a:spcPts val="1599"/>
              </a:spcBef>
              <a:buClr>
                <a:srgbClr val="3a0e66"/>
              </a:buClr>
              <a:buFont typeface="Minio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A new Category Management function will drive consumer orient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49200" indent="-347760">
              <a:lnSpc>
                <a:spcPct val="100000"/>
              </a:lnSpc>
              <a:spcBef>
                <a:spcPts val="1599"/>
              </a:spcBef>
              <a:buClr>
                <a:srgbClr val="3a0e66"/>
              </a:buClr>
              <a:buFont typeface="Minio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The product house will drive execution and secure time-to-marke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49200" indent="-347760">
              <a:lnSpc>
                <a:spcPct val="100000"/>
              </a:lnSpc>
              <a:spcBef>
                <a:spcPts val="1599"/>
              </a:spcBef>
              <a:buClr>
                <a:srgbClr val="3a0e66"/>
              </a:buClr>
              <a:buFont typeface="Minio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Self-sufficient sites, in house core competencies, and a healthy high to low cost ratio will strengthen our R&amp;D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49200" indent="-347760">
              <a:lnSpc>
                <a:spcPct val="100000"/>
              </a:lnSpc>
              <a:spcBef>
                <a:spcPts val="1599"/>
              </a:spcBef>
              <a:buClr>
                <a:srgbClr val="3a0e66"/>
              </a:buClr>
              <a:buFont typeface="Minio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Local companies will act as local entrepreneurs capturing value while ensuring cost efficienc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49200" indent="-347760">
              <a:lnSpc>
                <a:spcPct val="100000"/>
              </a:lnSpc>
              <a:spcBef>
                <a:spcPts val="1599"/>
              </a:spcBef>
              <a:buClr>
                <a:srgbClr val="3a0e66"/>
              </a:buClr>
              <a:buFont typeface="Minio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We share common values: Passion &amp; Professionalism, Caring &amp; Contribution, </a:t>
            </a:r>
            <a:br>
              <a:rPr sz="1600"/>
            </a:br>
            <a:r>
              <a:rPr b="1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Excellence &amp; Execu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49200" indent="-347760">
              <a:lnSpc>
                <a:spcPct val="100000"/>
              </a:lnSpc>
              <a:spcBef>
                <a:spcPts val="1599"/>
              </a:spcBef>
              <a:buClr>
                <a:srgbClr val="3a0e66"/>
              </a:buClr>
              <a:buFont typeface="Minio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We acknowledge cultural differences building on the best of both world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443720" y="236520"/>
            <a:ext cx="1424160" cy="341280"/>
          </a:xfrm>
          <a:prstGeom prst="rect">
            <a:avLst/>
          </a:prstGeom>
          <a:solidFill>
            <a:srgbClr val="3a0e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ctr" anchorCtr="1">
            <a:normAutofit fontScale="87000"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Minion"/>
                <a:ea typeface="文鼎中黑"/>
              </a:rPr>
              <a:t>Ten point master pl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2T11:20:28Z</dcterms:created>
  <dc:creator>Sven Scheuble</dc:creator>
  <dc:description/>
  <dc:language>en-US</dc:language>
  <cp:lastModifiedBy>Uwe Guendisch</cp:lastModifiedBy>
  <dcterms:modified xsi:type="dcterms:W3CDTF">2006-03-23T14:09:05Z</dcterms:modified>
  <cp:revision>558</cp:revision>
  <dc:subject/>
  <dc:title>Managers' Communication</dc:title>
</cp:coreProperties>
</file>