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55B-C842-466C-8502-B4B46FC7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88C-13B1-48A8-A506-8913C601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24F-0085-4213-9808-0A9A289E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6C1-3C92-4030-85F0-61B5A569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59B-B383-470C-AB74-FE2C6F69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884-59A1-4F3B-B2E3-0D646594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ADA-0957-4D69-B771-4C022016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FFE-DB65-4C54-B747-760EB088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1519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94A-AFBF-43A1-AF2E-7758B590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B44-3ED4-48B9-966D-6853933C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933-D733-4869-AB18-FC97B59A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294-D656-499B-AF57-981DA226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A7AF-7E60-429A-B43A-B7D302CA630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M PSO, 20 March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004760"/>
            <a:ext cx="453528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Definition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Definition and Industrial Design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ke Market/Customer Relationship Management/Sal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W-Development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W Development (incl. RF &amp; Antenna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al Design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, incl. CPM, TPM, BO, VM, GP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CM (material availability, production technology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Care, Quality Manag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ur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0464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lignment &amp; Optimization: Staffing of Exper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789120"/>
            <a:ext cx="244800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Europe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K. Ratsimbazafy, R. May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. Mildenberger, 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H. Höckenreiner?,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PH representative?</a:t>
            </a:r>
            <a:r>
              <a:rPr b="1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,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M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. Haas, R. Voig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?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M. Weigang?, T. Hagemann?,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M. Topel?)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H. Höckenreiner?, J. Bauregger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K. Kroesen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G. Evangelista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?, A. Betting?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. Flierl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A. Vaeckenstedt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Z. Kirin)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E. Kutzner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789120"/>
            <a:ext cx="2195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Asia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ntai Hsu, Barry Da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mei Lin, Fred Hsieh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ich Liu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uji Yang, Wenchin Sho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ok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yan M Che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rman Jiang, Robert Lo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bbie Tseng, Rick Lin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 Zhou, Jerry Y Hs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en Yau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Justin Ko,  JR Chang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ric Kao, Thisbe 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2805120"/>
            <a:ext cx="8928000" cy="187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197000"/>
            <a:ext cx="8928000" cy="647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r. Assan</cp:lastModifiedBy>
  <dcterms:modified xsi:type="dcterms:W3CDTF">2006-03-20T12:38:29Z</dcterms:modified>
  <cp:revision>225</cp:revision>
  <dc:subject/>
  <dc:title>PowerPoint 簡報</dc:title>
</cp:coreProperties>
</file>