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1B6-5027-4BEB-847B-3FC15885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683-4457-43DF-8A81-31F8D034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8A1-D071-4E09-B43D-A215B23A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50F-8B43-448A-9842-EACD3524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D8D-EF00-4C4A-A304-7322F353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3D3-D4C5-47DB-93C1-F22EE051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67D-B0B4-42FC-B4C1-65CF95D6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3E9-33C8-4B7F-84C7-6C26C8BA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1A7-D903-4CE9-B044-F2A10984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E1E-8EE4-4B3E-A0B6-425AC746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E1AD-41C9-4247-A39A-51734C83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D4A-2C38-42A5-BF4D-7F1B5DA6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7AFD-B55C-4A9B-B95A-435C891F22D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rch 20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3059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Minion"/>
              </a:rPr>
              <a:t>PLM Excellence Program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S. Bocionek/ Dr. J. Eickh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PHE BMG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, March 20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52280"/>
            <a:ext cx="815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„ Fit 4 Apoxi“: Fässler </a:t>
            </a: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(step 1: Analysis 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765000"/>
            <a:ext cx="446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harter for th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Re-defin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„platform“ in its totality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dressing people, process and product needs. Derive an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timal supplier co-operation model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sed on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s R&amp;D productivity tool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, and having in mind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ximized re-use factor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of all invested efforts (specs, designs, code/features, base product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Future-safety and R&amp;D productivity will come from key informatics principles like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bstraction, componentization, 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nd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ckward-compatible desig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Th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rade-offs between „good platform“ and „market pressure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“ will be analyzed for a concrete product, e.g. Diamond, and described in at least two scena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Potential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hite spots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in the functionality of Apoxi to allow for a first product will be identified (incl. an estimate of the time to comple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cision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 possible at the end of the analysis phase what th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irst product on Apoxi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, and when we can deli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bjectives for the „platform“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architecture (incl. 3rd party compon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lease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quirements &amp; CR pro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project management process (incl. 3rd par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development process (ag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training and education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bstraction layer requirements in place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greed upon rationale for APOXI cost lower native cost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hite spots in Apoxi known; IFX comittment to close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poxi product decisions possible for Q1-Q3 2007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plan for next 6 – 12 months ready and agreed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990720"/>
            <a:ext cx="4427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gram mgr: Georg Fässler / Uli Gei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: Patric Houben - Chief architect : Norbert Haidu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Team members: nomin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teering board: SB, Sydon, Mucke, Bjö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&amp; Review (until end of M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and review every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rchitecture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66ff33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Group members identified; committed &lt;0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orkshop abstraction layer : 6.03.06 &lt; 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including all development parties :</a:t>
            </a:r>
            <a:r>
              <a:rPr b="0" lang="en-US" sz="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IFX-Comneon, Aplix, PSE, Tele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Management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lease strategy &lt; 10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quirement platform managemen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cess rollou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8265960" y="41450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8530920" y="4374720"/>
            <a:ext cx="157320" cy="1569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81760" y="4138560"/>
            <a:ext cx="3767040" cy="14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ff33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FIT 4 APOXI workshop currently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ee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Invent the Futur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rengthen IP portfolio of BenQ Mobile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Make invention disclosures part of routine PLM work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imulate fun to invent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gree on invention disclosure targets (Feb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vestigate status and potential measures (Feb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invention initiative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incentive proposal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organisational changes (Apr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90 invention disclosures filed (Jul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180 invention disclosures filed (Dec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 &amp; Dr. Schneider-Hufschmid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, Hartman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"/>
          <p:cNvSpPr/>
          <p:nvPr/>
        </p:nvSpPr>
        <p:spPr>
          <a:xfrm>
            <a:off x="4610160" y="2962440"/>
            <a:ext cx="4448160" cy="277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ion disclosure targets agr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tus and potential measures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rganizational change dec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ignment with ISR for invention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Execute organizational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10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Thin Client Phon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Realization of a WLAN VoIP Phone Prototyp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Design like Apple’s iPOD Nano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iority thin packag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kype client must be used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802.11b/g implementatio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Feature definitions (Jan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disciplinary team starts (Feb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raft Predevelopment Project Plan (Feb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Final Predevelopment Project Plan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Supplier selection HW and SW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deliverables agreed with supplier (Apr.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Component definition done (e.g. Display, etc.)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PCB and Mechanical Design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e running (Jul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ocumentation (Aug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decision (Aug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ject Leader:        V. Ott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"/>
          <p:cNvSpPr/>
          <p:nvPr/>
        </p:nvSpPr>
        <p:spPr>
          <a:xfrm>
            <a:off x="4610160" y="2962440"/>
            <a:ext cx="444816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“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hort List” for supplier selection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raft project plan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rst stack up concept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MC planning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ccount op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rt detailed feature definition with C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x final project plan (Mar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elect system supplier (Mar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17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 MD Q-Improvement </a:t>
            </a:r>
            <a:r>
              <a:rPr b="1" lang="de-DE" sz="1800" spc="-1" strike="noStrike">
                <a:solidFill>
                  <a:srgbClr val="3a0e66"/>
                </a:solidFill>
                <a:latin typeface="Arial Unicode MS"/>
              </a:rPr>
              <a:t>( status 17.3.06 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event defects and high return rat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Detect and correct potential problems as early as possib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Focus on PLM – SCM collabor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art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ool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upplier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&lt; 2% 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Thonhaus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onthl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ject start: Feb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oot cause/ levers :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-      Start implementation : April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753000"/>
            <a:ext cx="85251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3 sub projectteams installed  ( MD performance, Integrator supplier, MD / SQA interfa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disciplinary teams nominated ( MD, SCM and SP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oot cause and levers defined  ( aligned between all parti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lead products : Onyx and Obsi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face MD –SQA fixed and agreed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- implementation plan  ( March 06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8399160" y="36129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8459640" y="3855600"/>
            <a:ext cx="157320" cy="15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8664480" y="38556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8238960" y="386388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Best in Test“: Wack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407700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314640" indent="-31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reate 5 significant metrics for performance measurement of ST , e.g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Test coverage, pass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ode coverag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Defect injection analysi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ug handling cycle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inimize number of new bugs detected after S4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test cases for TDD </a:t>
            </a: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for acceptance test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on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changed lines of code after C3 milestone for componen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1st pass yield (pass rate during first test run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 ST performance based on metrics abov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Rollout of Testdirector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4640" indent="-31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) First metric setup 1.2.06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 27.1.06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) Complete metric setup 1.5.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1.5.06 incl. first roll out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vailability of required test cases for TDD in pilot scrum team in tim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ment targets for ST based on metrics above defined  by 15.05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Buy decision 15.4.05, pilot run 30.7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Wack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2962440"/>
            <a:ext cx="444816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kickoff with line managers and project leaders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l teams are named, and tasks are in progress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ata collection for all metrics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verage EXIT/day metric introduced, data availa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inciple workflow for TDD agreed with RD S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– budget for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tailed data collection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urther alignment with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32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Model-V“ &amp; PM@PD: TBD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gram Manager:  SB/WK -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cess def &amp; CR: QP/QA or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Quality Gates Checking: Mgmt team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Find program mgr:  SB,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Alignment with QM/QP, CM, TPM, SCM, SP, PD: SB,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formation Kick-off: SB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Start program: Feb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Quo Vadis PHE PD ?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890280"/>
            <a:ext cx="4077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mmunication Campaign in P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confidence in mgm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knowledge &amp; skil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Facilitate cross-dept intera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enjoy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mployee opinion survey after 6 months (and annually after tha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itial target: „66% </a:t>
            </a: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ositive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gram Manager: 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ntributions: mgmt team, 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10160" y="890280"/>
            <a:ext cx="407664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Bi-monthly all hands R&amp;D meeting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mployee opinion survey in summer 20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gmt kick-off workshop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1st all hands R&amp;D meeting: 27.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Breakfast Club 5-Apr-06 (topic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Orientation and Process Discipline: Harmony or Contradiction?)</a:t>
            </a:r>
            <a:r>
              <a:rPr b="1" i="1" lang="en-US" sz="14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683240"/>
            <a:ext cx="8525160" cy="213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Mar-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cept „Quo Vadis R&amp;D“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cepted by mgmt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1st all hands meeting on 31. Jan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All hands R&amp;D meeting on 31-Mar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Breakfast Club 5-Apr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include PHA R&amp;D in combined product house (May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8399520" y="4727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664480" y="4970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High-Performing Culture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stablish commitment-driven behavio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Goal orient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alistic but agressiv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r action sett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liable delivery schedul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ccountability culture across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rvice orientation towards internal customer satisfac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kill optimization of mgmt &amp; staff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75% of all KPI‘s reached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Work satisfaction &gt; 66%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 Bocionek/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coaching: Bocionek / 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erformance Controlling: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Wingen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kick-off workshop &amp; first training: mid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1st task for all mgrs: work out PLM excellence projects: end Jan.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erformance monitoring: starts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atisfaction questionnaire: Sept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LQA / SMR: 1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Balanced Score Cards moved to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95468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Mar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KPIs defined and signed in Feb 06; KPI scoreboard set up by K. Win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commitment culture implemented in U2, Fit4Apoxi Workshop, etc. Mgmt team accepts this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at PHE R&amp;D accepted by mgmt team (prototyped within BM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starts in 2nd half of M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Make BSC from KPI scoreboard (Ap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Opinion Poll offered earlier than 3Q06 (tbd in 2Q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8399160" y="49035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8664480" y="51462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Platform &amp; Portfolio“: Bocionek/Eickhol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stablish BenQ Mobile Portfolio, Roadmap Platform as unifying planning tools for whole organiz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ross-organizational workgoup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QA‘ed documentation with approval and change request process of all stakeholders involv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Derive concise strategies for re-use, make-or buy decisions, partner selection and sales program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Start with CM &amp; PHE in 1H06; then involve PH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Formal documentation and change mgmt in place: Feb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not befor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„</a:t>
            </a: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-use factor“ increased by 33%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&amp;D costs reduced by: tb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ach: Eickholt / Lepol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 Bocionek - Mulholland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report in OPC counc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Quarterly presentation of updated roadmap and portfoli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Alignment with CM, PHE: Eickholt &amp; Lepold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1st portfolio ready for approval: Sydon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Uddated roadmap: Feb.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became Mar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-use strategy doc: Feb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will b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97196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Jan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rst „real“ portfolio/roammap and R&amp;D budget alignment discussion on March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planning based on prioritized roadmap (by CM) on March 20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project back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M needs more systematic approach; should be possible in new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nalize roadmap – budget alignment (Mar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gree on regular update process, every second month (Ap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399520" y="483192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8664480" y="507492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975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“Real V-Model: </a:t>
            </a:r>
            <a:r>
              <a:rPr b="1" lang="it-IT" sz="2400" spc="-1" strike="noStrike">
                <a:solidFill>
                  <a:srgbClr val="3a0e66"/>
                </a:solidFill>
                <a:latin typeface="Arial Unicode MS"/>
              </a:rPr>
              <a:t>Introduce process culture and discipline</a:t>
            </a: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Manager: Ass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Name project lead (Feb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don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Plan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formation Kick-off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ov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ducation starts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isfaction metrics set (Mar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. Improvement Process targets set (Apr.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adaptations completed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(Jun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MMI baseline available (Sep 06)</a:t>
            </a: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70800" y="655560"/>
            <a:ext cx="785520" cy="334800"/>
            <a:chOff x="7570800" y="655560"/>
            <a:chExt cx="785520" cy="334800"/>
          </a:xfrm>
        </p:grpSpPr>
        <p:sp>
          <p:nvSpPr>
            <p:cNvPr id="67" name=""/>
            <p:cNvSpPr/>
            <p:nvPr/>
          </p:nvSpPr>
          <p:spPr>
            <a:xfrm rot="16200000">
              <a:off x="7796160" y="430200"/>
              <a:ext cx="334800" cy="785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7879320" y="725760"/>
              <a:ext cx="194760" cy="192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8086680" y="2624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"/>
          <p:cNvSpPr/>
          <p:nvPr/>
        </p:nvSpPr>
        <p:spPr>
          <a:xfrm>
            <a:off x="4559400" y="2421000"/>
            <a:ext cx="42624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nitial transition backlog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duct Owner for transition defined (S. Bocione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gile Overview and Q&amp;A sessions held in MCH 250, KLF220, WRO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sulting plan with Object Mentors defined and sta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uby project started on 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OM consulting order release nee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ioritize and start processing transition back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tart decomposing architecture of Ruby with OM on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nvolve Agile in ‚Fit 4 Apoxi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307360" y="2615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8246880" y="2373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8511840" y="2615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U2 as practice in all relevant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460600"/>
            <a:ext cx="4178520" cy="28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metrics ad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Gemstone/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with SCRUM in the Swan/Apoxi projec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epare organization for Agi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TM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gr: Dr.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very 2nd mont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aunch Feb. 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2448000"/>
            <a:ext cx="4272120" cy="29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Broad Introduction of Methodology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tart Gemstone project on Agile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etup transition team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Mentoring by OM starts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ff3300"/>
                </a:solidFill>
                <a:latin typeface="Arial"/>
                <a:ea typeface="文鼎中黑"/>
              </a:rPr>
              <a:t>support of CPM not available (Robert But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 clean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clear platform concept, includ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defini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architectu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release strateg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toolkit usage concep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Definitions in place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Sub workgroup formed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Kick-off working groups (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-use of platform 7/07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POXI cost below Native cos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gr: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porting and review every 2nd mont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8285040" y="23432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8550000" y="257292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460600"/>
            <a:ext cx="4178520" cy="24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- significant part of the work done during th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aliz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ndrea Kreilinger</cp:lastModifiedBy>
  <dcterms:modified xsi:type="dcterms:W3CDTF">2006-03-21T09:18:18Z</dcterms:modified>
  <cp:revision>95</cp:revision>
  <dc:subject/>
  <dc:title>PowerPoint 簡報</dc:title>
</cp:coreProperties>
</file>